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2E54-F79B-408A-9800-B38D84C6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2E0-0C64-4C85-A148-4768835A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A5C-0DB1-47E1-B25A-A554076A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1E3-1CCA-4697-AC5A-09175EB2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C5E6-5EA3-475E-990B-3FA9A0F5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731-1B77-478A-90ED-D5388823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113-40F3-4B35-95E8-00E0DE80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936-BA90-4BB8-B466-94168963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0AC-1560-43B7-A552-FF1BDD10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6D0-1D1A-439E-A108-B3BF0CC9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7BF-9F50-4461-BB70-3C12A5F9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5D2-181C-4D03-861F-520D7045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5AE2-B2B5-4442-9D97-6C4CAADBA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rainpop.com/math/ratioproportionandpercent/percents/" TargetMode="External"/><Relationship Id="rId2" Type="http://schemas.openxmlformats.org/officeDocument/2006/relationships/hyperlink" Target="http://www.brainpop.com/math/ratioproportionandpercent/percents/" TargetMode="External"/><Relationship Id="rId3" Type="http://schemas.openxmlformats.org/officeDocument/2006/relationships/hyperlink" Target="http://www.funbrain.com/cgi-bin/pw.cgi?A1=s&amp;A2=3&amp;INSTRUCTS=1" TargetMode="External"/><Relationship Id="rId4" Type="http://schemas.openxmlformats.org/officeDocument/2006/relationships/hyperlink" Target="http://www.funbrain.com/cgi-bin/pw.cgi?A1=s&amp;A2=3&amp;INSTRUCTS=1" TargetMode="External"/><Relationship Id="rId5" Type="http://schemas.openxmlformats.org/officeDocument/2006/relationships/hyperlink" Target="http://www.brainpop.com/math/ratioproportionandpercent/taxes/" TargetMode="External"/><Relationship Id="rId6" Type="http://schemas.openxmlformats.org/officeDocument/2006/relationships/hyperlink" Target="http://www.brainpop.com/math/ratioproportionandpercent/taxes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Times New Roman"/>
              </a:rPr>
              <a:t>Objective:  Students will identify equivalent rat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imes New Roman"/>
              </a:rPr>
              <a:t>Opener:  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) 8.24 + 1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) 12 - 8.7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) 0.9 x 5.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) .82 x 3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af67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f67ff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1760" y="330120"/>
            <a:ext cx="4670280" cy="3483000"/>
          </a:xfrm>
          <a:custGeom>
            <a:avLst/>
            <a:gdLst/>
            <a:ahLst/>
            <a:rect l="l" t="t" r="r" b="b"/>
            <a:pathLst>
              <a:path w="12974" h="9675">
                <a:moveTo>
                  <a:pt x="1116" y="1141"/>
                </a:moveTo>
                <a:cubicBezTo>
                  <a:pt x="1195" y="1124"/>
                  <a:pt x="1236" y="1106"/>
                  <a:pt x="1315" y="1091"/>
                </a:cubicBezTo>
                <a:cubicBezTo>
                  <a:pt x="1449" y="1066"/>
                  <a:pt x="1597" y="1066"/>
                  <a:pt x="1736" y="1067"/>
                </a:cubicBezTo>
                <a:cubicBezTo>
                  <a:pt x="1801" y="1068"/>
                  <a:pt x="1849" y="1085"/>
                  <a:pt x="1910" y="1091"/>
                </a:cubicBezTo>
                <a:cubicBezTo>
                  <a:pt x="1951" y="1095"/>
                  <a:pt x="2032" y="1116"/>
                  <a:pt x="2059" y="1116"/>
                </a:cubicBezTo>
                <a:cubicBezTo>
                  <a:pt x="2223" y="1118"/>
                  <a:pt x="2368" y="1072"/>
                  <a:pt x="2530" y="1042"/>
                </a:cubicBezTo>
                <a:cubicBezTo>
                  <a:pt x="2675" y="1016"/>
                  <a:pt x="2809" y="1009"/>
                  <a:pt x="2952" y="992"/>
                </a:cubicBezTo>
                <a:cubicBezTo>
                  <a:pt x="3090" y="976"/>
                  <a:pt x="3233" y="931"/>
                  <a:pt x="3373" y="918"/>
                </a:cubicBezTo>
                <a:cubicBezTo>
                  <a:pt x="3525" y="904"/>
                  <a:pt x="3673" y="928"/>
                  <a:pt x="3820" y="943"/>
                </a:cubicBezTo>
                <a:cubicBezTo>
                  <a:pt x="3920" y="953"/>
                  <a:pt x="4016" y="956"/>
                  <a:pt x="4118" y="967"/>
                </a:cubicBezTo>
                <a:cubicBezTo>
                  <a:pt x="4249" y="981"/>
                  <a:pt x="4380" y="982"/>
                  <a:pt x="4514" y="992"/>
                </a:cubicBezTo>
                <a:cubicBezTo>
                  <a:pt x="4625" y="1000"/>
                  <a:pt x="4742" y="1023"/>
                  <a:pt x="4862" y="1017"/>
                </a:cubicBezTo>
                <a:cubicBezTo>
                  <a:pt x="4972" y="1012"/>
                  <a:pt x="5076" y="995"/>
                  <a:pt x="5184" y="992"/>
                </a:cubicBezTo>
                <a:cubicBezTo>
                  <a:pt x="5426" y="984"/>
                  <a:pt x="5665" y="997"/>
                  <a:pt x="5904" y="1017"/>
                </a:cubicBezTo>
                <a:cubicBezTo>
                  <a:pt x="6075" y="1031"/>
                  <a:pt x="6231" y="1020"/>
                  <a:pt x="6400" y="1017"/>
                </a:cubicBezTo>
                <a:cubicBezTo>
                  <a:pt x="6750" y="1010"/>
                  <a:pt x="7095" y="1037"/>
                  <a:pt x="7441" y="1042"/>
                </a:cubicBezTo>
                <a:cubicBezTo>
                  <a:pt x="7577" y="1044"/>
                  <a:pt x="7704" y="1054"/>
                  <a:pt x="7838" y="1067"/>
                </a:cubicBezTo>
                <a:cubicBezTo>
                  <a:pt x="8003" y="1083"/>
                  <a:pt x="8169" y="1099"/>
                  <a:pt x="8334" y="1116"/>
                </a:cubicBezTo>
                <a:cubicBezTo>
                  <a:pt x="8570" y="1141"/>
                  <a:pt x="8814" y="1156"/>
                  <a:pt x="9054" y="1141"/>
                </a:cubicBezTo>
                <a:cubicBezTo>
                  <a:pt x="9235" y="1130"/>
                  <a:pt x="9418" y="1100"/>
                  <a:pt x="9599" y="1091"/>
                </a:cubicBezTo>
                <a:cubicBezTo>
                  <a:pt x="10211" y="1061"/>
                  <a:pt x="10825" y="1107"/>
                  <a:pt x="11435" y="1067"/>
                </a:cubicBezTo>
                <a:cubicBezTo>
                  <a:pt x="11555" y="1059"/>
                  <a:pt x="11664" y="1055"/>
                  <a:pt x="11782" y="1042"/>
                </a:cubicBezTo>
                <a:cubicBezTo>
                  <a:pt x="11898" y="1029"/>
                  <a:pt x="12011" y="1016"/>
                  <a:pt x="12129" y="1017"/>
                </a:cubicBezTo>
                <a:cubicBezTo>
                  <a:pt x="12225" y="1018"/>
                  <a:pt x="12307" y="1039"/>
                  <a:pt x="12402" y="1042"/>
                </a:cubicBezTo>
                <a:cubicBezTo>
                  <a:pt x="12800" y="1056"/>
                  <a:pt x="13200" y="1055"/>
                  <a:pt x="13593" y="1067"/>
                </a:cubicBezTo>
                <a:cubicBezTo>
                  <a:pt x="13710" y="1071"/>
                  <a:pt x="14046" y="1082"/>
                  <a:pt x="14064" y="1067"/>
                </a:cubicBezTo>
                <a:cubicBezTo>
                  <a:pt x="14031" y="1050"/>
                  <a:pt x="13998" y="1034"/>
                  <a:pt x="13965" y="1017"/>
                </a:cubicBezTo>
              </a:path>
              <a:path w="12974" h="9675">
                <a:moveTo>
                  <a:pt x="13469" y="10592"/>
                </a:moveTo>
                <a:lnTo>
                  <a:pt x="13469" y="10592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63920" y="2313000"/>
            <a:ext cx="36360" cy="44280"/>
          </a:xfrm>
          <a:custGeom>
            <a:avLst/>
            <a:gdLst/>
            <a:ahLst/>
            <a:rect l="l" t="t" r="r" b="b"/>
            <a:pathLst>
              <a:path w="100" h="125">
                <a:moveTo>
                  <a:pt x="9723" y="6424"/>
                </a:moveTo>
                <a:cubicBezTo>
                  <a:pt x="9686" y="6432"/>
                  <a:pt x="9578" y="6543"/>
                  <a:pt x="9624" y="6548"/>
                </a:cubicBezTo>
                <a:cubicBezTo>
                  <a:pt x="9683" y="6555"/>
                  <a:pt x="9705" y="6460"/>
                  <a:pt x="9723" y="6424"/>
                </a:cubicBezTo>
                <a:cubicBezTo>
                  <a:pt x="9651" y="6424"/>
                  <a:pt x="9605" y="6430"/>
                  <a:pt x="9624" y="6524"/>
                </a:cubicBezTo>
                <a:cubicBezTo>
                  <a:pt x="9635" y="6579"/>
                  <a:pt x="9698" y="6500"/>
                  <a:pt x="9723" y="6449"/>
                </a:cubicBezTo>
                <a:cubicBezTo>
                  <a:pt x="9589" y="6504"/>
                  <a:pt x="9708" y="6502"/>
                  <a:pt x="9699" y="6474"/>
                </a:cubicBezTo>
                <a:cubicBezTo>
                  <a:pt x="9691" y="6474"/>
                  <a:pt x="9682" y="6474"/>
                  <a:pt x="9674" y="64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85960" y="2589120"/>
            <a:ext cx="1170000" cy="893880"/>
          </a:xfrm>
          <a:custGeom>
            <a:avLst/>
            <a:gdLst/>
            <a:ahLst/>
            <a:rect l="l" t="t" r="r" b="b"/>
            <a:pathLst>
              <a:path w="3250" h="2482">
                <a:moveTo>
                  <a:pt x="6276" y="7293"/>
                </a:moveTo>
                <a:cubicBezTo>
                  <a:pt x="6349" y="7268"/>
                  <a:pt x="6251" y="7199"/>
                  <a:pt x="6201" y="7193"/>
                </a:cubicBezTo>
                <a:cubicBezTo>
                  <a:pt x="6025" y="7171"/>
                  <a:pt x="5924" y="7201"/>
                  <a:pt x="5829" y="7342"/>
                </a:cubicBezTo>
                <a:cubicBezTo>
                  <a:pt x="5951" y="7464"/>
                  <a:pt x="6220" y="7491"/>
                  <a:pt x="6300" y="7665"/>
                </a:cubicBezTo>
                <a:cubicBezTo>
                  <a:pt x="6412" y="7910"/>
                  <a:pt x="6135" y="7944"/>
                  <a:pt x="6003" y="7913"/>
                </a:cubicBezTo>
                <a:cubicBezTo>
                  <a:pt x="5964" y="7640"/>
                  <a:pt x="6099" y="7580"/>
                  <a:pt x="6276" y="7367"/>
                </a:cubicBezTo>
                <a:cubicBezTo>
                  <a:pt x="6388" y="7233"/>
                  <a:pt x="6245" y="7298"/>
                  <a:pt x="6201" y="7342"/>
                </a:cubicBezTo>
              </a:path>
              <a:path w="3250" h="2482">
                <a:moveTo>
                  <a:pt x="6548" y="7938"/>
                </a:moveTo>
                <a:cubicBezTo>
                  <a:pt x="6530" y="7980"/>
                  <a:pt x="6524" y="8057"/>
                  <a:pt x="6524" y="7962"/>
                </a:cubicBezTo>
              </a:path>
              <a:path w="3250" h="2482">
                <a:moveTo>
                  <a:pt x="6995" y="7417"/>
                </a:moveTo>
                <a:cubicBezTo>
                  <a:pt x="7038" y="7309"/>
                  <a:pt x="7182" y="7261"/>
                  <a:pt x="7243" y="7417"/>
                </a:cubicBezTo>
                <a:cubicBezTo>
                  <a:pt x="7358" y="7712"/>
                  <a:pt x="6987" y="7962"/>
                  <a:pt x="6772" y="7838"/>
                </a:cubicBezTo>
                <a:cubicBezTo>
                  <a:pt x="6852" y="7687"/>
                  <a:pt x="6937" y="7583"/>
                  <a:pt x="7094" y="7764"/>
                </a:cubicBezTo>
                <a:cubicBezTo>
                  <a:pt x="7133" y="7841"/>
                  <a:pt x="7132" y="7856"/>
                  <a:pt x="7169" y="7888"/>
                </a:cubicBezTo>
              </a:path>
              <a:path w="3250" h="2482">
                <a:moveTo>
                  <a:pt x="7367" y="7367"/>
                </a:moveTo>
                <a:cubicBezTo>
                  <a:pt x="7367" y="7458"/>
                  <a:pt x="7354" y="7604"/>
                  <a:pt x="7441" y="7665"/>
                </a:cubicBezTo>
                <a:cubicBezTo>
                  <a:pt x="7570" y="7755"/>
                  <a:pt x="7645" y="7615"/>
                  <a:pt x="7714" y="7541"/>
                </a:cubicBezTo>
              </a:path>
              <a:path w="3250" h="2482">
                <a:moveTo>
                  <a:pt x="7640" y="7193"/>
                </a:moveTo>
                <a:cubicBezTo>
                  <a:pt x="7640" y="7456"/>
                  <a:pt x="7617" y="7702"/>
                  <a:pt x="7590" y="7962"/>
                </a:cubicBezTo>
                <a:cubicBezTo>
                  <a:pt x="7590" y="8004"/>
                  <a:pt x="7590" y="8012"/>
                  <a:pt x="7590" y="8037"/>
                </a:cubicBezTo>
              </a:path>
              <a:path w="3250" h="2482">
                <a:moveTo>
                  <a:pt x="5507" y="8235"/>
                </a:moveTo>
                <a:cubicBezTo>
                  <a:pt x="5507" y="8421"/>
                  <a:pt x="5463" y="8555"/>
                  <a:pt x="5407" y="8731"/>
                </a:cubicBezTo>
                <a:cubicBezTo>
                  <a:pt x="5394" y="8771"/>
                  <a:pt x="5383" y="8848"/>
                  <a:pt x="5383" y="8806"/>
                </a:cubicBezTo>
              </a:path>
              <a:path w="3250" h="2482">
                <a:moveTo>
                  <a:pt x="6276" y="8409"/>
                </a:moveTo>
                <a:cubicBezTo>
                  <a:pt x="6224" y="8370"/>
                  <a:pt x="6215" y="8360"/>
                  <a:pt x="6152" y="8384"/>
                </a:cubicBezTo>
                <a:cubicBezTo>
                  <a:pt x="6030" y="8430"/>
                  <a:pt x="5912" y="8437"/>
                  <a:pt x="5904" y="8558"/>
                </a:cubicBezTo>
                <a:cubicBezTo>
                  <a:pt x="5904" y="8566"/>
                  <a:pt x="5904" y="8574"/>
                  <a:pt x="5904" y="8582"/>
                </a:cubicBezTo>
                <a:cubicBezTo>
                  <a:pt x="5992" y="8565"/>
                  <a:pt x="6058" y="8510"/>
                  <a:pt x="6152" y="8558"/>
                </a:cubicBezTo>
                <a:cubicBezTo>
                  <a:pt x="6340" y="8655"/>
                  <a:pt x="5999" y="8792"/>
                  <a:pt x="5953" y="8806"/>
                </a:cubicBezTo>
                <a:cubicBezTo>
                  <a:pt x="5852" y="8826"/>
                  <a:pt x="5832" y="8844"/>
                  <a:pt x="5779" y="8806"/>
                </a:cubicBezTo>
              </a:path>
              <a:path w="3250" h="2482">
                <a:moveTo>
                  <a:pt x="6499" y="8756"/>
                </a:moveTo>
                <a:cubicBezTo>
                  <a:pt x="6479" y="8796"/>
                  <a:pt x="6470" y="8803"/>
                  <a:pt x="6474" y="8830"/>
                </a:cubicBezTo>
                <a:cubicBezTo>
                  <a:pt x="6538" y="8815"/>
                  <a:pt x="6512" y="8807"/>
                  <a:pt x="6499" y="8756"/>
                </a:cubicBezTo>
              </a:path>
              <a:path w="3250" h="2482">
                <a:moveTo>
                  <a:pt x="7317" y="8334"/>
                </a:moveTo>
                <a:cubicBezTo>
                  <a:pt x="7264" y="8253"/>
                  <a:pt x="7127" y="8259"/>
                  <a:pt x="7045" y="8334"/>
                </a:cubicBezTo>
                <a:cubicBezTo>
                  <a:pt x="6901" y="8466"/>
                  <a:pt x="6930" y="8590"/>
                  <a:pt x="6945" y="8756"/>
                </a:cubicBezTo>
                <a:cubicBezTo>
                  <a:pt x="7167" y="8739"/>
                  <a:pt x="7463" y="8669"/>
                  <a:pt x="7417" y="8359"/>
                </a:cubicBezTo>
                <a:cubicBezTo>
                  <a:pt x="7404" y="8274"/>
                  <a:pt x="7248" y="8289"/>
                  <a:pt x="7193" y="8285"/>
                </a:cubicBezTo>
              </a:path>
              <a:path w="3250" h="2482">
                <a:moveTo>
                  <a:pt x="7838" y="8260"/>
                </a:moveTo>
                <a:cubicBezTo>
                  <a:pt x="7619" y="8364"/>
                  <a:pt x="7566" y="8446"/>
                  <a:pt x="7565" y="8682"/>
                </a:cubicBezTo>
                <a:cubicBezTo>
                  <a:pt x="7682" y="8682"/>
                  <a:pt x="8120" y="8564"/>
                  <a:pt x="7938" y="8334"/>
                </a:cubicBezTo>
                <a:cubicBezTo>
                  <a:pt x="7796" y="8307"/>
                  <a:pt x="7737" y="8303"/>
                  <a:pt x="7640" y="8359"/>
                </a:cubicBezTo>
              </a:path>
              <a:path w="3250" h="2482">
                <a:moveTo>
                  <a:pt x="4961" y="8731"/>
                </a:moveTo>
                <a:cubicBezTo>
                  <a:pt x="5408" y="8699"/>
                  <a:pt x="5850" y="8824"/>
                  <a:pt x="6300" y="8855"/>
                </a:cubicBezTo>
                <a:cubicBezTo>
                  <a:pt x="6898" y="8896"/>
                  <a:pt x="7489" y="8904"/>
                  <a:pt x="8086" y="8880"/>
                </a:cubicBezTo>
                <a:cubicBezTo>
                  <a:pt x="8127" y="8880"/>
                  <a:pt x="8169" y="8880"/>
                  <a:pt x="8210" y="8880"/>
                </a:cubicBezTo>
              </a:path>
              <a:path w="3250" h="2482">
                <a:moveTo>
                  <a:pt x="7665" y="9103"/>
                </a:moveTo>
                <a:cubicBezTo>
                  <a:pt x="7665" y="9158"/>
                  <a:pt x="7600" y="9296"/>
                  <a:pt x="7665" y="9327"/>
                </a:cubicBezTo>
                <a:cubicBezTo>
                  <a:pt x="7761" y="9373"/>
                  <a:pt x="7941" y="9299"/>
                  <a:pt x="8037" y="9277"/>
                </a:cubicBezTo>
              </a:path>
              <a:path w="3250" h="2482">
                <a:moveTo>
                  <a:pt x="7913" y="9029"/>
                </a:moveTo>
                <a:cubicBezTo>
                  <a:pt x="7867" y="9247"/>
                  <a:pt x="7836" y="9467"/>
                  <a:pt x="7764" y="9674"/>
                </a:cubicBezTo>
              </a:path>
              <a:path w="3250" h="2482">
                <a:moveTo>
                  <a:pt x="7020" y="9153"/>
                </a:moveTo>
                <a:cubicBezTo>
                  <a:pt x="7139" y="9073"/>
                  <a:pt x="7406" y="8967"/>
                  <a:pt x="7417" y="9227"/>
                </a:cubicBezTo>
                <a:cubicBezTo>
                  <a:pt x="7425" y="9426"/>
                  <a:pt x="7141" y="9662"/>
                  <a:pt x="6970" y="9500"/>
                </a:cubicBezTo>
                <a:cubicBezTo>
                  <a:pt x="6962" y="9475"/>
                  <a:pt x="6953" y="9451"/>
                  <a:pt x="6945" y="9426"/>
                </a:cubicBezTo>
                <a:cubicBezTo>
                  <a:pt x="7097" y="9381"/>
                  <a:pt x="7208" y="9370"/>
                  <a:pt x="7317" y="9525"/>
                </a:cubicBezTo>
                <a:cubicBezTo>
                  <a:pt x="7317" y="9558"/>
                  <a:pt x="7309" y="9566"/>
                  <a:pt x="7268" y="9550"/>
                </a:cubicBezTo>
              </a:path>
              <a:path w="3250" h="2482">
                <a:moveTo>
                  <a:pt x="6424" y="9401"/>
                </a:moveTo>
                <a:cubicBezTo>
                  <a:pt x="6424" y="9426"/>
                  <a:pt x="6424" y="9434"/>
                  <a:pt x="6424" y="9451"/>
                </a:cubicBezTo>
              </a:path>
              <a:path w="3250" h="2482">
                <a:moveTo>
                  <a:pt x="5928" y="9004"/>
                </a:moveTo>
                <a:cubicBezTo>
                  <a:pt x="5946" y="8916"/>
                  <a:pt x="6084" y="8878"/>
                  <a:pt x="6152" y="8954"/>
                </a:cubicBezTo>
                <a:cubicBezTo>
                  <a:pt x="6261" y="9076"/>
                  <a:pt x="5983" y="9163"/>
                  <a:pt x="5953" y="9178"/>
                </a:cubicBezTo>
                <a:cubicBezTo>
                  <a:pt x="5896" y="9197"/>
                  <a:pt x="5871" y="9223"/>
                  <a:pt x="5879" y="9178"/>
                </a:cubicBezTo>
                <a:cubicBezTo>
                  <a:pt x="6072" y="9149"/>
                  <a:pt x="6058" y="9126"/>
                  <a:pt x="6152" y="9302"/>
                </a:cubicBezTo>
                <a:cubicBezTo>
                  <a:pt x="5888" y="9525"/>
                  <a:pt x="5779" y="9491"/>
                  <a:pt x="5482" y="9327"/>
                </a:cubicBezTo>
              </a:path>
              <a:path w="3250" h="2482">
                <a:moveTo>
                  <a:pt x="5606" y="7491"/>
                </a:moveTo>
                <a:cubicBezTo>
                  <a:pt x="5606" y="7587"/>
                  <a:pt x="5601" y="7671"/>
                  <a:pt x="5581" y="7764"/>
                </a:cubicBezTo>
              </a:path>
              <a:path w="3250" h="2482">
                <a:moveTo>
                  <a:pt x="5184" y="8954"/>
                </a:moveTo>
                <a:cubicBezTo>
                  <a:pt x="5184" y="8903"/>
                  <a:pt x="5203" y="8875"/>
                  <a:pt x="5259" y="8855"/>
                </a:cubicBezTo>
                <a:cubicBezTo>
                  <a:pt x="5455" y="8998"/>
                  <a:pt x="5372" y="9242"/>
                  <a:pt x="5159" y="9376"/>
                </a:cubicBezTo>
                <a:cubicBezTo>
                  <a:pt x="5031" y="9398"/>
                  <a:pt x="4993" y="9423"/>
                  <a:pt x="4961" y="9327"/>
                </a:cubicBezTo>
                <a:cubicBezTo>
                  <a:pt x="5057" y="9176"/>
                  <a:pt x="5208" y="9157"/>
                  <a:pt x="5383" y="9252"/>
                </a:cubicBezTo>
                <a:cubicBezTo>
                  <a:pt x="5431" y="9278"/>
                  <a:pt x="5470" y="9330"/>
                  <a:pt x="5482" y="93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3160" y="2286000"/>
            <a:ext cx="1473120" cy="1322280"/>
          </a:xfrm>
          <a:custGeom>
            <a:avLst/>
            <a:gdLst/>
            <a:ahLst/>
            <a:rect l="l" t="t" r="r" b="b"/>
            <a:pathLst>
              <a:path w="4094" h="3672">
                <a:moveTo>
                  <a:pt x="17214" y="6350"/>
                </a:moveTo>
                <a:cubicBezTo>
                  <a:pt x="17198" y="6358"/>
                  <a:pt x="17181" y="6367"/>
                  <a:pt x="17165" y="6375"/>
                </a:cubicBezTo>
                <a:cubicBezTo>
                  <a:pt x="17171" y="6393"/>
                  <a:pt x="17158" y="6442"/>
                  <a:pt x="17165" y="6449"/>
                </a:cubicBezTo>
                <a:cubicBezTo>
                  <a:pt x="17190" y="6449"/>
                  <a:pt x="17198" y="6449"/>
                  <a:pt x="17165" y="6449"/>
                </a:cubicBezTo>
              </a:path>
              <a:path w="4094" h="3672">
                <a:moveTo>
                  <a:pt x="16346" y="7342"/>
                </a:moveTo>
                <a:cubicBezTo>
                  <a:pt x="16346" y="7551"/>
                  <a:pt x="16331" y="7754"/>
                  <a:pt x="16321" y="7962"/>
                </a:cubicBezTo>
                <a:cubicBezTo>
                  <a:pt x="16318" y="8031"/>
                  <a:pt x="16280" y="8214"/>
                  <a:pt x="16346" y="8062"/>
                </a:cubicBezTo>
              </a:path>
              <a:path w="4094" h="3672">
                <a:moveTo>
                  <a:pt x="16594" y="7541"/>
                </a:moveTo>
                <a:cubicBezTo>
                  <a:pt x="16635" y="7439"/>
                  <a:pt x="16754" y="7380"/>
                  <a:pt x="16867" y="7441"/>
                </a:cubicBezTo>
                <a:cubicBezTo>
                  <a:pt x="17102" y="7568"/>
                  <a:pt x="17014" y="7919"/>
                  <a:pt x="16818" y="8037"/>
                </a:cubicBezTo>
                <a:cubicBezTo>
                  <a:pt x="16637" y="8146"/>
                  <a:pt x="16558" y="8083"/>
                  <a:pt x="16470" y="7962"/>
                </a:cubicBezTo>
                <a:cubicBezTo>
                  <a:pt x="16638" y="7840"/>
                  <a:pt x="16768" y="7775"/>
                  <a:pt x="16892" y="7987"/>
                </a:cubicBezTo>
                <a:cubicBezTo>
                  <a:pt x="16911" y="8045"/>
                  <a:pt x="16920" y="8051"/>
                  <a:pt x="16917" y="8086"/>
                </a:cubicBezTo>
              </a:path>
              <a:path w="4094" h="3672">
                <a:moveTo>
                  <a:pt x="17239" y="7962"/>
                </a:moveTo>
                <a:cubicBezTo>
                  <a:pt x="17256" y="8012"/>
                  <a:pt x="17223" y="8013"/>
                  <a:pt x="17289" y="7987"/>
                </a:cubicBezTo>
              </a:path>
              <a:path w="4094" h="3672">
                <a:moveTo>
                  <a:pt x="17735" y="7516"/>
                </a:moveTo>
                <a:cubicBezTo>
                  <a:pt x="17565" y="7478"/>
                  <a:pt x="17536" y="7657"/>
                  <a:pt x="17512" y="7813"/>
                </a:cubicBezTo>
                <a:cubicBezTo>
                  <a:pt x="17512" y="7855"/>
                  <a:pt x="17512" y="7896"/>
                  <a:pt x="17512" y="7938"/>
                </a:cubicBezTo>
                <a:cubicBezTo>
                  <a:pt x="17664" y="7980"/>
                  <a:pt x="17961" y="7983"/>
                  <a:pt x="17884" y="7714"/>
                </a:cubicBezTo>
                <a:cubicBezTo>
                  <a:pt x="17859" y="7625"/>
                  <a:pt x="17730" y="7604"/>
                  <a:pt x="17661" y="7590"/>
                </a:cubicBezTo>
              </a:path>
              <a:path w="4094" h="3672">
                <a:moveTo>
                  <a:pt x="18355" y="7516"/>
                </a:moveTo>
                <a:cubicBezTo>
                  <a:pt x="18217" y="7576"/>
                  <a:pt x="18103" y="7750"/>
                  <a:pt x="18107" y="7913"/>
                </a:cubicBezTo>
                <a:cubicBezTo>
                  <a:pt x="18124" y="7946"/>
                  <a:pt x="18140" y="7979"/>
                  <a:pt x="18157" y="8012"/>
                </a:cubicBezTo>
                <a:cubicBezTo>
                  <a:pt x="18340" y="7994"/>
                  <a:pt x="18637" y="7938"/>
                  <a:pt x="18504" y="7665"/>
                </a:cubicBezTo>
                <a:cubicBezTo>
                  <a:pt x="18411" y="7594"/>
                  <a:pt x="18385" y="7571"/>
                  <a:pt x="18306" y="7565"/>
                </a:cubicBezTo>
              </a:path>
              <a:path w="4094" h="3672">
                <a:moveTo>
                  <a:pt x="15230" y="8731"/>
                </a:moveTo>
                <a:cubicBezTo>
                  <a:pt x="15339" y="8695"/>
                  <a:pt x="15437" y="8682"/>
                  <a:pt x="15553" y="8682"/>
                </a:cubicBezTo>
              </a:path>
              <a:path w="4094" h="3672">
                <a:moveTo>
                  <a:pt x="16892" y="8533"/>
                </a:moveTo>
                <a:cubicBezTo>
                  <a:pt x="16945" y="8515"/>
                  <a:pt x="16919" y="8455"/>
                  <a:pt x="16842" y="8458"/>
                </a:cubicBezTo>
                <a:cubicBezTo>
                  <a:pt x="16710" y="8463"/>
                  <a:pt x="16508" y="8545"/>
                  <a:pt x="16545" y="8706"/>
                </a:cubicBezTo>
                <a:cubicBezTo>
                  <a:pt x="16571" y="8818"/>
                  <a:pt x="16847" y="8837"/>
                  <a:pt x="16942" y="8905"/>
                </a:cubicBezTo>
                <a:cubicBezTo>
                  <a:pt x="16865" y="8999"/>
                  <a:pt x="16859" y="9010"/>
                  <a:pt x="16743" y="9029"/>
                </a:cubicBezTo>
                <a:cubicBezTo>
                  <a:pt x="16695" y="8822"/>
                  <a:pt x="16784" y="8780"/>
                  <a:pt x="16892" y="8607"/>
                </a:cubicBezTo>
                <a:cubicBezTo>
                  <a:pt x="16963" y="8494"/>
                  <a:pt x="16959" y="8496"/>
                  <a:pt x="16867" y="8483"/>
                </a:cubicBezTo>
              </a:path>
              <a:path w="4094" h="3672">
                <a:moveTo>
                  <a:pt x="17314" y="8855"/>
                </a:moveTo>
                <a:cubicBezTo>
                  <a:pt x="17314" y="8875"/>
                  <a:pt x="17314" y="9013"/>
                  <a:pt x="17314" y="8954"/>
                </a:cubicBezTo>
              </a:path>
              <a:path w="4094" h="3672">
                <a:moveTo>
                  <a:pt x="17487" y="8508"/>
                </a:moveTo>
                <a:cubicBezTo>
                  <a:pt x="17624" y="8508"/>
                  <a:pt x="17752" y="8514"/>
                  <a:pt x="17884" y="8483"/>
                </a:cubicBezTo>
                <a:cubicBezTo>
                  <a:pt x="17884" y="8650"/>
                  <a:pt x="17841" y="8793"/>
                  <a:pt x="17810" y="8954"/>
                </a:cubicBezTo>
                <a:cubicBezTo>
                  <a:pt x="17810" y="8996"/>
                  <a:pt x="17810" y="9004"/>
                  <a:pt x="17810" y="9029"/>
                </a:cubicBezTo>
              </a:path>
              <a:path w="4094" h="3672">
                <a:moveTo>
                  <a:pt x="18281" y="8483"/>
                </a:moveTo>
                <a:cubicBezTo>
                  <a:pt x="18323" y="8476"/>
                  <a:pt x="18509" y="8410"/>
                  <a:pt x="18529" y="8483"/>
                </a:cubicBezTo>
                <a:cubicBezTo>
                  <a:pt x="18552" y="8567"/>
                  <a:pt x="18430" y="8604"/>
                  <a:pt x="18380" y="8632"/>
                </a:cubicBezTo>
                <a:cubicBezTo>
                  <a:pt x="18540" y="8632"/>
                  <a:pt x="18573" y="8631"/>
                  <a:pt x="18653" y="8756"/>
                </a:cubicBezTo>
                <a:cubicBezTo>
                  <a:pt x="18536" y="8848"/>
                  <a:pt x="18453" y="8910"/>
                  <a:pt x="18306" y="8880"/>
                </a:cubicBezTo>
              </a:path>
              <a:path w="4094" h="3672">
                <a:moveTo>
                  <a:pt x="15602" y="9103"/>
                </a:moveTo>
                <a:cubicBezTo>
                  <a:pt x="15940" y="9118"/>
                  <a:pt x="16280" y="9147"/>
                  <a:pt x="16619" y="9153"/>
                </a:cubicBezTo>
                <a:cubicBezTo>
                  <a:pt x="17449" y="9169"/>
                  <a:pt x="18402" y="9272"/>
                  <a:pt x="19224" y="9128"/>
                </a:cubicBezTo>
                <a:cubicBezTo>
                  <a:pt x="19274" y="9119"/>
                  <a:pt x="19273" y="9111"/>
                  <a:pt x="19323" y="9103"/>
                </a:cubicBezTo>
              </a:path>
              <a:path w="4094" h="3672">
                <a:moveTo>
                  <a:pt x="17090" y="7367"/>
                </a:moveTo>
                <a:cubicBezTo>
                  <a:pt x="17042" y="7343"/>
                  <a:pt x="16934" y="7523"/>
                  <a:pt x="16892" y="7590"/>
                </a:cubicBezTo>
                <a:cubicBezTo>
                  <a:pt x="16787" y="7758"/>
                  <a:pt x="16700" y="7935"/>
                  <a:pt x="16570" y="8086"/>
                </a:cubicBezTo>
                <a:cubicBezTo>
                  <a:pt x="16495" y="8161"/>
                  <a:pt x="16471" y="8185"/>
                  <a:pt x="16421" y="8235"/>
                </a:cubicBezTo>
              </a:path>
              <a:path w="4094" h="3672">
                <a:moveTo>
                  <a:pt x="16942" y="6970"/>
                </a:moveTo>
                <a:cubicBezTo>
                  <a:pt x="16942" y="6895"/>
                  <a:pt x="16942" y="7069"/>
                  <a:pt x="16942" y="7144"/>
                </a:cubicBezTo>
                <a:cubicBezTo>
                  <a:pt x="16942" y="7253"/>
                  <a:pt x="16943" y="7246"/>
                  <a:pt x="16966" y="7293"/>
                </a:cubicBezTo>
                <a:cubicBezTo>
                  <a:pt x="16966" y="7301"/>
                  <a:pt x="16966" y="7309"/>
                  <a:pt x="16966" y="7317"/>
                </a:cubicBezTo>
              </a:path>
              <a:path w="4094" h="3672">
                <a:moveTo>
                  <a:pt x="17462" y="7367"/>
                </a:moveTo>
                <a:cubicBezTo>
                  <a:pt x="17470" y="7359"/>
                  <a:pt x="17479" y="7350"/>
                  <a:pt x="17487" y="7342"/>
                </a:cubicBezTo>
                <a:cubicBezTo>
                  <a:pt x="17479" y="7418"/>
                  <a:pt x="17482" y="7517"/>
                  <a:pt x="17462" y="7590"/>
                </a:cubicBezTo>
                <a:cubicBezTo>
                  <a:pt x="17446" y="7648"/>
                  <a:pt x="17365" y="7703"/>
                  <a:pt x="17413" y="7739"/>
                </a:cubicBezTo>
                <a:cubicBezTo>
                  <a:pt x="17421" y="7739"/>
                  <a:pt x="17430" y="7739"/>
                  <a:pt x="17438" y="7739"/>
                </a:cubicBezTo>
              </a:path>
              <a:path w="4094" h="3672">
                <a:moveTo>
                  <a:pt x="17363" y="7417"/>
                </a:moveTo>
                <a:cubicBezTo>
                  <a:pt x="17583" y="7507"/>
                  <a:pt x="17650" y="7627"/>
                  <a:pt x="17760" y="7838"/>
                </a:cubicBezTo>
                <a:cubicBezTo>
                  <a:pt x="17796" y="7908"/>
                  <a:pt x="17820" y="7967"/>
                  <a:pt x="17835" y="8012"/>
                </a:cubicBezTo>
              </a:path>
              <a:path w="4094" h="3672">
                <a:moveTo>
                  <a:pt x="17760" y="7020"/>
                </a:moveTo>
                <a:cubicBezTo>
                  <a:pt x="17748" y="6959"/>
                  <a:pt x="17716" y="6908"/>
                  <a:pt x="17661" y="6871"/>
                </a:cubicBezTo>
                <a:cubicBezTo>
                  <a:pt x="17644" y="6863"/>
                  <a:pt x="17628" y="6854"/>
                  <a:pt x="17611" y="6846"/>
                </a:cubicBezTo>
                <a:cubicBezTo>
                  <a:pt x="17556" y="6915"/>
                  <a:pt x="17529" y="6959"/>
                  <a:pt x="17512" y="7045"/>
                </a:cubicBezTo>
                <a:cubicBezTo>
                  <a:pt x="17576" y="7065"/>
                  <a:pt x="17644" y="7056"/>
                  <a:pt x="17661" y="6970"/>
                </a:cubicBezTo>
                <a:cubicBezTo>
                  <a:pt x="17661" y="6962"/>
                  <a:pt x="17661" y="6953"/>
                  <a:pt x="17661" y="6945"/>
                </a:cubicBezTo>
                <a:cubicBezTo>
                  <a:pt x="17721" y="7046"/>
                  <a:pt x="17693" y="7153"/>
                  <a:pt x="17686" y="7268"/>
                </a:cubicBezTo>
                <a:cubicBezTo>
                  <a:pt x="17686" y="7326"/>
                  <a:pt x="17686" y="7334"/>
                  <a:pt x="17686" y="7367"/>
                </a:cubicBezTo>
              </a:path>
              <a:path w="4094" h="3672">
                <a:moveTo>
                  <a:pt x="18033" y="7367"/>
                </a:moveTo>
                <a:cubicBezTo>
                  <a:pt x="18033" y="7298"/>
                  <a:pt x="18039" y="7514"/>
                  <a:pt x="18033" y="7541"/>
                </a:cubicBezTo>
                <a:cubicBezTo>
                  <a:pt x="18013" y="7581"/>
                  <a:pt x="18004" y="7587"/>
                  <a:pt x="18008" y="7615"/>
                </a:cubicBezTo>
              </a:path>
              <a:path w="4094" h="3672">
                <a:moveTo>
                  <a:pt x="18306" y="9351"/>
                </a:moveTo>
                <a:cubicBezTo>
                  <a:pt x="18393" y="9351"/>
                  <a:pt x="18469" y="9336"/>
                  <a:pt x="18554" y="9327"/>
                </a:cubicBezTo>
                <a:cubicBezTo>
                  <a:pt x="18571" y="9327"/>
                  <a:pt x="18587" y="9327"/>
                  <a:pt x="18604" y="9327"/>
                </a:cubicBezTo>
                <a:cubicBezTo>
                  <a:pt x="18617" y="9492"/>
                  <a:pt x="18522" y="9632"/>
                  <a:pt x="18479" y="9798"/>
                </a:cubicBezTo>
                <a:cubicBezTo>
                  <a:pt x="18479" y="9839"/>
                  <a:pt x="18487" y="9855"/>
                  <a:pt x="18455" y="9847"/>
                </a:cubicBezTo>
              </a:path>
              <a:path w="4094" h="3672">
                <a:moveTo>
                  <a:pt x="17711" y="9475"/>
                </a:moveTo>
                <a:cubicBezTo>
                  <a:pt x="17763" y="9458"/>
                  <a:pt x="17828" y="9414"/>
                  <a:pt x="17909" y="9401"/>
                </a:cubicBezTo>
                <a:cubicBezTo>
                  <a:pt x="17934" y="9577"/>
                  <a:pt x="17902" y="9676"/>
                  <a:pt x="17785" y="9823"/>
                </a:cubicBezTo>
                <a:cubicBezTo>
                  <a:pt x="17689" y="9919"/>
                  <a:pt x="17666" y="9924"/>
                  <a:pt x="17636" y="9996"/>
                </a:cubicBezTo>
                <a:cubicBezTo>
                  <a:pt x="17771" y="9942"/>
                  <a:pt x="17888" y="9947"/>
                  <a:pt x="18033" y="9947"/>
                </a:cubicBezTo>
                <a:cubicBezTo>
                  <a:pt x="18058" y="9947"/>
                  <a:pt x="18066" y="9947"/>
                  <a:pt x="18083" y="9947"/>
                </a:cubicBezTo>
              </a:path>
              <a:path w="4094" h="3672">
                <a:moveTo>
                  <a:pt x="17239" y="9798"/>
                </a:moveTo>
                <a:cubicBezTo>
                  <a:pt x="17207" y="9811"/>
                  <a:pt x="17081" y="9901"/>
                  <a:pt x="17165" y="9922"/>
                </a:cubicBezTo>
                <a:cubicBezTo>
                  <a:pt x="17245" y="9942"/>
                  <a:pt x="17233" y="9874"/>
                  <a:pt x="17239" y="9823"/>
                </a:cubicBezTo>
                <a:cubicBezTo>
                  <a:pt x="17239" y="9851"/>
                  <a:pt x="17236" y="9861"/>
                  <a:pt x="17214" y="9872"/>
                </a:cubicBezTo>
              </a:path>
              <a:path w="4094" h="3672">
                <a:moveTo>
                  <a:pt x="16594" y="9451"/>
                </a:moveTo>
                <a:cubicBezTo>
                  <a:pt x="16642" y="9403"/>
                  <a:pt x="16687" y="9364"/>
                  <a:pt x="16743" y="9327"/>
                </a:cubicBezTo>
                <a:cubicBezTo>
                  <a:pt x="16795" y="9497"/>
                  <a:pt x="16731" y="9545"/>
                  <a:pt x="16619" y="9674"/>
                </a:cubicBezTo>
                <a:cubicBezTo>
                  <a:pt x="16558" y="9714"/>
                  <a:pt x="16605" y="9605"/>
                  <a:pt x="16694" y="9599"/>
                </a:cubicBezTo>
                <a:cubicBezTo>
                  <a:pt x="16937" y="9584"/>
                  <a:pt x="16822" y="9889"/>
                  <a:pt x="16718" y="9971"/>
                </a:cubicBezTo>
                <a:cubicBezTo>
                  <a:pt x="16633" y="10038"/>
                  <a:pt x="16550" y="10031"/>
                  <a:pt x="16470" y="9996"/>
                </a:cubicBezTo>
              </a:path>
              <a:path w="4094" h="3672">
                <a:moveTo>
                  <a:pt x="16098" y="8062"/>
                </a:moveTo>
                <a:cubicBezTo>
                  <a:pt x="16090" y="8070"/>
                  <a:pt x="16081" y="8078"/>
                  <a:pt x="16073" y="8086"/>
                </a:cubicBezTo>
                <a:cubicBezTo>
                  <a:pt x="16184" y="8059"/>
                  <a:pt x="16306" y="7875"/>
                  <a:pt x="16371" y="7789"/>
                </a:cubicBezTo>
                <a:cubicBezTo>
                  <a:pt x="16423" y="7720"/>
                  <a:pt x="16511" y="7595"/>
                  <a:pt x="16545" y="7516"/>
                </a:cubicBezTo>
              </a:path>
              <a:path w="4094" h="3672">
                <a:moveTo>
                  <a:pt x="16148" y="7094"/>
                </a:moveTo>
                <a:cubicBezTo>
                  <a:pt x="16036" y="7126"/>
                  <a:pt x="16038" y="7227"/>
                  <a:pt x="16024" y="7342"/>
                </a:cubicBezTo>
                <a:cubicBezTo>
                  <a:pt x="16140" y="7392"/>
                  <a:pt x="16271" y="7333"/>
                  <a:pt x="16247" y="7169"/>
                </a:cubicBezTo>
                <a:cubicBezTo>
                  <a:pt x="16245" y="7154"/>
                  <a:pt x="16166" y="7087"/>
                  <a:pt x="16148" y="7069"/>
                </a:cubicBezTo>
              </a:path>
              <a:path w="4094" h="3672">
                <a:moveTo>
                  <a:pt x="16718" y="6970"/>
                </a:moveTo>
                <a:cubicBezTo>
                  <a:pt x="16745" y="6915"/>
                  <a:pt x="16754" y="7034"/>
                  <a:pt x="16743" y="7094"/>
                </a:cubicBezTo>
                <a:cubicBezTo>
                  <a:pt x="16724" y="7152"/>
                  <a:pt x="16715" y="7158"/>
                  <a:pt x="16718" y="71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26080" y="4483080"/>
            <a:ext cx="1438200" cy="1625760"/>
          </a:xfrm>
          <a:custGeom>
            <a:avLst/>
            <a:gdLst/>
            <a:ahLst/>
            <a:rect l="l" t="t" r="r" b="b"/>
            <a:pathLst>
              <a:path w="3995" h="4515">
                <a:moveTo>
                  <a:pt x="16892" y="13097"/>
                </a:moveTo>
                <a:cubicBezTo>
                  <a:pt x="16875" y="13138"/>
                  <a:pt x="16844" y="13178"/>
                  <a:pt x="16818" y="13221"/>
                </a:cubicBezTo>
                <a:cubicBezTo>
                  <a:pt x="16860" y="13199"/>
                  <a:pt x="16985" y="13012"/>
                  <a:pt x="17066" y="13097"/>
                </a:cubicBezTo>
                <a:cubicBezTo>
                  <a:pt x="17207" y="13245"/>
                  <a:pt x="16958" y="13467"/>
                  <a:pt x="16867" y="13543"/>
                </a:cubicBezTo>
                <a:cubicBezTo>
                  <a:pt x="16872" y="13539"/>
                  <a:pt x="17132" y="13495"/>
                  <a:pt x="17090" y="13692"/>
                </a:cubicBezTo>
                <a:cubicBezTo>
                  <a:pt x="17056" y="13850"/>
                  <a:pt x="16738" y="14080"/>
                  <a:pt x="16594" y="13915"/>
                </a:cubicBezTo>
                <a:cubicBezTo>
                  <a:pt x="16602" y="13899"/>
                  <a:pt x="16611" y="13882"/>
                  <a:pt x="16619" y="13866"/>
                </a:cubicBezTo>
              </a:path>
              <a:path w="3995" h="4515">
                <a:moveTo>
                  <a:pt x="17388" y="13246"/>
                </a:moveTo>
                <a:cubicBezTo>
                  <a:pt x="17388" y="13134"/>
                  <a:pt x="17525" y="13129"/>
                  <a:pt x="17611" y="13097"/>
                </a:cubicBezTo>
                <a:cubicBezTo>
                  <a:pt x="17790" y="13330"/>
                  <a:pt x="17756" y="13569"/>
                  <a:pt x="17487" y="13767"/>
                </a:cubicBezTo>
                <a:cubicBezTo>
                  <a:pt x="17360" y="13809"/>
                  <a:pt x="17329" y="13838"/>
                  <a:pt x="17264" y="13767"/>
                </a:cubicBezTo>
                <a:cubicBezTo>
                  <a:pt x="17334" y="13604"/>
                  <a:pt x="17467" y="13560"/>
                  <a:pt x="17636" y="13692"/>
                </a:cubicBezTo>
                <a:cubicBezTo>
                  <a:pt x="17798" y="13818"/>
                  <a:pt x="17712" y="14051"/>
                  <a:pt x="17810" y="13742"/>
                </a:cubicBezTo>
              </a:path>
              <a:path w="3995" h="4515">
                <a:moveTo>
                  <a:pt x="18579" y="12998"/>
                </a:moveTo>
                <a:cubicBezTo>
                  <a:pt x="18552" y="13005"/>
                  <a:pt x="18344" y="13029"/>
                  <a:pt x="18331" y="13047"/>
                </a:cubicBezTo>
                <a:cubicBezTo>
                  <a:pt x="18269" y="13135"/>
                  <a:pt x="18264" y="13219"/>
                  <a:pt x="18256" y="13320"/>
                </a:cubicBezTo>
                <a:cubicBezTo>
                  <a:pt x="18348" y="13294"/>
                  <a:pt x="18533" y="13181"/>
                  <a:pt x="18628" y="13271"/>
                </a:cubicBezTo>
                <a:cubicBezTo>
                  <a:pt x="18784" y="13420"/>
                  <a:pt x="18486" y="13601"/>
                  <a:pt x="18380" y="13618"/>
                </a:cubicBezTo>
                <a:cubicBezTo>
                  <a:pt x="18281" y="13618"/>
                  <a:pt x="18265" y="13618"/>
                  <a:pt x="18207" y="13618"/>
                </a:cubicBezTo>
              </a:path>
              <a:path w="3995" h="4515">
                <a:moveTo>
                  <a:pt x="16073" y="14089"/>
                </a:moveTo>
                <a:cubicBezTo>
                  <a:pt x="15976" y="14369"/>
                  <a:pt x="15776" y="14714"/>
                  <a:pt x="15751" y="15007"/>
                </a:cubicBezTo>
                <a:cubicBezTo>
                  <a:pt x="15759" y="15007"/>
                  <a:pt x="15768" y="15007"/>
                  <a:pt x="15776" y="15007"/>
                </a:cubicBezTo>
              </a:path>
              <a:path w="3995" h="4515">
                <a:moveTo>
                  <a:pt x="17190" y="14560"/>
                </a:moveTo>
                <a:cubicBezTo>
                  <a:pt x="17190" y="14610"/>
                  <a:pt x="17190" y="14659"/>
                  <a:pt x="17190" y="14709"/>
                </a:cubicBezTo>
              </a:path>
              <a:path w="3995" h="4515">
                <a:moveTo>
                  <a:pt x="17785" y="14064"/>
                </a:moveTo>
                <a:cubicBezTo>
                  <a:pt x="17687" y="14092"/>
                  <a:pt x="17349" y="14154"/>
                  <a:pt x="17438" y="14337"/>
                </a:cubicBezTo>
                <a:cubicBezTo>
                  <a:pt x="17497" y="14458"/>
                  <a:pt x="17623" y="14492"/>
                  <a:pt x="17686" y="14610"/>
                </a:cubicBezTo>
                <a:cubicBezTo>
                  <a:pt x="17609" y="14662"/>
                  <a:pt x="17581" y="14678"/>
                  <a:pt x="17512" y="14660"/>
                </a:cubicBezTo>
                <a:cubicBezTo>
                  <a:pt x="17496" y="14450"/>
                  <a:pt x="17647" y="14382"/>
                  <a:pt x="17760" y="14213"/>
                </a:cubicBezTo>
                <a:cubicBezTo>
                  <a:pt x="17768" y="14188"/>
                  <a:pt x="17777" y="14164"/>
                  <a:pt x="17785" y="14139"/>
                </a:cubicBezTo>
              </a:path>
              <a:path w="3995" h="4515">
                <a:moveTo>
                  <a:pt x="18306" y="14139"/>
                </a:moveTo>
                <a:cubicBezTo>
                  <a:pt x="18329" y="14048"/>
                  <a:pt x="18373" y="14037"/>
                  <a:pt x="18455" y="14015"/>
                </a:cubicBezTo>
                <a:cubicBezTo>
                  <a:pt x="18536" y="14287"/>
                  <a:pt x="18500" y="14483"/>
                  <a:pt x="18207" y="14610"/>
                </a:cubicBezTo>
                <a:cubicBezTo>
                  <a:pt x="18174" y="14610"/>
                  <a:pt x="18140" y="14610"/>
                  <a:pt x="18107" y="14610"/>
                </a:cubicBezTo>
                <a:cubicBezTo>
                  <a:pt x="18095" y="14446"/>
                  <a:pt x="18214" y="14325"/>
                  <a:pt x="18405" y="14436"/>
                </a:cubicBezTo>
                <a:cubicBezTo>
                  <a:pt x="18486" y="14483"/>
                  <a:pt x="18495" y="14582"/>
                  <a:pt x="18504" y="14660"/>
                </a:cubicBezTo>
              </a:path>
              <a:path w="3995" h="4515">
                <a:moveTo>
                  <a:pt x="15627" y="15280"/>
                </a:moveTo>
                <a:cubicBezTo>
                  <a:pt x="15787" y="15235"/>
                  <a:pt x="16133" y="15175"/>
                  <a:pt x="16321" y="15156"/>
                </a:cubicBezTo>
                <a:cubicBezTo>
                  <a:pt x="17254" y="15061"/>
                  <a:pt x="18190" y="14969"/>
                  <a:pt x="19124" y="14883"/>
                </a:cubicBezTo>
                <a:cubicBezTo>
                  <a:pt x="19314" y="14866"/>
                  <a:pt x="19448" y="14864"/>
                  <a:pt x="19621" y="14858"/>
                </a:cubicBezTo>
              </a:path>
              <a:path w="3995" h="4515">
                <a:moveTo>
                  <a:pt x="18604" y="15180"/>
                </a:moveTo>
                <a:cubicBezTo>
                  <a:pt x="18619" y="15225"/>
                  <a:pt x="18633" y="15190"/>
                  <a:pt x="18579" y="15230"/>
                </a:cubicBezTo>
                <a:cubicBezTo>
                  <a:pt x="18414" y="15352"/>
                  <a:pt x="18356" y="15471"/>
                  <a:pt x="18405" y="15652"/>
                </a:cubicBezTo>
                <a:cubicBezTo>
                  <a:pt x="18575" y="15677"/>
                  <a:pt x="18741" y="15637"/>
                  <a:pt x="18777" y="15429"/>
                </a:cubicBezTo>
                <a:cubicBezTo>
                  <a:pt x="18792" y="15342"/>
                  <a:pt x="18626" y="15240"/>
                  <a:pt x="18579" y="15180"/>
                </a:cubicBezTo>
              </a:path>
              <a:path w="3995" h="4515">
                <a:moveTo>
                  <a:pt x="17587" y="12626"/>
                </a:moveTo>
                <a:cubicBezTo>
                  <a:pt x="17587" y="12585"/>
                  <a:pt x="17543" y="12850"/>
                  <a:pt x="17537" y="12898"/>
                </a:cubicBezTo>
                <a:cubicBezTo>
                  <a:pt x="17537" y="12940"/>
                  <a:pt x="17537" y="12948"/>
                  <a:pt x="17537" y="12973"/>
                </a:cubicBezTo>
              </a:path>
              <a:path w="3995" h="4515">
                <a:moveTo>
                  <a:pt x="17711" y="15354"/>
                </a:moveTo>
                <a:cubicBezTo>
                  <a:pt x="17698" y="15316"/>
                  <a:pt x="17652" y="15351"/>
                  <a:pt x="17562" y="15354"/>
                </a:cubicBezTo>
                <a:cubicBezTo>
                  <a:pt x="17497" y="15356"/>
                  <a:pt x="17470" y="15341"/>
                  <a:pt x="17413" y="15329"/>
                </a:cubicBezTo>
                <a:cubicBezTo>
                  <a:pt x="17377" y="15391"/>
                  <a:pt x="17335" y="15498"/>
                  <a:pt x="17363" y="15577"/>
                </a:cubicBezTo>
                <a:cubicBezTo>
                  <a:pt x="17371" y="15585"/>
                  <a:pt x="17380" y="15594"/>
                  <a:pt x="17388" y="15602"/>
                </a:cubicBezTo>
                <a:cubicBezTo>
                  <a:pt x="17441" y="15559"/>
                  <a:pt x="17544" y="15486"/>
                  <a:pt x="17611" y="15553"/>
                </a:cubicBezTo>
                <a:cubicBezTo>
                  <a:pt x="17702" y="15643"/>
                  <a:pt x="17612" y="15803"/>
                  <a:pt x="17512" y="15825"/>
                </a:cubicBezTo>
                <a:cubicBezTo>
                  <a:pt x="17391" y="15852"/>
                  <a:pt x="17412" y="15800"/>
                  <a:pt x="17363" y="15776"/>
                </a:cubicBezTo>
                <a:cubicBezTo>
                  <a:pt x="17355" y="15776"/>
                  <a:pt x="17346" y="15776"/>
                  <a:pt x="17338" y="15776"/>
                </a:cubicBezTo>
              </a:path>
              <a:path w="3995" h="4515">
                <a:moveTo>
                  <a:pt x="16718" y="15329"/>
                </a:moveTo>
                <a:cubicBezTo>
                  <a:pt x="16685" y="15261"/>
                  <a:pt x="16631" y="15490"/>
                  <a:pt x="16619" y="15528"/>
                </a:cubicBezTo>
                <a:cubicBezTo>
                  <a:pt x="16590" y="15617"/>
                  <a:pt x="16570" y="15684"/>
                  <a:pt x="16570" y="15776"/>
                </a:cubicBezTo>
                <a:cubicBezTo>
                  <a:pt x="16570" y="15821"/>
                  <a:pt x="16575" y="15831"/>
                  <a:pt x="16619" y="15850"/>
                </a:cubicBezTo>
                <a:cubicBezTo>
                  <a:pt x="16684" y="15877"/>
                  <a:pt x="16784" y="15887"/>
                  <a:pt x="16842" y="15850"/>
                </a:cubicBezTo>
                <a:cubicBezTo>
                  <a:pt x="16893" y="15818"/>
                  <a:pt x="16967" y="15784"/>
                  <a:pt x="16991" y="15726"/>
                </a:cubicBezTo>
                <a:cubicBezTo>
                  <a:pt x="17007" y="15687"/>
                  <a:pt x="17016" y="15665"/>
                  <a:pt x="16991" y="15627"/>
                </a:cubicBezTo>
                <a:cubicBezTo>
                  <a:pt x="16957" y="15576"/>
                  <a:pt x="16894" y="15550"/>
                  <a:pt x="16842" y="15602"/>
                </a:cubicBezTo>
                <a:cubicBezTo>
                  <a:pt x="16799" y="15645"/>
                  <a:pt x="16773" y="15784"/>
                  <a:pt x="16768" y="15850"/>
                </a:cubicBezTo>
                <a:cubicBezTo>
                  <a:pt x="16768" y="15858"/>
                  <a:pt x="16768" y="15867"/>
                  <a:pt x="16768" y="15875"/>
                </a:cubicBezTo>
              </a:path>
              <a:path w="3995" h="4515">
                <a:moveTo>
                  <a:pt x="18653" y="15949"/>
                </a:moveTo>
                <a:cubicBezTo>
                  <a:pt x="18661" y="15949"/>
                  <a:pt x="18670" y="15949"/>
                  <a:pt x="18678" y="15949"/>
                </a:cubicBezTo>
                <a:cubicBezTo>
                  <a:pt x="18635" y="15921"/>
                  <a:pt x="18667" y="15949"/>
                  <a:pt x="18604" y="15949"/>
                </a:cubicBezTo>
                <a:cubicBezTo>
                  <a:pt x="18560" y="15949"/>
                  <a:pt x="18519" y="16012"/>
                  <a:pt x="18504" y="16049"/>
                </a:cubicBezTo>
                <a:cubicBezTo>
                  <a:pt x="18489" y="16086"/>
                  <a:pt x="18466" y="16129"/>
                  <a:pt x="18455" y="16173"/>
                </a:cubicBezTo>
                <a:cubicBezTo>
                  <a:pt x="18442" y="16226"/>
                  <a:pt x="18444" y="16307"/>
                  <a:pt x="18479" y="16346"/>
                </a:cubicBezTo>
                <a:cubicBezTo>
                  <a:pt x="18540" y="16415"/>
                  <a:pt x="18565" y="16421"/>
                  <a:pt x="18653" y="16421"/>
                </a:cubicBezTo>
                <a:cubicBezTo>
                  <a:pt x="18719" y="16421"/>
                  <a:pt x="18780" y="16389"/>
                  <a:pt x="18827" y="16346"/>
                </a:cubicBezTo>
                <a:cubicBezTo>
                  <a:pt x="18874" y="16304"/>
                  <a:pt x="18891" y="16313"/>
                  <a:pt x="18926" y="16247"/>
                </a:cubicBezTo>
                <a:cubicBezTo>
                  <a:pt x="18943" y="16215"/>
                  <a:pt x="18965" y="16162"/>
                  <a:pt x="18951" y="16123"/>
                </a:cubicBezTo>
                <a:cubicBezTo>
                  <a:pt x="18942" y="16098"/>
                  <a:pt x="18927" y="16012"/>
                  <a:pt x="18901" y="15999"/>
                </a:cubicBezTo>
                <a:cubicBezTo>
                  <a:pt x="18863" y="15980"/>
                  <a:pt x="18856" y="15997"/>
                  <a:pt x="18802" y="15974"/>
                </a:cubicBezTo>
                <a:cubicBezTo>
                  <a:pt x="18728" y="15943"/>
                  <a:pt x="18731" y="15954"/>
                  <a:pt x="18653" y="15974"/>
                </a:cubicBezTo>
                <a:cubicBezTo>
                  <a:pt x="18628" y="15974"/>
                  <a:pt x="18620" y="15974"/>
                  <a:pt x="18604" y="15974"/>
                </a:cubicBezTo>
              </a:path>
              <a:path w="3995" h="4515">
                <a:moveTo>
                  <a:pt x="17810" y="16073"/>
                </a:moveTo>
                <a:cubicBezTo>
                  <a:pt x="17854" y="16010"/>
                  <a:pt x="17709" y="16054"/>
                  <a:pt x="17686" y="16073"/>
                </a:cubicBezTo>
                <a:cubicBezTo>
                  <a:pt x="17599" y="16144"/>
                  <a:pt x="17378" y="16478"/>
                  <a:pt x="17438" y="16594"/>
                </a:cubicBezTo>
                <a:cubicBezTo>
                  <a:pt x="17537" y="16785"/>
                  <a:pt x="17798" y="16517"/>
                  <a:pt x="17835" y="16421"/>
                </a:cubicBezTo>
                <a:cubicBezTo>
                  <a:pt x="17856" y="16368"/>
                  <a:pt x="17870" y="16212"/>
                  <a:pt x="17810" y="16173"/>
                </a:cubicBezTo>
                <a:cubicBezTo>
                  <a:pt x="17802" y="16173"/>
                  <a:pt x="17793" y="16173"/>
                  <a:pt x="17785" y="16173"/>
                </a:cubicBezTo>
              </a:path>
              <a:path w="3995" h="4515">
                <a:moveTo>
                  <a:pt x="17388" y="12551"/>
                </a:moveTo>
                <a:cubicBezTo>
                  <a:pt x="17381" y="12630"/>
                  <a:pt x="17386" y="12641"/>
                  <a:pt x="17338" y="12700"/>
                </a:cubicBezTo>
                <a:cubicBezTo>
                  <a:pt x="17361" y="12723"/>
                  <a:pt x="17436" y="12769"/>
                  <a:pt x="17487" y="12774"/>
                </a:cubicBezTo>
                <a:cubicBezTo>
                  <a:pt x="17495" y="12774"/>
                  <a:pt x="17504" y="12774"/>
                  <a:pt x="17512" y="12774"/>
                </a:cubicBezTo>
              </a:path>
              <a:path w="3995" h="4515">
                <a:moveTo>
                  <a:pt x="16892" y="16570"/>
                </a:moveTo>
                <a:cubicBezTo>
                  <a:pt x="16892" y="16602"/>
                  <a:pt x="16841" y="16548"/>
                  <a:pt x="16768" y="16570"/>
                </a:cubicBezTo>
                <a:cubicBezTo>
                  <a:pt x="16635" y="16610"/>
                  <a:pt x="16627" y="16842"/>
                  <a:pt x="16619" y="16942"/>
                </a:cubicBezTo>
                <a:cubicBezTo>
                  <a:pt x="16619" y="16950"/>
                  <a:pt x="16619" y="16958"/>
                  <a:pt x="16619" y="16966"/>
                </a:cubicBezTo>
                <a:cubicBezTo>
                  <a:pt x="16766" y="16954"/>
                  <a:pt x="16845" y="16931"/>
                  <a:pt x="16917" y="16793"/>
                </a:cubicBezTo>
                <a:cubicBezTo>
                  <a:pt x="16986" y="16659"/>
                  <a:pt x="16892" y="16636"/>
                  <a:pt x="16793" y="16594"/>
                </a:cubicBezTo>
                <a:cubicBezTo>
                  <a:pt x="16776" y="16586"/>
                  <a:pt x="16760" y="16578"/>
                  <a:pt x="16743" y="16570"/>
                </a:cubicBezTo>
              </a:path>
              <a:path w="3995" h="4515">
                <a:moveTo>
                  <a:pt x="16619" y="12502"/>
                </a:moveTo>
                <a:cubicBezTo>
                  <a:pt x="16683" y="12460"/>
                  <a:pt x="16694" y="12443"/>
                  <a:pt x="16743" y="12452"/>
                </a:cubicBezTo>
                <a:cubicBezTo>
                  <a:pt x="16780" y="12673"/>
                  <a:pt x="16769" y="12797"/>
                  <a:pt x="16520" y="12874"/>
                </a:cubicBezTo>
                <a:cubicBezTo>
                  <a:pt x="16446" y="12874"/>
                  <a:pt x="16437" y="12874"/>
                  <a:pt x="16396" y="12874"/>
                </a:cubicBezTo>
                <a:cubicBezTo>
                  <a:pt x="16415" y="12740"/>
                  <a:pt x="16571" y="12794"/>
                  <a:pt x="16669" y="12849"/>
                </a:cubicBezTo>
                <a:cubicBezTo>
                  <a:pt x="16727" y="12907"/>
                  <a:pt x="16735" y="12915"/>
                  <a:pt x="16768" y="129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92880" y="6438960"/>
            <a:ext cx="73080" cy="79200"/>
          </a:xfrm>
          <a:custGeom>
            <a:avLst/>
            <a:gdLst/>
            <a:ahLst/>
            <a:rect l="l" t="t" r="r" b="b"/>
            <a:pathLst>
              <a:path w="200" h="224">
                <a:moveTo>
                  <a:pt x="17934" y="18033"/>
                </a:moveTo>
                <a:cubicBezTo>
                  <a:pt x="17955" y="18159"/>
                  <a:pt x="17965" y="18012"/>
                  <a:pt x="17934" y="18083"/>
                </a:cubicBezTo>
                <a:cubicBezTo>
                  <a:pt x="17934" y="18091"/>
                  <a:pt x="17934" y="18099"/>
                  <a:pt x="17934" y="18107"/>
                </a:cubicBezTo>
                <a:cubicBezTo>
                  <a:pt x="17977" y="18051"/>
                  <a:pt x="17959" y="18090"/>
                  <a:pt x="17959" y="18058"/>
                </a:cubicBezTo>
                <a:cubicBezTo>
                  <a:pt x="17959" y="18020"/>
                  <a:pt x="17952" y="17978"/>
                  <a:pt x="17934" y="18033"/>
                </a:cubicBezTo>
              </a:path>
              <a:path w="200" h="224">
                <a:moveTo>
                  <a:pt x="17859" y="18033"/>
                </a:moveTo>
                <a:cubicBezTo>
                  <a:pt x="17849" y="18002"/>
                  <a:pt x="17816" y="17988"/>
                  <a:pt x="17810" y="18033"/>
                </a:cubicBezTo>
                <a:cubicBezTo>
                  <a:pt x="17802" y="18101"/>
                  <a:pt x="17879" y="17940"/>
                  <a:pt x="17835" y="17909"/>
                </a:cubicBezTo>
                <a:cubicBezTo>
                  <a:pt x="17818" y="17909"/>
                  <a:pt x="17802" y="17909"/>
                  <a:pt x="17785" y="17909"/>
                </a:cubicBezTo>
                <a:cubicBezTo>
                  <a:pt x="17782" y="17921"/>
                  <a:pt x="17802" y="18106"/>
                  <a:pt x="17835" y="18008"/>
                </a:cubicBezTo>
                <a:cubicBezTo>
                  <a:pt x="17862" y="17927"/>
                  <a:pt x="17794" y="17920"/>
                  <a:pt x="17785" y="18008"/>
                </a:cubicBezTo>
                <a:cubicBezTo>
                  <a:pt x="17780" y="18059"/>
                  <a:pt x="17834" y="18004"/>
                  <a:pt x="17859" y="17959"/>
                </a:cubicBezTo>
                <a:cubicBezTo>
                  <a:pt x="17859" y="17909"/>
                  <a:pt x="17859" y="17893"/>
                  <a:pt x="17810" y="17909"/>
                </a:cubicBezTo>
                <a:cubicBezTo>
                  <a:pt x="17799" y="17981"/>
                  <a:pt x="17851" y="18072"/>
                  <a:pt x="17884" y="18008"/>
                </a:cubicBezTo>
                <a:cubicBezTo>
                  <a:pt x="17967" y="17849"/>
                  <a:pt x="17862" y="17885"/>
                  <a:pt x="17835" y="180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48160" y="5892840"/>
            <a:ext cx="1554120" cy="554040"/>
          </a:xfrm>
          <a:custGeom>
            <a:avLst/>
            <a:gdLst/>
            <a:ahLst/>
            <a:rect l="l" t="t" r="r" b="b"/>
            <a:pathLst>
              <a:path w="4317" h="1539">
                <a:moveTo>
                  <a:pt x="15329" y="16594"/>
                </a:moveTo>
                <a:cubicBezTo>
                  <a:pt x="15329" y="16559"/>
                  <a:pt x="15334" y="16542"/>
                  <a:pt x="15354" y="16520"/>
                </a:cubicBezTo>
                <a:cubicBezTo>
                  <a:pt x="15516" y="16579"/>
                  <a:pt x="15534" y="16785"/>
                  <a:pt x="15404" y="16942"/>
                </a:cubicBezTo>
                <a:cubicBezTo>
                  <a:pt x="15308" y="17058"/>
                  <a:pt x="15201" y="17063"/>
                  <a:pt x="15081" y="17041"/>
                </a:cubicBezTo>
                <a:cubicBezTo>
                  <a:pt x="15071" y="16890"/>
                  <a:pt x="15136" y="16770"/>
                  <a:pt x="15329" y="16867"/>
                </a:cubicBezTo>
                <a:cubicBezTo>
                  <a:pt x="15429" y="16917"/>
                  <a:pt x="15404" y="17058"/>
                  <a:pt x="15453" y="17041"/>
                </a:cubicBezTo>
              </a:path>
              <a:path w="4317" h="1539">
                <a:moveTo>
                  <a:pt x="15751" y="16371"/>
                </a:moveTo>
                <a:cubicBezTo>
                  <a:pt x="15780" y="16470"/>
                  <a:pt x="15728" y="16646"/>
                  <a:pt x="15726" y="16768"/>
                </a:cubicBezTo>
                <a:cubicBezTo>
                  <a:pt x="15724" y="16882"/>
                  <a:pt x="15720" y="17143"/>
                  <a:pt x="15925" y="17066"/>
                </a:cubicBezTo>
                <a:cubicBezTo>
                  <a:pt x="16068" y="17012"/>
                  <a:pt x="16059" y="16889"/>
                  <a:pt x="16073" y="16768"/>
                </a:cubicBezTo>
                <a:cubicBezTo>
                  <a:pt x="15941" y="16790"/>
                  <a:pt x="15904" y="16864"/>
                  <a:pt x="15875" y="16991"/>
                </a:cubicBezTo>
                <a:cubicBezTo>
                  <a:pt x="15875" y="17008"/>
                  <a:pt x="15875" y="17024"/>
                  <a:pt x="15875" y="17041"/>
                </a:cubicBezTo>
              </a:path>
              <a:path w="4317" h="1539">
                <a:moveTo>
                  <a:pt x="14858" y="17239"/>
                </a:moveTo>
                <a:cubicBezTo>
                  <a:pt x="15055" y="17274"/>
                  <a:pt x="15252" y="17264"/>
                  <a:pt x="15453" y="17264"/>
                </a:cubicBezTo>
                <a:cubicBezTo>
                  <a:pt x="15820" y="17264"/>
                  <a:pt x="16180" y="17270"/>
                  <a:pt x="16545" y="17264"/>
                </a:cubicBezTo>
                <a:cubicBezTo>
                  <a:pt x="17149" y="17253"/>
                  <a:pt x="17753" y="17288"/>
                  <a:pt x="18355" y="17239"/>
                </a:cubicBezTo>
                <a:cubicBezTo>
                  <a:pt x="18621" y="17217"/>
                  <a:pt x="18883" y="17174"/>
                  <a:pt x="19149" y="17165"/>
                </a:cubicBezTo>
                <a:cubicBezTo>
                  <a:pt x="19157" y="17165"/>
                  <a:pt x="19166" y="17165"/>
                  <a:pt x="19174" y="17165"/>
                </a:cubicBezTo>
              </a:path>
              <a:path w="4317" h="1539">
                <a:moveTo>
                  <a:pt x="18926" y="17462"/>
                </a:moveTo>
                <a:cubicBezTo>
                  <a:pt x="18960" y="17446"/>
                  <a:pt x="18864" y="17491"/>
                  <a:pt x="18827" y="17587"/>
                </a:cubicBezTo>
                <a:cubicBezTo>
                  <a:pt x="18796" y="17669"/>
                  <a:pt x="18754" y="17840"/>
                  <a:pt x="18901" y="17835"/>
                </a:cubicBezTo>
                <a:cubicBezTo>
                  <a:pt x="19016" y="17831"/>
                  <a:pt x="19105" y="17727"/>
                  <a:pt x="19100" y="17611"/>
                </a:cubicBezTo>
                <a:cubicBezTo>
                  <a:pt x="19098" y="17559"/>
                  <a:pt x="19037" y="17553"/>
                  <a:pt x="19000" y="17537"/>
                </a:cubicBezTo>
              </a:path>
              <a:path w="4317" h="1539">
                <a:moveTo>
                  <a:pt x="18331" y="17462"/>
                </a:moveTo>
                <a:cubicBezTo>
                  <a:pt x="18204" y="17478"/>
                  <a:pt x="18088" y="17487"/>
                  <a:pt x="17959" y="17487"/>
                </a:cubicBezTo>
                <a:cubicBezTo>
                  <a:pt x="17913" y="17487"/>
                  <a:pt x="17934" y="17575"/>
                  <a:pt x="17934" y="17611"/>
                </a:cubicBezTo>
                <a:cubicBezTo>
                  <a:pt x="17934" y="17619"/>
                  <a:pt x="17934" y="17628"/>
                  <a:pt x="17934" y="17636"/>
                </a:cubicBezTo>
                <a:cubicBezTo>
                  <a:pt x="18013" y="17636"/>
                  <a:pt x="18107" y="17584"/>
                  <a:pt x="18182" y="17611"/>
                </a:cubicBezTo>
                <a:cubicBezTo>
                  <a:pt x="18198" y="17628"/>
                  <a:pt x="18215" y="17644"/>
                  <a:pt x="18231" y="17661"/>
                </a:cubicBezTo>
                <a:cubicBezTo>
                  <a:pt x="18186" y="17796"/>
                  <a:pt x="18084" y="17829"/>
                  <a:pt x="17934" y="17810"/>
                </a:cubicBezTo>
                <a:cubicBezTo>
                  <a:pt x="17909" y="17802"/>
                  <a:pt x="17884" y="17793"/>
                  <a:pt x="17859" y="17785"/>
                </a:cubicBezTo>
              </a:path>
              <a:path w="4317" h="1539">
                <a:moveTo>
                  <a:pt x="17388" y="17462"/>
                </a:moveTo>
                <a:cubicBezTo>
                  <a:pt x="17388" y="17404"/>
                  <a:pt x="17388" y="17529"/>
                  <a:pt x="17388" y="17587"/>
                </a:cubicBezTo>
                <a:cubicBezTo>
                  <a:pt x="17388" y="17710"/>
                  <a:pt x="17394" y="17798"/>
                  <a:pt x="17537" y="17785"/>
                </a:cubicBezTo>
                <a:cubicBezTo>
                  <a:pt x="17670" y="17773"/>
                  <a:pt x="17652" y="17747"/>
                  <a:pt x="17686" y="17636"/>
                </a:cubicBezTo>
                <a:cubicBezTo>
                  <a:pt x="17570" y="17636"/>
                  <a:pt x="17550" y="17659"/>
                  <a:pt x="17487" y="17760"/>
                </a:cubicBezTo>
                <a:cubicBezTo>
                  <a:pt x="17479" y="17777"/>
                  <a:pt x="17470" y="17793"/>
                  <a:pt x="17462" y="17810"/>
                </a:cubicBezTo>
              </a:path>
              <a:path w="4317" h="1539">
                <a:moveTo>
                  <a:pt x="16197" y="17438"/>
                </a:moveTo>
                <a:cubicBezTo>
                  <a:pt x="16174" y="17438"/>
                  <a:pt x="16098" y="17639"/>
                  <a:pt x="16098" y="17735"/>
                </a:cubicBezTo>
                <a:cubicBezTo>
                  <a:pt x="16098" y="17917"/>
                  <a:pt x="16325" y="17899"/>
                  <a:pt x="16421" y="17810"/>
                </a:cubicBezTo>
                <a:cubicBezTo>
                  <a:pt x="16490" y="17746"/>
                  <a:pt x="16479" y="17694"/>
                  <a:pt x="16446" y="17636"/>
                </a:cubicBezTo>
                <a:cubicBezTo>
                  <a:pt x="16306" y="17687"/>
                  <a:pt x="16303" y="17735"/>
                  <a:pt x="16272" y="17884"/>
                </a:cubicBezTo>
                <a:cubicBezTo>
                  <a:pt x="16272" y="17892"/>
                  <a:pt x="16272" y="17901"/>
                  <a:pt x="16272" y="17909"/>
                </a:cubicBezTo>
              </a:path>
              <a:path w="4317" h="1539">
                <a:moveTo>
                  <a:pt x="15429" y="17537"/>
                </a:moveTo>
                <a:cubicBezTo>
                  <a:pt x="15462" y="17502"/>
                  <a:pt x="15484" y="17494"/>
                  <a:pt x="15528" y="17512"/>
                </a:cubicBezTo>
                <a:cubicBezTo>
                  <a:pt x="15630" y="17655"/>
                  <a:pt x="15571" y="17799"/>
                  <a:pt x="15379" y="17884"/>
                </a:cubicBezTo>
                <a:cubicBezTo>
                  <a:pt x="15278" y="17904"/>
                  <a:pt x="15247" y="17934"/>
                  <a:pt x="15230" y="17859"/>
                </a:cubicBezTo>
                <a:cubicBezTo>
                  <a:pt x="15264" y="17710"/>
                  <a:pt x="15343" y="17682"/>
                  <a:pt x="15503" y="17760"/>
                </a:cubicBezTo>
                <a:cubicBezTo>
                  <a:pt x="15582" y="17798"/>
                  <a:pt x="15591" y="17838"/>
                  <a:pt x="15627" y="179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4919760"/>
            <a:ext cx="4027320" cy="501480"/>
          </a:xfrm>
          <a:custGeom>
            <a:avLst/>
            <a:gdLst/>
            <a:ahLst/>
            <a:rect l="l" t="t" r="r" b="b"/>
            <a:pathLst>
              <a:path w="11187" h="1390">
                <a:moveTo>
                  <a:pt x="6672" y="13667"/>
                </a:moveTo>
                <a:cubicBezTo>
                  <a:pt x="6672" y="13675"/>
                  <a:pt x="6672" y="13684"/>
                  <a:pt x="6672" y="13692"/>
                </a:cubicBezTo>
              </a:path>
              <a:path w="11187" h="1390">
                <a:moveTo>
                  <a:pt x="4887" y="14089"/>
                </a:moveTo>
                <a:cubicBezTo>
                  <a:pt x="5019" y="14279"/>
                  <a:pt x="5168" y="14460"/>
                  <a:pt x="5135" y="14709"/>
                </a:cubicBezTo>
                <a:cubicBezTo>
                  <a:pt x="5127" y="14709"/>
                  <a:pt x="5118" y="14709"/>
                  <a:pt x="5110" y="14709"/>
                </a:cubicBezTo>
              </a:path>
              <a:path w="11187" h="1390">
                <a:moveTo>
                  <a:pt x="15726" y="14263"/>
                </a:moveTo>
                <a:cubicBezTo>
                  <a:pt x="15853" y="14515"/>
                  <a:pt x="15974" y="14769"/>
                  <a:pt x="16073" y="15032"/>
                </a:cubicBezTo>
                <a:cubicBezTo>
                  <a:pt x="16073" y="15040"/>
                  <a:pt x="16073" y="15048"/>
                  <a:pt x="16073" y="150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16840" y="4705200"/>
            <a:ext cx="54000" cy="125640"/>
          </a:xfrm>
          <a:custGeom>
            <a:avLst/>
            <a:gdLst/>
            <a:ahLst/>
            <a:rect l="l" t="t" r="r" b="b"/>
            <a:pathLst>
              <a:path w="150" h="348">
                <a:moveTo>
                  <a:pt x="19893" y="13072"/>
                </a:moveTo>
                <a:cubicBezTo>
                  <a:pt x="19797" y="13130"/>
                  <a:pt x="19753" y="13274"/>
                  <a:pt x="19769" y="13395"/>
                </a:cubicBezTo>
                <a:cubicBezTo>
                  <a:pt x="19777" y="13403"/>
                  <a:pt x="19786" y="13411"/>
                  <a:pt x="19794" y="13419"/>
                </a:cubicBezTo>
                <a:cubicBezTo>
                  <a:pt x="19843" y="13370"/>
                  <a:pt x="20035" y="13123"/>
                  <a:pt x="19819" y="13196"/>
                </a:cubicBezTo>
                <a:cubicBezTo>
                  <a:pt x="19811" y="13204"/>
                  <a:pt x="19802" y="13213"/>
                  <a:pt x="19794" y="132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6200" y="5000760"/>
            <a:ext cx="312840" cy="384120"/>
          </a:xfrm>
          <a:custGeom>
            <a:avLst/>
            <a:gdLst/>
            <a:ahLst/>
            <a:rect l="l" t="t" r="r" b="b"/>
            <a:pathLst>
              <a:path w="869" h="1067">
                <a:moveTo>
                  <a:pt x="19794" y="13965"/>
                </a:moveTo>
                <a:cubicBezTo>
                  <a:pt x="19845" y="13934"/>
                  <a:pt x="19907" y="13921"/>
                  <a:pt x="19968" y="13891"/>
                </a:cubicBezTo>
                <a:cubicBezTo>
                  <a:pt x="20021" y="13995"/>
                  <a:pt x="19972" y="14024"/>
                  <a:pt x="19943" y="14114"/>
                </a:cubicBezTo>
                <a:cubicBezTo>
                  <a:pt x="19943" y="14130"/>
                  <a:pt x="19943" y="14147"/>
                  <a:pt x="19943" y="14163"/>
                </a:cubicBezTo>
                <a:cubicBezTo>
                  <a:pt x="20016" y="14174"/>
                  <a:pt x="20140" y="14122"/>
                  <a:pt x="20241" y="14114"/>
                </a:cubicBezTo>
              </a:path>
              <a:path w="869" h="1067">
                <a:moveTo>
                  <a:pt x="19844" y="14560"/>
                </a:moveTo>
                <a:cubicBezTo>
                  <a:pt x="20039" y="14496"/>
                  <a:pt x="20245" y="14368"/>
                  <a:pt x="20439" y="14288"/>
                </a:cubicBezTo>
                <a:cubicBezTo>
                  <a:pt x="20579" y="14235"/>
                  <a:pt x="20583" y="14210"/>
                  <a:pt x="20662" y="14213"/>
                </a:cubicBezTo>
              </a:path>
              <a:path w="869" h="1067">
                <a:moveTo>
                  <a:pt x="20265" y="14709"/>
                </a:moveTo>
                <a:cubicBezTo>
                  <a:pt x="20358" y="14660"/>
                  <a:pt x="20408" y="14643"/>
                  <a:pt x="20513" y="14635"/>
                </a:cubicBezTo>
                <a:cubicBezTo>
                  <a:pt x="20473" y="14749"/>
                  <a:pt x="20434" y="14858"/>
                  <a:pt x="20365" y="14957"/>
                </a:cubicBezTo>
                <a:cubicBezTo>
                  <a:pt x="20466" y="14923"/>
                  <a:pt x="20548" y="14893"/>
                  <a:pt x="20638" y="148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35080" y="4643280"/>
            <a:ext cx="216000" cy="330480"/>
          </a:xfrm>
          <a:custGeom>
            <a:avLst/>
            <a:gdLst/>
            <a:ahLst/>
            <a:rect l="l" t="t" r="r" b="b"/>
            <a:pathLst>
              <a:path w="597" h="919">
                <a:moveTo>
                  <a:pt x="6127" y="12898"/>
                </a:moveTo>
                <a:cubicBezTo>
                  <a:pt x="6010" y="12923"/>
                  <a:pt x="6002" y="12906"/>
                  <a:pt x="5904" y="12898"/>
                </a:cubicBezTo>
                <a:cubicBezTo>
                  <a:pt x="5896" y="12898"/>
                  <a:pt x="5887" y="12898"/>
                  <a:pt x="5879" y="12898"/>
                </a:cubicBezTo>
                <a:cubicBezTo>
                  <a:pt x="5841" y="13032"/>
                  <a:pt x="5833" y="13162"/>
                  <a:pt x="5804" y="13295"/>
                </a:cubicBezTo>
                <a:cubicBezTo>
                  <a:pt x="5894" y="13273"/>
                  <a:pt x="5941" y="13174"/>
                  <a:pt x="6052" y="13171"/>
                </a:cubicBezTo>
                <a:cubicBezTo>
                  <a:pt x="6354" y="13164"/>
                  <a:pt x="6267" y="13532"/>
                  <a:pt x="6127" y="13667"/>
                </a:cubicBezTo>
                <a:cubicBezTo>
                  <a:pt x="6086" y="13706"/>
                  <a:pt x="5642" y="13954"/>
                  <a:pt x="5655" y="13742"/>
                </a:cubicBezTo>
                <a:cubicBezTo>
                  <a:pt x="5663" y="13725"/>
                  <a:pt x="5672" y="13709"/>
                  <a:pt x="5680" y="136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08200" y="4633920"/>
            <a:ext cx="17640" cy="277920"/>
          </a:xfrm>
          <a:custGeom>
            <a:avLst/>
            <a:gdLst/>
            <a:ahLst/>
            <a:rect l="l" t="t" r="r" b="b"/>
            <a:pathLst>
              <a:path w="51" h="770">
                <a:moveTo>
                  <a:pt x="7243" y="12874"/>
                </a:moveTo>
                <a:cubicBezTo>
                  <a:pt x="7299" y="13123"/>
                  <a:pt x="7289" y="13341"/>
                  <a:pt x="7268" y="13593"/>
                </a:cubicBezTo>
                <a:cubicBezTo>
                  <a:pt x="7268" y="13618"/>
                  <a:pt x="7268" y="13626"/>
                  <a:pt x="7268" y="136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8320" y="5089680"/>
            <a:ext cx="88920" cy="241200"/>
          </a:xfrm>
          <a:custGeom>
            <a:avLst/>
            <a:gdLst/>
            <a:ahLst/>
            <a:rect l="l" t="t" r="r" b="b"/>
            <a:pathLst>
              <a:path w="249" h="670">
                <a:moveTo>
                  <a:pt x="5159" y="14139"/>
                </a:moveTo>
                <a:cubicBezTo>
                  <a:pt x="5072" y="14358"/>
                  <a:pt x="4963" y="14579"/>
                  <a:pt x="4911" y="148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71800" y="5126040"/>
            <a:ext cx="169920" cy="276120"/>
          </a:xfrm>
          <a:custGeom>
            <a:avLst/>
            <a:gdLst/>
            <a:ahLst/>
            <a:rect l="l" t="t" r="r" b="b"/>
            <a:pathLst>
              <a:path w="472" h="770">
                <a:moveTo>
                  <a:pt x="6028" y="14312"/>
                </a:moveTo>
                <a:cubicBezTo>
                  <a:pt x="5869" y="14312"/>
                  <a:pt x="5839" y="14536"/>
                  <a:pt x="5804" y="14660"/>
                </a:cubicBezTo>
                <a:cubicBezTo>
                  <a:pt x="5762" y="14852"/>
                  <a:pt x="5734" y="14897"/>
                  <a:pt x="5804" y="15007"/>
                </a:cubicBezTo>
                <a:cubicBezTo>
                  <a:pt x="6116" y="14936"/>
                  <a:pt x="6272" y="14763"/>
                  <a:pt x="6201" y="14412"/>
                </a:cubicBezTo>
                <a:cubicBezTo>
                  <a:pt x="6136" y="14304"/>
                  <a:pt x="6127" y="14272"/>
                  <a:pt x="6052" y="142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9200" y="5330880"/>
            <a:ext cx="19080" cy="27000"/>
          </a:xfrm>
          <a:custGeom>
            <a:avLst/>
            <a:gdLst/>
            <a:ahLst/>
            <a:rect l="l" t="t" r="r" b="b"/>
            <a:pathLst>
              <a:path w="51" h="76">
                <a:moveTo>
                  <a:pt x="6722" y="14808"/>
                </a:moveTo>
                <a:cubicBezTo>
                  <a:pt x="6722" y="14890"/>
                  <a:pt x="6700" y="14893"/>
                  <a:pt x="6772" y="148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7840" y="5072040"/>
            <a:ext cx="144360" cy="303120"/>
          </a:xfrm>
          <a:custGeom>
            <a:avLst/>
            <a:gdLst/>
            <a:ahLst/>
            <a:rect l="l" t="t" r="r" b="b"/>
            <a:pathLst>
              <a:path w="398" h="844">
                <a:moveTo>
                  <a:pt x="7342" y="14288"/>
                </a:moveTo>
                <a:cubicBezTo>
                  <a:pt x="7424" y="14226"/>
                  <a:pt x="7394" y="14166"/>
                  <a:pt x="7342" y="14089"/>
                </a:cubicBezTo>
                <a:cubicBezTo>
                  <a:pt x="7191" y="14122"/>
                  <a:pt x="6886" y="14252"/>
                  <a:pt x="6995" y="14486"/>
                </a:cubicBezTo>
                <a:cubicBezTo>
                  <a:pt x="7101" y="14712"/>
                  <a:pt x="7318" y="14296"/>
                  <a:pt x="7342" y="14263"/>
                </a:cubicBezTo>
                <a:cubicBezTo>
                  <a:pt x="7350" y="14255"/>
                  <a:pt x="7359" y="14246"/>
                  <a:pt x="7367" y="14238"/>
                </a:cubicBezTo>
                <a:cubicBezTo>
                  <a:pt x="7394" y="14482"/>
                  <a:pt x="7384" y="14690"/>
                  <a:pt x="7342" y="149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87680" y="5419800"/>
            <a:ext cx="1250640" cy="108000"/>
          </a:xfrm>
          <a:custGeom>
            <a:avLst/>
            <a:gdLst/>
            <a:ahLst/>
            <a:rect l="l" t="t" r="r" b="b"/>
            <a:pathLst>
              <a:path w="3474" h="299">
                <a:moveTo>
                  <a:pt x="4713" y="15354"/>
                </a:moveTo>
                <a:cubicBezTo>
                  <a:pt x="4901" y="15348"/>
                  <a:pt x="5563" y="15302"/>
                  <a:pt x="5804" y="15280"/>
                </a:cubicBezTo>
                <a:cubicBezTo>
                  <a:pt x="6575" y="15210"/>
                  <a:pt x="7338" y="15081"/>
                  <a:pt x="8111" y="15056"/>
                </a:cubicBezTo>
                <a:cubicBezTo>
                  <a:pt x="8128" y="15056"/>
                  <a:pt x="8144" y="15056"/>
                  <a:pt x="8161" y="150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16120" y="5562720"/>
            <a:ext cx="125640" cy="215640"/>
          </a:xfrm>
          <a:custGeom>
            <a:avLst/>
            <a:gdLst/>
            <a:ahLst/>
            <a:rect l="l" t="t" r="r" b="b"/>
            <a:pathLst>
              <a:path w="348" h="597">
                <a:moveTo>
                  <a:pt x="7590" y="15627"/>
                </a:moveTo>
                <a:cubicBezTo>
                  <a:pt x="7615" y="15553"/>
                  <a:pt x="7623" y="15528"/>
                  <a:pt x="7590" y="15478"/>
                </a:cubicBezTo>
                <a:cubicBezTo>
                  <a:pt x="7396" y="15448"/>
                  <a:pt x="7268" y="15583"/>
                  <a:pt x="7268" y="15801"/>
                </a:cubicBezTo>
                <a:cubicBezTo>
                  <a:pt x="7268" y="15939"/>
                  <a:pt x="7454" y="15759"/>
                  <a:pt x="7541" y="15652"/>
                </a:cubicBezTo>
                <a:cubicBezTo>
                  <a:pt x="7549" y="15627"/>
                  <a:pt x="7557" y="15602"/>
                  <a:pt x="7565" y="15577"/>
                </a:cubicBezTo>
                <a:cubicBezTo>
                  <a:pt x="7552" y="15702"/>
                  <a:pt x="7574" y="15880"/>
                  <a:pt x="7541" y="15999"/>
                </a:cubicBezTo>
                <a:cubicBezTo>
                  <a:pt x="7506" y="15999"/>
                  <a:pt x="7493" y="16008"/>
                  <a:pt x="7491" y="160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84240" y="5653080"/>
            <a:ext cx="179640" cy="98280"/>
          </a:xfrm>
          <a:custGeom>
            <a:avLst/>
            <a:gdLst/>
            <a:ahLst/>
            <a:rect l="l" t="t" r="r" b="b"/>
            <a:pathLst>
              <a:path w="497" h="274">
                <a:moveTo>
                  <a:pt x="5283" y="15701"/>
                </a:moveTo>
                <a:cubicBezTo>
                  <a:pt x="5270" y="15795"/>
                  <a:pt x="5247" y="15880"/>
                  <a:pt x="5234" y="15974"/>
                </a:cubicBezTo>
                <a:cubicBezTo>
                  <a:pt x="5405" y="15964"/>
                  <a:pt x="5564" y="15925"/>
                  <a:pt x="5730" y="159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09880" y="5688000"/>
            <a:ext cx="1440" cy="152280"/>
          </a:xfrm>
          <a:custGeom>
            <a:avLst/>
            <a:gdLst/>
            <a:ahLst/>
            <a:rect l="l" t="t" r="r" b="b"/>
            <a:pathLst>
              <a:path w="1" h="422">
                <a:moveTo>
                  <a:pt x="5581" y="15801"/>
                </a:moveTo>
                <a:cubicBezTo>
                  <a:pt x="5581" y="15941"/>
                  <a:pt x="5581" y="16082"/>
                  <a:pt x="5581" y="162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5607000"/>
            <a:ext cx="179280" cy="216000"/>
          </a:xfrm>
          <a:custGeom>
            <a:avLst/>
            <a:gdLst/>
            <a:ahLst/>
            <a:rect l="l" t="t" r="r" b="b"/>
            <a:pathLst>
              <a:path w="497" h="597">
                <a:moveTo>
                  <a:pt x="6226" y="15577"/>
                </a:moveTo>
                <a:cubicBezTo>
                  <a:pt x="6163" y="15598"/>
                  <a:pt x="6033" y="15622"/>
                  <a:pt x="6003" y="15701"/>
                </a:cubicBezTo>
                <a:cubicBezTo>
                  <a:pt x="5971" y="15787"/>
                  <a:pt x="5953" y="15883"/>
                  <a:pt x="5953" y="15974"/>
                </a:cubicBezTo>
                <a:cubicBezTo>
                  <a:pt x="6068" y="15923"/>
                  <a:pt x="6255" y="15847"/>
                  <a:pt x="6375" y="15925"/>
                </a:cubicBezTo>
                <a:cubicBezTo>
                  <a:pt x="6638" y="16095"/>
                  <a:pt x="6119" y="16177"/>
                  <a:pt x="6052" y="16173"/>
                </a:cubicBezTo>
                <a:cubicBezTo>
                  <a:pt x="5953" y="16148"/>
                  <a:pt x="5920" y="16140"/>
                  <a:pt x="5928" y="160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62080" y="5884920"/>
            <a:ext cx="54000" cy="36360"/>
          </a:xfrm>
          <a:custGeom>
            <a:avLst/>
            <a:gdLst/>
            <a:ahLst/>
            <a:rect l="l" t="t" r="r" b="b"/>
            <a:pathLst>
              <a:path w="150" h="101">
                <a:moveTo>
                  <a:pt x="5779" y="16371"/>
                </a:moveTo>
                <a:cubicBezTo>
                  <a:pt x="5779" y="16319"/>
                  <a:pt x="5739" y="16415"/>
                  <a:pt x="5730" y="16446"/>
                </a:cubicBezTo>
                <a:cubicBezTo>
                  <a:pt x="5797" y="16437"/>
                  <a:pt x="5829" y="16445"/>
                  <a:pt x="5829" y="16371"/>
                </a:cubicBezTo>
                <a:cubicBezTo>
                  <a:pt x="5817" y="16374"/>
                  <a:pt x="5737" y="16429"/>
                  <a:pt x="5779" y="16446"/>
                </a:cubicBezTo>
                <a:cubicBezTo>
                  <a:pt x="5871" y="16483"/>
                  <a:pt x="5886" y="16360"/>
                  <a:pt x="5829" y="164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94000" y="4911840"/>
            <a:ext cx="7920" cy="17280"/>
          </a:xfrm>
          <a:custGeom>
            <a:avLst/>
            <a:gdLst/>
            <a:ahLst/>
            <a:rect l="l" t="t" r="r" b="b"/>
            <a:pathLst>
              <a:path w="25" h="50">
                <a:moveTo>
                  <a:pt x="6672" y="13667"/>
                </a:moveTo>
                <a:cubicBezTo>
                  <a:pt x="6656" y="13635"/>
                  <a:pt x="6661" y="13634"/>
                  <a:pt x="6648" y="13667"/>
                </a:cubicBezTo>
                <a:cubicBezTo>
                  <a:pt x="6648" y="13675"/>
                  <a:pt x="6648" y="13684"/>
                  <a:pt x="6648" y="136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4911840"/>
            <a:ext cx="330480" cy="115920"/>
          </a:xfrm>
          <a:custGeom>
            <a:avLst/>
            <a:gdLst/>
            <a:ahLst/>
            <a:rect l="l" t="t" r="r" b="b"/>
            <a:pathLst>
              <a:path w="918" h="323">
                <a:moveTo>
                  <a:pt x="6772" y="13717"/>
                </a:moveTo>
                <a:cubicBezTo>
                  <a:pt x="6779" y="13734"/>
                  <a:pt x="6810" y="13833"/>
                  <a:pt x="6821" y="13841"/>
                </a:cubicBezTo>
                <a:cubicBezTo>
                  <a:pt x="6839" y="13853"/>
                  <a:pt x="6963" y="13938"/>
                  <a:pt x="6970" y="13940"/>
                </a:cubicBezTo>
                <a:cubicBezTo>
                  <a:pt x="7021" y="13957"/>
                  <a:pt x="7062" y="13965"/>
                  <a:pt x="7119" y="13965"/>
                </a:cubicBezTo>
                <a:cubicBezTo>
                  <a:pt x="7211" y="13965"/>
                  <a:pt x="7289" y="13966"/>
                  <a:pt x="7367" y="13940"/>
                </a:cubicBezTo>
                <a:cubicBezTo>
                  <a:pt x="7404" y="13928"/>
                  <a:pt x="7481" y="13895"/>
                  <a:pt x="7491" y="13891"/>
                </a:cubicBezTo>
                <a:cubicBezTo>
                  <a:pt x="7534" y="13876"/>
                  <a:pt x="7555" y="13851"/>
                  <a:pt x="7590" y="13816"/>
                </a:cubicBezTo>
                <a:cubicBezTo>
                  <a:pt x="7616" y="13790"/>
                  <a:pt x="7637" y="13767"/>
                  <a:pt x="7640" y="13742"/>
                </a:cubicBezTo>
                <a:cubicBezTo>
                  <a:pt x="7645" y="13699"/>
                  <a:pt x="7681" y="13683"/>
                  <a:pt x="7689" y="13667"/>
                </a:cubicBezTo>
                <a:cubicBezTo>
                  <a:pt x="7689" y="13659"/>
                  <a:pt x="7689" y="13651"/>
                  <a:pt x="7689" y="136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5880" y="4643280"/>
            <a:ext cx="17280" cy="160560"/>
          </a:xfrm>
          <a:custGeom>
            <a:avLst/>
            <a:gdLst/>
            <a:ahLst/>
            <a:rect l="l" t="t" r="r" b="b"/>
            <a:pathLst>
              <a:path w="50" h="448">
                <a:moveTo>
                  <a:pt x="8731" y="12923"/>
                </a:moveTo>
                <a:cubicBezTo>
                  <a:pt x="8731" y="12845"/>
                  <a:pt x="8731" y="13145"/>
                  <a:pt x="8731" y="13146"/>
                </a:cubicBezTo>
                <a:cubicBezTo>
                  <a:pt x="8723" y="13197"/>
                  <a:pt x="8754" y="13225"/>
                  <a:pt x="8731" y="13271"/>
                </a:cubicBezTo>
                <a:cubicBezTo>
                  <a:pt x="8715" y="13296"/>
                  <a:pt x="8698" y="13320"/>
                  <a:pt x="8682" y="133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73200" y="5322960"/>
            <a:ext cx="331920" cy="133200"/>
          </a:xfrm>
          <a:custGeom>
            <a:avLst/>
            <a:gdLst/>
            <a:ahLst/>
            <a:rect l="l" t="t" r="r" b="b"/>
            <a:pathLst>
              <a:path w="919" h="373">
                <a:moveTo>
                  <a:pt x="6871" y="14858"/>
                </a:moveTo>
                <a:cubicBezTo>
                  <a:pt x="6886" y="14945"/>
                  <a:pt x="6929" y="14982"/>
                  <a:pt x="6970" y="15056"/>
                </a:cubicBezTo>
                <a:cubicBezTo>
                  <a:pt x="7024" y="15152"/>
                  <a:pt x="7113" y="15152"/>
                  <a:pt x="7218" y="15156"/>
                </a:cubicBezTo>
                <a:cubicBezTo>
                  <a:pt x="7328" y="15160"/>
                  <a:pt x="7440" y="15123"/>
                  <a:pt x="7541" y="15081"/>
                </a:cubicBezTo>
                <a:cubicBezTo>
                  <a:pt x="7597" y="15058"/>
                  <a:pt x="7686" y="14987"/>
                  <a:pt x="7714" y="14932"/>
                </a:cubicBezTo>
                <a:cubicBezTo>
                  <a:pt x="7720" y="14921"/>
                  <a:pt x="7734" y="14837"/>
                  <a:pt x="7739" y="14833"/>
                </a:cubicBezTo>
                <a:cubicBezTo>
                  <a:pt x="7764" y="14813"/>
                  <a:pt x="7757" y="14794"/>
                  <a:pt x="7789" y="147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78080" y="5037120"/>
            <a:ext cx="9720" cy="123840"/>
          </a:xfrm>
          <a:custGeom>
            <a:avLst/>
            <a:gdLst/>
            <a:ahLst/>
            <a:rect l="l" t="t" r="r" b="b"/>
            <a:pathLst>
              <a:path w="26" h="348">
                <a:moveTo>
                  <a:pt x="8855" y="14015"/>
                </a:moveTo>
                <a:cubicBezTo>
                  <a:pt x="8855" y="13923"/>
                  <a:pt x="8838" y="14147"/>
                  <a:pt x="8830" y="14238"/>
                </a:cubicBezTo>
                <a:cubicBezTo>
                  <a:pt x="8826" y="14279"/>
                  <a:pt x="8830" y="14353"/>
                  <a:pt x="8830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71880" y="4964040"/>
            <a:ext cx="1440" cy="73080"/>
          </a:xfrm>
          <a:custGeom>
            <a:avLst/>
            <a:gdLst/>
            <a:ahLst/>
            <a:rect l="l" t="t" r="r" b="b"/>
            <a:pathLst>
              <a:path w="1" h="200">
                <a:moveTo>
                  <a:pt x="8533" y="13791"/>
                </a:moveTo>
                <a:cubicBezTo>
                  <a:pt x="8533" y="13857"/>
                  <a:pt x="8533" y="13924"/>
                  <a:pt x="8533" y="139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09960" y="4991040"/>
            <a:ext cx="115920" cy="19080"/>
          </a:xfrm>
          <a:custGeom>
            <a:avLst/>
            <a:gdLst/>
            <a:ahLst/>
            <a:rect l="l" t="t" r="r" b="b"/>
            <a:pathLst>
              <a:path w="324" h="50">
                <a:moveTo>
                  <a:pt x="8359" y="13915"/>
                </a:moveTo>
                <a:cubicBezTo>
                  <a:pt x="8467" y="13894"/>
                  <a:pt x="8572" y="13866"/>
                  <a:pt x="8682" y="138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55960" y="5214960"/>
            <a:ext cx="393840" cy="63360"/>
          </a:xfrm>
          <a:custGeom>
            <a:avLst/>
            <a:gdLst/>
            <a:ahLst/>
            <a:rect l="l" t="t" r="r" b="b"/>
            <a:pathLst>
              <a:path w="1093" h="175">
                <a:moveTo>
                  <a:pt x="8210" y="14660"/>
                </a:moveTo>
                <a:cubicBezTo>
                  <a:pt x="8377" y="14660"/>
                  <a:pt x="8566" y="14611"/>
                  <a:pt x="8731" y="14585"/>
                </a:cubicBezTo>
                <a:cubicBezTo>
                  <a:pt x="8921" y="14555"/>
                  <a:pt x="9115" y="14517"/>
                  <a:pt x="9302" y="144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60800" y="5322960"/>
            <a:ext cx="162000" cy="187200"/>
          </a:xfrm>
          <a:custGeom>
            <a:avLst/>
            <a:gdLst/>
            <a:ahLst/>
            <a:rect l="l" t="t" r="r" b="b"/>
            <a:pathLst>
              <a:path w="447" h="521">
                <a:moveTo>
                  <a:pt x="8830" y="14883"/>
                </a:moveTo>
                <a:cubicBezTo>
                  <a:pt x="8802" y="14912"/>
                  <a:pt x="8824" y="14883"/>
                  <a:pt x="8855" y="14858"/>
                </a:cubicBezTo>
                <a:cubicBezTo>
                  <a:pt x="8904" y="14818"/>
                  <a:pt x="8946" y="14795"/>
                  <a:pt x="9004" y="14784"/>
                </a:cubicBezTo>
                <a:cubicBezTo>
                  <a:pt x="8976" y="14964"/>
                  <a:pt x="8915" y="15126"/>
                  <a:pt x="8806" y="15280"/>
                </a:cubicBezTo>
                <a:cubicBezTo>
                  <a:pt x="8798" y="15288"/>
                  <a:pt x="8789" y="15296"/>
                  <a:pt x="8781" y="15304"/>
                </a:cubicBezTo>
                <a:cubicBezTo>
                  <a:pt x="8867" y="15304"/>
                  <a:pt x="8903" y="15236"/>
                  <a:pt x="8979" y="15205"/>
                </a:cubicBezTo>
                <a:cubicBezTo>
                  <a:pt x="9045" y="15178"/>
                  <a:pt x="9131" y="15156"/>
                  <a:pt x="9203" y="15156"/>
                </a:cubicBezTo>
                <a:cubicBezTo>
                  <a:pt x="9211" y="15156"/>
                  <a:pt x="9219" y="15156"/>
                  <a:pt x="9227" y="151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4040" y="5572080"/>
            <a:ext cx="312840" cy="258840"/>
          </a:xfrm>
          <a:custGeom>
            <a:avLst/>
            <a:gdLst/>
            <a:ahLst/>
            <a:rect l="l" t="t" r="r" b="b"/>
            <a:pathLst>
              <a:path w="869" h="720">
                <a:moveTo>
                  <a:pt x="8880" y="15503"/>
                </a:moveTo>
                <a:cubicBezTo>
                  <a:pt x="8880" y="15495"/>
                  <a:pt x="8880" y="15486"/>
                  <a:pt x="8880" y="15478"/>
                </a:cubicBezTo>
                <a:cubicBezTo>
                  <a:pt x="8961" y="15505"/>
                  <a:pt x="8877" y="15673"/>
                  <a:pt x="8855" y="15726"/>
                </a:cubicBezTo>
                <a:cubicBezTo>
                  <a:pt x="8800" y="15860"/>
                  <a:pt x="8718" y="15945"/>
                  <a:pt x="8582" y="15999"/>
                </a:cubicBezTo>
                <a:cubicBezTo>
                  <a:pt x="8504" y="16030"/>
                  <a:pt x="8391" y="16060"/>
                  <a:pt x="8310" y="16073"/>
                </a:cubicBezTo>
                <a:cubicBezTo>
                  <a:pt x="8244" y="16084"/>
                  <a:pt x="8205" y="16055"/>
                  <a:pt x="8136" y="16073"/>
                </a:cubicBezTo>
                <a:cubicBezTo>
                  <a:pt x="8054" y="16095"/>
                  <a:pt x="8095" y="16023"/>
                  <a:pt x="8111" y="15974"/>
                </a:cubicBezTo>
                <a:cubicBezTo>
                  <a:pt x="8119" y="15949"/>
                  <a:pt x="8128" y="15925"/>
                  <a:pt x="8136" y="15900"/>
                </a:cubicBezTo>
                <a:cubicBezTo>
                  <a:pt x="8136" y="15892"/>
                  <a:pt x="8136" y="15883"/>
                  <a:pt x="8136" y="15875"/>
                </a:cubicBezTo>
                <a:cubicBezTo>
                  <a:pt x="8124" y="15935"/>
                  <a:pt x="8037" y="16031"/>
                  <a:pt x="8037" y="16073"/>
                </a:cubicBezTo>
                <a:cubicBezTo>
                  <a:pt x="8037" y="16184"/>
                  <a:pt x="8260" y="16218"/>
                  <a:pt x="8334" y="16197"/>
                </a:cubicBezTo>
                <a:cubicBezTo>
                  <a:pt x="8341" y="16195"/>
                  <a:pt x="8346" y="16173"/>
                  <a:pt x="8384" y="161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113 problems 2-12 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41720" y="2847960"/>
            <a:ext cx="4751280" cy="250920"/>
          </a:xfrm>
          <a:custGeom>
            <a:avLst/>
            <a:gdLst/>
            <a:ahLst/>
            <a:rect l="l" t="t" r="r" b="b"/>
            <a:pathLst>
              <a:path w="13197" h="695">
                <a:moveTo>
                  <a:pt x="6251" y="7987"/>
                </a:moveTo>
                <a:cubicBezTo>
                  <a:pt x="6303" y="7975"/>
                  <a:pt x="6297" y="7948"/>
                  <a:pt x="6350" y="7938"/>
                </a:cubicBezTo>
                <a:cubicBezTo>
                  <a:pt x="6422" y="7924"/>
                  <a:pt x="6499" y="7917"/>
                  <a:pt x="6573" y="7913"/>
                </a:cubicBezTo>
                <a:cubicBezTo>
                  <a:pt x="6722" y="7904"/>
                  <a:pt x="6876" y="7915"/>
                  <a:pt x="7020" y="7938"/>
                </a:cubicBezTo>
                <a:cubicBezTo>
                  <a:pt x="7120" y="7954"/>
                  <a:pt x="7216" y="7990"/>
                  <a:pt x="7317" y="8012"/>
                </a:cubicBezTo>
                <a:cubicBezTo>
                  <a:pt x="7457" y="8043"/>
                  <a:pt x="7598" y="8088"/>
                  <a:pt x="7739" y="8111"/>
                </a:cubicBezTo>
                <a:cubicBezTo>
                  <a:pt x="7837" y="8127"/>
                  <a:pt x="7940" y="8119"/>
                  <a:pt x="8037" y="8136"/>
                </a:cubicBezTo>
                <a:cubicBezTo>
                  <a:pt x="8115" y="8150"/>
                  <a:pt x="8183" y="8175"/>
                  <a:pt x="8260" y="8186"/>
                </a:cubicBezTo>
                <a:cubicBezTo>
                  <a:pt x="8375" y="8202"/>
                  <a:pt x="8485" y="8207"/>
                  <a:pt x="8607" y="8210"/>
                </a:cubicBezTo>
                <a:cubicBezTo>
                  <a:pt x="8760" y="8213"/>
                  <a:pt x="8904" y="8199"/>
                  <a:pt x="9054" y="8186"/>
                </a:cubicBezTo>
                <a:cubicBezTo>
                  <a:pt x="9170" y="8176"/>
                  <a:pt x="9285" y="8167"/>
                  <a:pt x="9401" y="8161"/>
                </a:cubicBezTo>
                <a:cubicBezTo>
                  <a:pt x="9494" y="8157"/>
                  <a:pt x="9598" y="8165"/>
                  <a:pt x="9699" y="8161"/>
                </a:cubicBezTo>
                <a:cubicBezTo>
                  <a:pt x="9836" y="8156"/>
                  <a:pt x="9961" y="8147"/>
                  <a:pt x="10096" y="8136"/>
                </a:cubicBezTo>
                <a:cubicBezTo>
                  <a:pt x="10214" y="8126"/>
                  <a:pt x="10327" y="8121"/>
                  <a:pt x="10443" y="8111"/>
                </a:cubicBezTo>
                <a:cubicBezTo>
                  <a:pt x="10618" y="8096"/>
                  <a:pt x="10790" y="8058"/>
                  <a:pt x="10964" y="8037"/>
                </a:cubicBezTo>
                <a:cubicBezTo>
                  <a:pt x="11085" y="8023"/>
                  <a:pt x="11215" y="8018"/>
                  <a:pt x="11336" y="8012"/>
                </a:cubicBezTo>
                <a:cubicBezTo>
                  <a:pt x="11718" y="7994"/>
                  <a:pt x="12104" y="8020"/>
                  <a:pt x="12477" y="8012"/>
                </a:cubicBezTo>
                <a:cubicBezTo>
                  <a:pt x="12640" y="8009"/>
                  <a:pt x="12791" y="8012"/>
                  <a:pt x="12948" y="8037"/>
                </a:cubicBezTo>
                <a:cubicBezTo>
                  <a:pt x="13061" y="8055"/>
                  <a:pt x="13185" y="8101"/>
                  <a:pt x="13295" y="8111"/>
                </a:cubicBezTo>
                <a:cubicBezTo>
                  <a:pt x="13575" y="8136"/>
                  <a:pt x="13865" y="8133"/>
                  <a:pt x="14139" y="8111"/>
                </a:cubicBezTo>
                <a:cubicBezTo>
                  <a:pt x="14294" y="8099"/>
                  <a:pt x="14432" y="8081"/>
                  <a:pt x="14585" y="8062"/>
                </a:cubicBezTo>
                <a:cubicBezTo>
                  <a:pt x="14687" y="8050"/>
                  <a:pt x="14778" y="8041"/>
                  <a:pt x="14883" y="8037"/>
                </a:cubicBezTo>
                <a:cubicBezTo>
                  <a:pt x="15133" y="8026"/>
                  <a:pt x="15361" y="8057"/>
                  <a:pt x="15602" y="8086"/>
                </a:cubicBezTo>
                <a:cubicBezTo>
                  <a:pt x="15734" y="8102"/>
                  <a:pt x="15865" y="8123"/>
                  <a:pt x="15999" y="8136"/>
                </a:cubicBezTo>
                <a:cubicBezTo>
                  <a:pt x="16221" y="8158"/>
                  <a:pt x="16446" y="8168"/>
                  <a:pt x="16669" y="8186"/>
                </a:cubicBezTo>
                <a:cubicBezTo>
                  <a:pt x="16884" y="8203"/>
                  <a:pt x="17102" y="8229"/>
                  <a:pt x="17314" y="8235"/>
                </a:cubicBezTo>
                <a:cubicBezTo>
                  <a:pt x="17801" y="8249"/>
                  <a:pt x="18292" y="8255"/>
                  <a:pt x="18777" y="8260"/>
                </a:cubicBezTo>
                <a:cubicBezTo>
                  <a:pt x="18992" y="8262"/>
                  <a:pt x="19009" y="8260"/>
                  <a:pt x="19224" y="8260"/>
                </a:cubicBezTo>
              </a:path>
              <a:path w="13197" h="695">
                <a:moveTo>
                  <a:pt x="14684" y="8334"/>
                </a:moveTo>
                <a:cubicBezTo>
                  <a:pt x="14800" y="8352"/>
                  <a:pt x="14914" y="8345"/>
                  <a:pt x="15032" y="8359"/>
                </a:cubicBezTo>
                <a:cubicBezTo>
                  <a:pt x="15262" y="8385"/>
                  <a:pt x="15496" y="8382"/>
                  <a:pt x="15726" y="8409"/>
                </a:cubicBezTo>
                <a:cubicBezTo>
                  <a:pt x="15908" y="8431"/>
                  <a:pt x="16092" y="8436"/>
                  <a:pt x="16272" y="8458"/>
                </a:cubicBezTo>
                <a:cubicBezTo>
                  <a:pt x="16413" y="8475"/>
                  <a:pt x="16553" y="8491"/>
                  <a:pt x="16694" y="8508"/>
                </a:cubicBezTo>
                <a:cubicBezTo>
                  <a:pt x="16793" y="8520"/>
                  <a:pt x="16891" y="8521"/>
                  <a:pt x="16991" y="8533"/>
                </a:cubicBezTo>
                <a:cubicBezTo>
                  <a:pt x="17092" y="8545"/>
                  <a:pt x="17185" y="8556"/>
                  <a:pt x="17289" y="8558"/>
                </a:cubicBezTo>
                <a:cubicBezTo>
                  <a:pt x="17457" y="8561"/>
                  <a:pt x="17620" y="8572"/>
                  <a:pt x="17785" y="8582"/>
                </a:cubicBezTo>
                <a:cubicBezTo>
                  <a:pt x="17892" y="8589"/>
                  <a:pt x="18002" y="8600"/>
                  <a:pt x="18107" y="8607"/>
                </a:cubicBezTo>
                <a:cubicBezTo>
                  <a:pt x="18542" y="8634"/>
                  <a:pt x="18986" y="8607"/>
                  <a:pt x="19422" y="8607"/>
                </a:cubicBezTo>
                <a:cubicBezTo>
                  <a:pt x="19384" y="8540"/>
                  <a:pt x="19394" y="8604"/>
                  <a:pt x="19323" y="84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Times New Roman"/>
              </a:rPr>
              <a:t>Unit 4 – Decimal Operations &amp; Percents</a:t>
            </a:r>
            <a:r>
              <a:rPr b="0" lang="en-US" sz="3600" spc="-1" strike="noStrike">
                <a:solidFill>
                  <a:srgbClr val="f6fca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Section 4.6 – Finding Perc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6510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101" y="18083"/>
                </a:moveTo>
                <a:lnTo>
                  <a:pt x="3101" y="1808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ill accurately determine a percent of a whol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“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of”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Percent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Equivalent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Times New Roman"/>
              </a:rPr>
              <a:t>Where in life will you encounter percents?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60840" y="1608120"/>
            <a:ext cx="581040" cy="312840"/>
          </a:xfrm>
          <a:custGeom>
            <a:avLst/>
            <a:gdLst/>
            <a:ahLst/>
            <a:rect l="l" t="t" r="r" b="b"/>
            <a:pathLst>
              <a:path w="1613" h="869">
                <a:moveTo>
                  <a:pt x="10666" y="4614"/>
                </a:moveTo>
                <a:cubicBezTo>
                  <a:pt x="10547" y="4614"/>
                  <a:pt x="10437" y="4595"/>
                  <a:pt x="10319" y="4589"/>
                </a:cubicBezTo>
                <a:cubicBezTo>
                  <a:pt x="10311" y="4589"/>
                  <a:pt x="10302" y="4589"/>
                  <a:pt x="10294" y="4589"/>
                </a:cubicBezTo>
                <a:cubicBezTo>
                  <a:pt x="10294" y="4713"/>
                  <a:pt x="10294" y="4837"/>
                  <a:pt x="10294" y="4961"/>
                </a:cubicBezTo>
                <a:cubicBezTo>
                  <a:pt x="10405" y="4924"/>
                  <a:pt x="10509" y="4808"/>
                  <a:pt x="10641" y="4887"/>
                </a:cubicBezTo>
                <a:cubicBezTo>
                  <a:pt x="10845" y="5009"/>
                  <a:pt x="10703" y="5245"/>
                  <a:pt x="10542" y="5308"/>
                </a:cubicBezTo>
                <a:cubicBezTo>
                  <a:pt x="10411" y="5360"/>
                  <a:pt x="10297" y="5313"/>
                  <a:pt x="10170" y="5283"/>
                </a:cubicBezTo>
              </a:path>
              <a:path w="1613" h="869">
                <a:moveTo>
                  <a:pt x="11112" y="4514"/>
                </a:moveTo>
                <a:cubicBezTo>
                  <a:pt x="10979" y="4574"/>
                  <a:pt x="10967" y="4646"/>
                  <a:pt x="10988" y="4787"/>
                </a:cubicBezTo>
                <a:cubicBezTo>
                  <a:pt x="11119" y="4777"/>
                  <a:pt x="11282" y="4760"/>
                  <a:pt x="11162" y="4589"/>
                </a:cubicBezTo>
                <a:cubicBezTo>
                  <a:pt x="11124" y="4535"/>
                  <a:pt x="11020" y="4542"/>
                  <a:pt x="11187" y="4490"/>
                </a:cubicBezTo>
                <a:cubicBezTo>
                  <a:pt x="11520" y="4386"/>
                  <a:pt x="11430" y="4794"/>
                  <a:pt x="11385" y="4961"/>
                </a:cubicBezTo>
                <a:cubicBezTo>
                  <a:pt x="11324" y="5145"/>
                  <a:pt x="11318" y="5182"/>
                  <a:pt x="11261" y="5283"/>
                </a:cubicBezTo>
              </a:path>
              <a:path w="1613" h="869">
                <a:moveTo>
                  <a:pt x="11609" y="5110"/>
                </a:moveTo>
                <a:cubicBezTo>
                  <a:pt x="11561" y="5205"/>
                  <a:pt x="11544" y="5234"/>
                  <a:pt x="11559" y="5308"/>
                </a:cubicBezTo>
                <a:cubicBezTo>
                  <a:pt x="11649" y="5347"/>
                  <a:pt x="11815" y="5336"/>
                  <a:pt x="11782" y="5184"/>
                </a:cubicBezTo>
                <a:cubicBezTo>
                  <a:pt x="11756" y="5067"/>
                  <a:pt x="11612" y="5118"/>
                  <a:pt x="11708" y="50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62640" y="1554120"/>
            <a:ext cx="358560" cy="446040"/>
          </a:xfrm>
          <a:custGeom>
            <a:avLst/>
            <a:gdLst/>
            <a:ahLst/>
            <a:rect l="l" t="t" r="r" b="b"/>
            <a:pathLst>
              <a:path w="993" h="1241">
                <a:moveTo>
                  <a:pt x="12923" y="4762"/>
                </a:moveTo>
                <a:cubicBezTo>
                  <a:pt x="12762" y="4727"/>
                  <a:pt x="12689" y="4904"/>
                  <a:pt x="12675" y="5060"/>
                </a:cubicBezTo>
                <a:cubicBezTo>
                  <a:pt x="12683" y="5093"/>
                  <a:pt x="12692" y="5126"/>
                  <a:pt x="12700" y="5159"/>
                </a:cubicBezTo>
                <a:cubicBezTo>
                  <a:pt x="12900" y="5169"/>
                  <a:pt x="13158" y="5167"/>
                  <a:pt x="13022" y="4887"/>
                </a:cubicBezTo>
                <a:cubicBezTo>
                  <a:pt x="12961" y="4825"/>
                  <a:pt x="12955" y="4800"/>
                  <a:pt x="12898" y="4812"/>
                </a:cubicBezTo>
              </a:path>
              <a:path w="993" h="1241">
                <a:moveTo>
                  <a:pt x="13593" y="4415"/>
                </a:moveTo>
                <a:cubicBezTo>
                  <a:pt x="13530" y="4332"/>
                  <a:pt x="13440" y="4254"/>
                  <a:pt x="13345" y="4366"/>
                </a:cubicBezTo>
                <a:cubicBezTo>
                  <a:pt x="13215" y="4519"/>
                  <a:pt x="13308" y="4858"/>
                  <a:pt x="13345" y="5035"/>
                </a:cubicBezTo>
                <a:cubicBezTo>
                  <a:pt x="13360" y="5107"/>
                  <a:pt x="13403" y="5118"/>
                  <a:pt x="13370" y="5135"/>
                </a:cubicBezTo>
              </a:path>
              <a:path w="993" h="1241">
                <a:moveTo>
                  <a:pt x="13097" y="4787"/>
                </a:moveTo>
                <a:cubicBezTo>
                  <a:pt x="13289" y="4761"/>
                  <a:pt x="13473" y="4738"/>
                  <a:pt x="13667" y="4738"/>
                </a:cubicBezTo>
              </a:path>
              <a:path w="993" h="1241">
                <a:moveTo>
                  <a:pt x="12799" y="5457"/>
                </a:moveTo>
                <a:cubicBezTo>
                  <a:pt x="12799" y="5432"/>
                  <a:pt x="12799" y="5424"/>
                  <a:pt x="12799" y="5407"/>
                </a:cubicBezTo>
                <a:cubicBezTo>
                  <a:pt x="12942" y="5394"/>
                  <a:pt x="13077" y="5362"/>
                  <a:pt x="13221" y="5358"/>
                </a:cubicBezTo>
                <a:cubicBezTo>
                  <a:pt x="13278" y="5357"/>
                  <a:pt x="13355" y="5337"/>
                  <a:pt x="13370" y="5383"/>
                </a:cubicBezTo>
              </a:path>
              <a:path w="993" h="1241">
                <a:moveTo>
                  <a:pt x="12799" y="5507"/>
                </a:moveTo>
                <a:cubicBezTo>
                  <a:pt x="12929" y="5488"/>
                  <a:pt x="13064" y="5465"/>
                  <a:pt x="13196" y="5457"/>
                </a:cubicBezTo>
                <a:cubicBezTo>
                  <a:pt x="13307" y="5451"/>
                  <a:pt x="13379" y="5459"/>
                  <a:pt x="13469" y="5482"/>
                </a:cubicBezTo>
              </a:path>
              <a:path w="993" h="1241">
                <a:moveTo>
                  <a:pt x="12874" y="5556"/>
                </a:moveTo>
                <a:cubicBezTo>
                  <a:pt x="13050" y="5556"/>
                  <a:pt x="13220" y="5535"/>
                  <a:pt x="13395" y="5531"/>
                </a:cubicBezTo>
                <a:cubicBezTo>
                  <a:pt x="13467" y="5529"/>
                  <a:pt x="13516" y="5514"/>
                  <a:pt x="13543" y="55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99040" y="1562040"/>
            <a:ext cx="393840" cy="322200"/>
          </a:xfrm>
          <a:custGeom>
            <a:avLst/>
            <a:gdLst/>
            <a:ahLst/>
            <a:rect l="l" t="t" r="r" b="b"/>
            <a:pathLst>
              <a:path w="1093" h="894">
                <a:moveTo>
                  <a:pt x="14288" y="4539"/>
                </a:moveTo>
                <a:cubicBezTo>
                  <a:pt x="14437" y="4454"/>
                  <a:pt x="14666" y="4340"/>
                  <a:pt x="14684" y="4638"/>
                </a:cubicBezTo>
                <a:cubicBezTo>
                  <a:pt x="14698" y="4874"/>
                  <a:pt x="14507" y="5207"/>
                  <a:pt x="14238" y="5110"/>
                </a:cubicBezTo>
                <a:cubicBezTo>
                  <a:pt x="14182" y="5054"/>
                  <a:pt x="14157" y="5057"/>
                  <a:pt x="14163" y="5011"/>
                </a:cubicBezTo>
                <a:cubicBezTo>
                  <a:pt x="14327" y="4974"/>
                  <a:pt x="14514" y="4911"/>
                  <a:pt x="14660" y="5035"/>
                </a:cubicBezTo>
                <a:cubicBezTo>
                  <a:pt x="14702" y="5099"/>
                  <a:pt x="14718" y="5110"/>
                  <a:pt x="14709" y="5159"/>
                </a:cubicBezTo>
              </a:path>
              <a:path w="1093" h="894">
                <a:moveTo>
                  <a:pt x="14932" y="4490"/>
                </a:moveTo>
                <a:cubicBezTo>
                  <a:pt x="14932" y="4579"/>
                  <a:pt x="14899" y="4793"/>
                  <a:pt x="14982" y="4862"/>
                </a:cubicBezTo>
                <a:cubicBezTo>
                  <a:pt x="15104" y="4964"/>
                  <a:pt x="15161" y="4885"/>
                  <a:pt x="15255" y="4812"/>
                </a:cubicBezTo>
              </a:path>
              <a:path w="1093" h="894">
                <a:moveTo>
                  <a:pt x="15156" y="4341"/>
                </a:moveTo>
                <a:cubicBezTo>
                  <a:pt x="15173" y="4573"/>
                  <a:pt x="15180" y="4801"/>
                  <a:pt x="15180" y="5035"/>
                </a:cubicBezTo>
                <a:cubicBezTo>
                  <a:pt x="15180" y="5086"/>
                  <a:pt x="15154" y="5217"/>
                  <a:pt x="15205" y="52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16680" y="2438280"/>
            <a:ext cx="1260360" cy="169920"/>
          </a:xfrm>
          <a:custGeom>
            <a:avLst/>
            <a:gdLst/>
            <a:ahLst/>
            <a:rect l="l" t="t" r="r" b="b"/>
            <a:pathLst>
              <a:path w="3499" h="472">
                <a:moveTo>
                  <a:pt x="14288" y="6772"/>
                </a:moveTo>
                <a:cubicBezTo>
                  <a:pt x="14278" y="6925"/>
                  <a:pt x="14243" y="7069"/>
                  <a:pt x="14213" y="7218"/>
                </a:cubicBezTo>
                <a:cubicBezTo>
                  <a:pt x="14213" y="7226"/>
                  <a:pt x="14213" y="7235"/>
                  <a:pt x="14213" y="7243"/>
                </a:cubicBezTo>
              </a:path>
              <a:path w="3499" h="472">
                <a:moveTo>
                  <a:pt x="17636" y="6846"/>
                </a:moveTo>
                <a:cubicBezTo>
                  <a:pt x="17685" y="6797"/>
                  <a:pt x="17704" y="6860"/>
                  <a:pt x="17686" y="68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91040" y="2214720"/>
            <a:ext cx="1893960" cy="393480"/>
          </a:xfrm>
          <a:custGeom>
            <a:avLst/>
            <a:gdLst/>
            <a:ahLst/>
            <a:rect l="l" t="t" r="r" b="b"/>
            <a:pathLst>
              <a:path w="5259" h="1092">
                <a:moveTo>
                  <a:pt x="14709" y="6176"/>
                </a:moveTo>
                <a:cubicBezTo>
                  <a:pt x="14727" y="6124"/>
                  <a:pt x="14652" y="6152"/>
                  <a:pt x="14585" y="6152"/>
                </a:cubicBezTo>
                <a:cubicBezTo>
                  <a:pt x="14528" y="6152"/>
                  <a:pt x="14515" y="6254"/>
                  <a:pt x="14511" y="6300"/>
                </a:cubicBezTo>
                <a:cubicBezTo>
                  <a:pt x="14511" y="6325"/>
                  <a:pt x="14511" y="6333"/>
                  <a:pt x="14511" y="6350"/>
                </a:cubicBezTo>
                <a:cubicBezTo>
                  <a:pt x="14583" y="6350"/>
                  <a:pt x="14670" y="6336"/>
                  <a:pt x="14734" y="6375"/>
                </a:cubicBezTo>
                <a:cubicBezTo>
                  <a:pt x="14832" y="6435"/>
                  <a:pt x="14838" y="6551"/>
                  <a:pt x="14734" y="6598"/>
                </a:cubicBezTo>
                <a:cubicBezTo>
                  <a:pt x="14615" y="6652"/>
                  <a:pt x="14542" y="6613"/>
                  <a:pt x="14461" y="6573"/>
                </a:cubicBezTo>
              </a:path>
              <a:path w="5259" h="1092">
                <a:moveTo>
                  <a:pt x="13866" y="6672"/>
                </a:moveTo>
                <a:cubicBezTo>
                  <a:pt x="14038" y="6696"/>
                  <a:pt x="14212" y="6706"/>
                  <a:pt x="14387" y="6722"/>
                </a:cubicBezTo>
                <a:cubicBezTo>
                  <a:pt x="14718" y="6752"/>
                  <a:pt x="15047" y="6747"/>
                  <a:pt x="15379" y="6747"/>
                </a:cubicBezTo>
                <a:cubicBezTo>
                  <a:pt x="15478" y="6747"/>
                  <a:pt x="15495" y="6747"/>
                  <a:pt x="15553" y="6747"/>
                </a:cubicBezTo>
              </a:path>
              <a:path w="5259" h="1092">
                <a:moveTo>
                  <a:pt x="15974" y="6672"/>
                </a:moveTo>
                <a:cubicBezTo>
                  <a:pt x="16084" y="6660"/>
                  <a:pt x="16184" y="6627"/>
                  <a:pt x="16297" y="6623"/>
                </a:cubicBezTo>
                <a:cubicBezTo>
                  <a:pt x="16390" y="6619"/>
                  <a:pt x="16362" y="6605"/>
                  <a:pt x="16321" y="6697"/>
                </a:cubicBezTo>
              </a:path>
              <a:path w="5259" h="1092">
                <a:moveTo>
                  <a:pt x="16024" y="6871"/>
                </a:moveTo>
                <a:cubicBezTo>
                  <a:pt x="16151" y="6847"/>
                  <a:pt x="16267" y="6846"/>
                  <a:pt x="16396" y="6846"/>
                </a:cubicBezTo>
                <a:cubicBezTo>
                  <a:pt x="16404" y="6846"/>
                  <a:pt x="16413" y="6846"/>
                  <a:pt x="16421" y="6846"/>
                </a:cubicBezTo>
              </a:path>
              <a:path w="5259" h="1092">
                <a:moveTo>
                  <a:pt x="17314" y="6424"/>
                </a:moveTo>
                <a:cubicBezTo>
                  <a:pt x="17308" y="6405"/>
                  <a:pt x="17292" y="6369"/>
                  <a:pt x="17264" y="6375"/>
                </a:cubicBezTo>
                <a:cubicBezTo>
                  <a:pt x="17126" y="6406"/>
                  <a:pt x="17077" y="6549"/>
                  <a:pt x="17041" y="6672"/>
                </a:cubicBezTo>
                <a:cubicBezTo>
                  <a:pt x="17017" y="6752"/>
                  <a:pt x="16999" y="6953"/>
                  <a:pt x="17115" y="6995"/>
                </a:cubicBezTo>
                <a:cubicBezTo>
                  <a:pt x="17236" y="7039"/>
                  <a:pt x="17390" y="6923"/>
                  <a:pt x="17438" y="6821"/>
                </a:cubicBezTo>
                <a:cubicBezTo>
                  <a:pt x="17482" y="6726"/>
                  <a:pt x="17417" y="6608"/>
                  <a:pt x="17363" y="6524"/>
                </a:cubicBezTo>
                <a:cubicBezTo>
                  <a:pt x="17336" y="6483"/>
                  <a:pt x="17286" y="6429"/>
                  <a:pt x="17239" y="6424"/>
                </a:cubicBezTo>
                <a:cubicBezTo>
                  <a:pt x="17214" y="6424"/>
                  <a:pt x="17206" y="6424"/>
                  <a:pt x="17214" y="6400"/>
                </a:cubicBezTo>
              </a:path>
              <a:path w="5259" h="1092">
                <a:moveTo>
                  <a:pt x="18256" y="6350"/>
                </a:moveTo>
                <a:cubicBezTo>
                  <a:pt x="18210" y="6335"/>
                  <a:pt x="18190" y="6291"/>
                  <a:pt x="18132" y="6375"/>
                </a:cubicBezTo>
                <a:cubicBezTo>
                  <a:pt x="18054" y="6488"/>
                  <a:pt x="18033" y="6663"/>
                  <a:pt x="18058" y="6796"/>
                </a:cubicBezTo>
                <a:cubicBezTo>
                  <a:pt x="18082" y="6922"/>
                  <a:pt x="18270" y="6921"/>
                  <a:pt x="18355" y="6871"/>
                </a:cubicBezTo>
                <a:cubicBezTo>
                  <a:pt x="18476" y="6800"/>
                  <a:pt x="18511" y="6645"/>
                  <a:pt x="18455" y="6524"/>
                </a:cubicBezTo>
                <a:cubicBezTo>
                  <a:pt x="18422" y="6454"/>
                  <a:pt x="18351" y="6392"/>
                  <a:pt x="18281" y="6375"/>
                </a:cubicBezTo>
              </a:path>
              <a:path w="5259" h="1092">
                <a:moveTo>
                  <a:pt x="19025" y="6201"/>
                </a:moveTo>
                <a:cubicBezTo>
                  <a:pt x="18977" y="6177"/>
                  <a:pt x="18857" y="6201"/>
                  <a:pt x="18777" y="6201"/>
                </a:cubicBezTo>
                <a:cubicBezTo>
                  <a:pt x="18711" y="6201"/>
                  <a:pt x="18729" y="6387"/>
                  <a:pt x="18728" y="6424"/>
                </a:cubicBezTo>
                <a:cubicBezTo>
                  <a:pt x="18727" y="6465"/>
                  <a:pt x="18728" y="6507"/>
                  <a:pt x="18728" y="6548"/>
                </a:cubicBezTo>
                <a:cubicBezTo>
                  <a:pt x="18776" y="6536"/>
                  <a:pt x="18801" y="6495"/>
                  <a:pt x="18852" y="6474"/>
                </a:cubicBezTo>
                <a:cubicBezTo>
                  <a:pt x="18958" y="6430"/>
                  <a:pt x="19028" y="6455"/>
                  <a:pt x="19100" y="6548"/>
                </a:cubicBezTo>
                <a:cubicBezTo>
                  <a:pt x="19150" y="6613"/>
                  <a:pt x="19123" y="6753"/>
                  <a:pt x="19050" y="6796"/>
                </a:cubicBezTo>
                <a:cubicBezTo>
                  <a:pt x="18951" y="6855"/>
                  <a:pt x="18850" y="6805"/>
                  <a:pt x="18752" y="6796"/>
                </a:cubicBezTo>
                <a:cubicBezTo>
                  <a:pt x="18724" y="6796"/>
                  <a:pt x="18714" y="6794"/>
                  <a:pt x="18703" y="6772"/>
                </a:cubicBezTo>
              </a:path>
              <a:path w="5259" h="1092">
                <a:moveTo>
                  <a:pt x="17214" y="7243"/>
                </a:moveTo>
                <a:cubicBezTo>
                  <a:pt x="17247" y="7229"/>
                  <a:pt x="17254" y="7202"/>
                  <a:pt x="17338" y="7218"/>
                </a:cubicBezTo>
                <a:cubicBezTo>
                  <a:pt x="17434" y="7237"/>
                  <a:pt x="17511" y="7243"/>
                  <a:pt x="17611" y="7243"/>
                </a:cubicBezTo>
                <a:cubicBezTo>
                  <a:pt x="17693" y="7243"/>
                  <a:pt x="17760" y="7228"/>
                  <a:pt x="17835" y="7218"/>
                </a:cubicBezTo>
                <a:cubicBezTo>
                  <a:pt x="17932" y="7205"/>
                  <a:pt x="18034" y="7196"/>
                  <a:pt x="18132" y="7193"/>
                </a:cubicBezTo>
                <a:cubicBezTo>
                  <a:pt x="18293" y="7188"/>
                  <a:pt x="18446" y="7184"/>
                  <a:pt x="18604" y="7169"/>
                </a:cubicBezTo>
                <a:cubicBezTo>
                  <a:pt x="18717" y="7158"/>
                  <a:pt x="18837" y="7169"/>
                  <a:pt x="18951" y="71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8080" y="2089080"/>
            <a:ext cx="492120" cy="403200"/>
          </a:xfrm>
          <a:custGeom>
            <a:avLst/>
            <a:gdLst/>
            <a:ahLst/>
            <a:rect l="l" t="t" r="r" b="b"/>
            <a:pathLst>
              <a:path w="1365" h="1118">
                <a:moveTo>
                  <a:pt x="12080" y="5804"/>
                </a:moveTo>
                <a:cubicBezTo>
                  <a:pt x="12150" y="5875"/>
                  <a:pt x="12233" y="5984"/>
                  <a:pt x="12303" y="6077"/>
                </a:cubicBezTo>
                <a:cubicBezTo>
                  <a:pt x="12433" y="6250"/>
                  <a:pt x="12571" y="6400"/>
                  <a:pt x="12750" y="6524"/>
                </a:cubicBezTo>
                <a:cubicBezTo>
                  <a:pt x="12874" y="6609"/>
                  <a:pt x="13046" y="6653"/>
                  <a:pt x="13196" y="6672"/>
                </a:cubicBezTo>
                <a:cubicBezTo>
                  <a:pt x="13262" y="6672"/>
                  <a:pt x="13279" y="6672"/>
                  <a:pt x="13320" y="6672"/>
                </a:cubicBezTo>
              </a:path>
              <a:path w="1365" h="1118">
                <a:moveTo>
                  <a:pt x="13097" y="6375"/>
                </a:moveTo>
                <a:cubicBezTo>
                  <a:pt x="13223" y="6422"/>
                  <a:pt x="13358" y="6512"/>
                  <a:pt x="13444" y="6623"/>
                </a:cubicBezTo>
                <a:cubicBezTo>
                  <a:pt x="13499" y="6694"/>
                  <a:pt x="13275" y="6793"/>
                  <a:pt x="13271" y="6796"/>
                </a:cubicBezTo>
                <a:cubicBezTo>
                  <a:pt x="13189" y="6857"/>
                  <a:pt x="13166" y="6862"/>
                  <a:pt x="13146" y="69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14960" y="2490840"/>
            <a:ext cx="303120" cy="125280"/>
          </a:xfrm>
          <a:custGeom>
            <a:avLst/>
            <a:gdLst/>
            <a:ahLst/>
            <a:rect l="l" t="t" r="r" b="b"/>
            <a:pathLst>
              <a:path w="844" h="348">
                <a:moveTo>
                  <a:pt x="14635" y="6945"/>
                </a:moveTo>
                <a:cubicBezTo>
                  <a:pt x="14603" y="6854"/>
                  <a:pt x="14519" y="7048"/>
                  <a:pt x="14511" y="7069"/>
                </a:cubicBezTo>
                <a:cubicBezTo>
                  <a:pt x="14503" y="7102"/>
                  <a:pt x="14494" y="7136"/>
                  <a:pt x="14486" y="7169"/>
                </a:cubicBezTo>
                <a:cubicBezTo>
                  <a:pt x="14595" y="7230"/>
                  <a:pt x="14722" y="7271"/>
                  <a:pt x="14784" y="7119"/>
                </a:cubicBezTo>
                <a:cubicBezTo>
                  <a:pt x="14850" y="6957"/>
                  <a:pt x="14692" y="6978"/>
                  <a:pt x="14635" y="6921"/>
                </a:cubicBezTo>
                <a:cubicBezTo>
                  <a:pt x="14643" y="6921"/>
                  <a:pt x="14652" y="6921"/>
                  <a:pt x="14660" y="6921"/>
                </a:cubicBezTo>
              </a:path>
              <a:path w="844" h="348">
                <a:moveTo>
                  <a:pt x="15180" y="6945"/>
                </a:moveTo>
                <a:cubicBezTo>
                  <a:pt x="15098" y="6966"/>
                  <a:pt x="15030" y="7089"/>
                  <a:pt x="15007" y="7169"/>
                </a:cubicBezTo>
                <a:cubicBezTo>
                  <a:pt x="15007" y="7194"/>
                  <a:pt x="15007" y="7218"/>
                  <a:pt x="15007" y="7243"/>
                </a:cubicBezTo>
                <a:cubicBezTo>
                  <a:pt x="15102" y="7269"/>
                  <a:pt x="15304" y="7300"/>
                  <a:pt x="15329" y="7144"/>
                </a:cubicBezTo>
                <a:cubicBezTo>
                  <a:pt x="15346" y="7036"/>
                  <a:pt x="15295" y="7029"/>
                  <a:pt x="15230" y="70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24120" y="2286000"/>
            <a:ext cx="792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7565" y="6350"/>
                </a:moveTo>
                <a:cubicBezTo>
                  <a:pt x="7573" y="6358"/>
                  <a:pt x="7582" y="6367"/>
                  <a:pt x="7590" y="63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0240" y="2152800"/>
            <a:ext cx="1312920" cy="884160"/>
          </a:xfrm>
          <a:custGeom>
            <a:avLst/>
            <a:gdLst/>
            <a:ahLst/>
            <a:rect l="l" t="t" r="r" b="b"/>
            <a:pathLst>
              <a:path w="3647" h="2457">
                <a:moveTo>
                  <a:pt x="5135" y="6449"/>
                </a:moveTo>
                <a:cubicBezTo>
                  <a:pt x="5074" y="6469"/>
                  <a:pt x="5110" y="6657"/>
                  <a:pt x="5110" y="6722"/>
                </a:cubicBezTo>
                <a:cubicBezTo>
                  <a:pt x="5110" y="6774"/>
                  <a:pt x="5109" y="6792"/>
                  <a:pt x="5085" y="6821"/>
                </a:cubicBezTo>
                <a:cubicBezTo>
                  <a:pt x="5085" y="6725"/>
                  <a:pt x="5082" y="6641"/>
                  <a:pt x="5110" y="6548"/>
                </a:cubicBezTo>
                <a:cubicBezTo>
                  <a:pt x="5142" y="6440"/>
                  <a:pt x="5247" y="6355"/>
                  <a:pt x="5358" y="6400"/>
                </a:cubicBezTo>
                <a:cubicBezTo>
                  <a:pt x="5485" y="6452"/>
                  <a:pt x="5498" y="6631"/>
                  <a:pt x="5507" y="6747"/>
                </a:cubicBezTo>
                <a:cubicBezTo>
                  <a:pt x="5507" y="6763"/>
                  <a:pt x="5507" y="6780"/>
                  <a:pt x="5507" y="6796"/>
                </a:cubicBezTo>
                <a:cubicBezTo>
                  <a:pt x="5507" y="6679"/>
                  <a:pt x="5473" y="6544"/>
                  <a:pt x="5556" y="6449"/>
                </a:cubicBezTo>
                <a:cubicBezTo>
                  <a:pt x="5654" y="6338"/>
                  <a:pt x="5772" y="6376"/>
                  <a:pt x="5829" y="6499"/>
                </a:cubicBezTo>
                <a:cubicBezTo>
                  <a:pt x="5896" y="6643"/>
                  <a:pt x="5900" y="6748"/>
                  <a:pt x="5879" y="6896"/>
                </a:cubicBezTo>
              </a:path>
              <a:path w="3647" h="2457">
                <a:moveTo>
                  <a:pt x="6152" y="6424"/>
                </a:moveTo>
                <a:cubicBezTo>
                  <a:pt x="6139" y="6556"/>
                  <a:pt x="6084" y="6686"/>
                  <a:pt x="6102" y="6821"/>
                </a:cubicBezTo>
                <a:cubicBezTo>
                  <a:pt x="6120" y="6955"/>
                  <a:pt x="6327" y="6902"/>
                  <a:pt x="6375" y="6821"/>
                </a:cubicBezTo>
                <a:cubicBezTo>
                  <a:pt x="6429" y="6729"/>
                  <a:pt x="6439" y="6603"/>
                  <a:pt x="6449" y="6499"/>
                </a:cubicBezTo>
                <a:cubicBezTo>
                  <a:pt x="6449" y="6604"/>
                  <a:pt x="6477" y="6719"/>
                  <a:pt x="6499" y="6821"/>
                </a:cubicBezTo>
                <a:cubicBezTo>
                  <a:pt x="6514" y="6894"/>
                  <a:pt x="6504" y="6930"/>
                  <a:pt x="6548" y="6945"/>
                </a:cubicBezTo>
              </a:path>
              <a:path w="3647" h="2457">
                <a:moveTo>
                  <a:pt x="6871" y="6028"/>
                </a:moveTo>
                <a:cubicBezTo>
                  <a:pt x="6871" y="6245"/>
                  <a:pt x="6886" y="6457"/>
                  <a:pt x="6896" y="6672"/>
                </a:cubicBezTo>
                <a:cubicBezTo>
                  <a:pt x="6902" y="6794"/>
                  <a:pt x="6903" y="6804"/>
                  <a:pt x="6921" y="6896"/>
                </a:cubicBezTo>
              </a:path>
              <a:path w="3647" h="2457">
                <a:moveTo>
                  <a:pt x="7243" y="5978"/>
                </a:moveTo>
                <a:cubicBezTo>
                  <a:pt x="7269" y="6182"/>
                  <a:pt x="7281" y="6390"/>
                  <a:pt x="7268" y="6598"/>
                </a:cubicBezTo>
                <a:cubicBezTo>
                  <a:pt x="7262" y="6689"/>
                  <a:pt x="7243" y="6913"/>
                  <a:pt x="7243" y="6821"/>
                </a:cubicBezTo>
              </a:path>
              <a:path w="3647" h="2457">
                <a:moveTo>
                  <a:pt x="7020" y="6548"/>
                </a:moveTo>
                <a:cubicBezTo>
                  <a:pt x="7171" y="6525"/>
                  <a:pt x="7411" y="6454"/>
                  <a:pt x="7516" y="6598"/>
                </a:cubicBezTo>
                <a:cubicBezTo>
                  <a:pt x="7580" y="6685"/>
                  <a:pt x="7565" y="6773"/>
                  <a:pt x="7565" y="6871"/>
                </a:cubicBezTo>
              </a:path>
              <a:path w="3647" h="2457">
                <a:moveTo>
                  <a:pt x="7863" y="6672"/>
                </a:moveTo>
                <a:cubicBezTo>
                  <a:pt x="7863" y="6846"/>
                  <a:pt x="7863" y="7019"/>
                  <a:pt x="7863" y="7193"/>
                </a:cubicBezTo>
                <a:cubicBezTo>
                  <a:pt x="7759" y="7069"/>
                  <a:pt x="7740" y="6798"/>
                  <a:pt x="7764" y="6623"/>
                </a:cubicBezTo>
                <a:cubicBezTo>
                  <a:pt x="7811" y="6481"/>
                  <a:pt x="7820" y="6434"/>
                  <a:pt x="7938" y="6424"/>
                </a:cubicBezTo>
                <a:cubicBezTo>
                  <a:pt x="8043" y="6520"/>
                  <a:pt x="8349" y="6808"/>
                  <a:pt x="8037" y="6896"/>
                </a:cubicBezTo>
                <a:cubicBezTo>
                  <a:pt x="7870" y="6943"/>
                  <a:pt x="7851" y="6881"/>
                  <a:pt x="7863" y="6772"/>
                </a:cubicBezTo>
              </a:path>
              <a:path w="3647" h="2457">
                <a:moveTo>
                  <a:pt x="8235" y="6102"/>
                </a:moveTo>
                <a:cubicBezTo>
                  <a:pt x="8271" y="6314"/>
                  <a:pt x="8316" y="6528"/>
                  <a:pt x="8334" y="6747"/>
                </a:cubicBezTo>
                <a:cubicBezTo>
                  <a:pt x="8334" y="6808"/>
                  <a:pt x="8325" y="6842"/>
                  <a:pt x="8359" y="6796"/>
                </a:cubicBezTo>
              </a:path>
              <a:path w="3647" h="2457">
                <a:moveTo>
                  <a:pt x="8533" y="6499"/>
                </a:moveTo>
                <a:cubicBezTo>
                  <a:pt x="8518" y="6604"/>
                  <a:pt x="8480" y="6726"/>
                  <a:pt x="8558" y="6821"/>
                </a:cubicBezTo>
                <a:cubicBezTo>
                  <a:pt x="8574" y="6829"/>
                  <a:pt x="8591" y="6838"/>
                  <a:pt x="8607" y="6846"/>
                </a:cubicBezTo>
                <a:cubicBezTo>
                  <a:pt x="8697" y="6749"/>
                  <a:pt x="8731" y="6690"/>
                  <a:pt x="8731" y="6548"/>
                </a:cubicBezTo>
                <a:cubicBezTo>
                  <a:pt x="8731" y="6556"/>
                  <a:pt x="8731" y="6565"/>
                  <a:pt x="8731" y="6573"/>
                </a:cubicBezTo>
                <a:cubicBezTo>
                  <a:pt x="8731" y="6823"/>
                  <a:pt x="8777" y="7144"/>
                  <a:pt x="8632" y="7367"/>
                </a:cubicBezTo>
                <a:cubicBezTo>
                  <a:pt x="8483" y="7597"/>
                  <a:pt x="8212" y="7424"/>
                  <a:pt x="8062" y="7317"/>
                </a:cubicBezTo>
              </a:path>
              <a:path w="3647" h="2457">
                <a:moveTo>
                  <a:pt x="6970" y="7714"/>
                </a:moveTo>
                <a:cubicBezTo>
                  <a:pt x="6982" y="7930"/>
                  <a:pt x="7032" y="8170"/>
                  <a:pt x="7020" y="8384"/>
                </a:cubicBezTo>
                <a:cubicBezTo>
                  <a:pt x="7012" y="8401"/>
                  <a:pt x="7003" y="8417"/>
                  <a:pt x="6995" y="8434"/>
                </a:cubicBezTo>
                <a:cubicBezTo>
                  <a:pt x="6882" y="8283"/>
                  <a:pt x="6826" y="8055"/>
                  <a:pt x="6846" y="7863"/>
                </a:cubicBezTo>
                <a:cubicBezTo>
                  <a:pt x="6865" y="7684"/>
                  <a:pt x="6965" y="7648"/>
                  <a:pt x="7094" y="7590"/>
                </a:cubicBezTo>
                <a:cubicBezTo>
                  <a:pt x="7211" y="7668"/>
                  <a:pt x="7458" y="7891"/>
                  <a:pt x="7193" y="8012"/>
                </a:cubicBezTo>
                <a:cubicBezTo>
                  <a:pt x="7115" y="8048"/>
                  <a:pt x="7007" y="7998"/>
                  <a:pt x="6945" y="7962"/>
                </a:cubicBezTo>
              </a:path>
              <a:path w="3647" h="2457">
                <a:moveTo>
                  <a:pt x="7590" y="7863"/>
                </a:moveTo>
                <a:cubicBezTo>
                  <a:pt x="7590" y="7786"/>
                  <a:pt x="7600" y="7684"/>
                  <a:pt x="7516" y="7640"/>
                </a:cubicBezTo>
                <a:cubicBezTo>
                  <a:pt x="7399" y="7578"/>
                  <a:pt x="7241" y="7762"/>
                  <a:pt x="7243" y="7863"/>
                </a:cubicBezTo>
                <a:cubicBezTo>
                  <a:pt x="7287" y="7995"/>
                  <a:pt x="7292" y="8033"/>
                  <a:pt x="7367" y="8086"/>
                </a:cubicBezTo>
                <a:cubicBezTo>
                  <a:pt x="7512" y="8006"/>
                  <a:pt x="7565" y="7989"/>
                  <a:pt x="7590" y="7813"/>
                </a:cubicBezTo>
                <a:cubicBezTo>
                  <a:pt x="7595" y="7847"/>
                  <a:pt x="7610" y="8056"/>
                  <a:pt x="7689" y="8037"/>
                </a:cubicBezTo>
                <a:cubicBezTo>
                  <a:pt x="7796" y="8011"/>
                  <a:pt x="7792" y="7772"/>
                  <a:pt x="7813" y="8012"/>
                </a:cubicBezTo>
                <a:cubicBezTo>
                  <a:pt x="7813" y="7884"/>
                  <a:pt x="7804" y="7776"/>
                  <a:pt x="7913" y="7689"/>
                </a:cubicBezTo>
                <a:cubicBezTo>
                  <a:pt x="7986" y="7631"/>
                  <a:pt x="8087" y="7692"/>
                  <a:pt x="8161" y="7714"/>
                </a:cubicBezTo>
              </a:path>
              <a:path w="3647" h="2457">
                <a:moveTo>
                  <a:pt x="8334" y="7342"/>
                </a:moveTo>
                <a:cubicBezTo>
                  <a:pt x="8359" y="7516"/>
                  <a:pt x="8359" y="7685"/>
                  <a:pt x="8359" y="7863"/>
                </a:cubicBezTo>
                <a:cubicBezTo>
                  <a:pt x="8359" y="8004"/>
                  <a:pt x="8391" y="8071"/>
                  <a:pt x="8558" y="8037"/>
                </a:cubicBezTo>
                <a:cubicBezTo>
                  <a:pt x="8590" y="8003"/>
                  <a:pt x="8607" y="7986"/>
                  <a:pt x="8632" y="7962"/>
                </a:cubicBezTo>
              </a:path>
              <a:path w="3647" h="2457">
                <a:moveTo>
                  <a:pt x="8235" y="7739"/>
                </a:moveTo>
                <a:cubicBezTo>
                  <a:pt x="8377" y="7715"/>
                  <a:pt x="8512" y="7714"/>
                  <a:pt x="8657" y="77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41800" y="2589120"/>
            <a:ext cx="347400" cy="285840"/>
          </a:xfrm>
          <a:custGeom>
            <a:avLst/>
            <a:gdLst/>
            <a:ahLst/>
            <a:rect l="l" t="t" r="r" b="b"/>
            <a:pathLst>
              <a:path w="968" h="795">
                <a:moveTo>
                  <a:pt x="9252" y="7590"/>
                </a:moveTo>
                <a:cubicBezTo>
                  <a:pt x="9090" y="7712"/>
                  <a:pt x="8999" y="7796"/>
                  <a:pt x="9054" y="7987"/>
                </a:cubicBezTo>
                <a:cubicBezTo>
                  <a:pt x="9231" y="7970"/>
                  <a:pt x="9464" y="7960"/>
                  <a:pt x="9426" y="7714"/>
                </a:cubicBezTo>
                <a:cubicBezTo>
                  <a:pt x="9403" y="7564"/>
                  <a:pt x="9222" y="7598"/>
                  <a:pt x="9302" y="7541"/>
                </a:cubicBezTo>
              </a:path>
              <a:path w="968" h="795">
                <a:moveTo>
                  <a:pt x="9922" y="7268"/>
                </a:moveTo>
                <a:cubicBezTo>
                  <a:pt x="9875" y="7190"/>
                  <a:pt x="9783" y="7173"/>
                  <a:pt x="9699" y="7243"/>
                </a:cubicBezTo>
                <a:cubicBezTo>
                  <a:pt x="9591" y="7333"/>
                  <a:pt x="9752" y="7612"/>
                  <a:pt x="9773" y="7714"/>
                </a:cubicBezTo>
                <a:cubicBezTo>
                  <a:pt x="9791" y="7822"/>
                  <a:pt x="9799" y="7829"/>
                  <a:pt x="9798" y="7888"/>
                </a:cubicBezTo>
              </a:path>
              <a:path w="968" h="795">
                <a:moveTo>
                  <a:pt x="9500" y="7491"/>
                </a:moveTo>
                <a:cubicBezTo>
                  <a:pt x="9647" y="7522"/>
                  <a:pt x="9797" y="7556"/>
                  <a:pt x="9947" y="7565"/>
                </a:cubicBezTo>
                <a:cubicBezTo>
                  <a:pt x="9955" y="7565"/>
                  <a:pt x="9963" y="7565"/>
                  <a:pt x="9971" y="75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4760" y="2633760"/>
            <a:ext cx="473040" cy="250560"/>
          </a:xfrm>
          <a:custGeom>
            <a:avLst/>
            <a:gdLst/>
            <a:ahLst/>
            <a:rect l="l" t="t" r="r" b="b"/>
            <a:pathLst>
              <a:path w="1316" h="696">
                <a:moveTo>
                  <a:pt x="10790" y="7342"/>
                </a:moveTo>
                <a:cubicBezTo>
                  <a:pt x="10790" y="7218"/>
                  <a:pt x="10790" y="7541"/>
                  <a:pt x="10790" y="7665"/>
                </a:cubicBezTo>
                <a:cubicBezTo>
                  <a:pt x="10790" y="7805"/>
                  <a:pt x="10790" y="7830"/>
                  <a:pt x="10790" y="7913"/>
                </a:cubicBezTo>
              </a:path>
              <a:path w="1316" h="696">
                <a:moveTo>
                  <a:pt x="11261" y="7367"/>
                </a:moveTo>
                <a:cubicBezTo>
                  <a:pt x="11153" y="7487"/>
                  <a:pt x="10999" y="7655"/>
                  <a:pt x="11063" y="7838"/>
                </a:cubicBezTo>
                <a:cubicBezTo>
                  <a:pt x="11088" y="7863"/>
                  <a:pt x="11112" y="7888"/>
                  <a:pt x="11137" y="7913"/>
                </a:cubicBezTo>
                <a:cubicBezTo>
                  <a:pt x="11355" y="7913"/>
                  <a:pt x="11498" y="7826"/>
                  <a:pt x="11460" y="7565"/>
                </a:cubicBezTo>
                <a:cubicBezTo>
                  <a:pt x="11439" y="7416"/>
                  <a:pt x="11343" y="7357"/>
                  <a:pt x="11212" y="7342"/>
                </a:cubicBezTo>
              </a:path>
              <a:path w="1316" h="696">
                <a:moveTo>
                  <a:pt x="11857" y="7441"/>
                </a:moveTo>
                <a:cubicBezTo>
                  <a:pt x="11760" y="7441"/>
                  <a:pt x="11688" y="7556"/>
                  <a:pt x="11658" y="7640"/>
                </a:cubicBezTo>
                <a:cubicBezTo>
                  <a:pt x="11608" y="7782"/>
                  <a:pt x="11623" y="8032"/>
                  <a:pt x="11832" y="8012"/>
                </a:cubicBezTo>
                <a:cubicBezTo>
                  <a:pt x="12050" y="7991"/>
                  <a:pt x="12125" y="7740"/>
                  <a:pt x="12080" y="7565"/>
                </a:cubicBezTo>
                <a:cubicBezTo>
                  <a:pt x="12049" y="7443"/>
                  <a:pt x="11916" y="7326"/>
                  <a:pt x="11782" y="7367"/>
                </a:cubicBezTo>
                <a:cubicBezTo>
                  <a:pt x="11782" y="7407"/>
                  <a:pt x="11793" y="7426"/>
                  <a:pt x="11832" y="74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28960" y="3143160"/>
            <a:ext cx="785880" cy="527040"/>
          </a:xfrm>
          <a:custGeom>
            <a:avLst/>
            <a:gdLst/>
            <a:ahLst/>
            <a:rect l="l" t="t" r="r" b="b"/>
            <a:pathLst>
              <a:path w="2184" h="1465">
                <a:moveTo>
                  <a:pt x="8186" y="9376"/>
                </a:moveTo>
                <a:cubicBezTo>
                  <a:pt x="8205" y="9298"/>
                  <a:pt x="8331" y="9252"/>
                  <a:pt x="8409" y="9252"/>
                </a:cubicBezTo>
                <a:cubicBezTo>
                  <a:pt x="8434" y="9277"/>
                  <a:pt x="8442" y="9285"/>
                  <a:pt x="8458" y="9252"/>
                </a:cubicBezTo>
                <a:cubicBezTo>
                  <a:pt x="8432" y="9187"/>
                  <a:pt x="8349" y="9095"/>
                  <a:pt x="8260" y="9128"/>
                </a:cubicBezTo>
                <a:cubicBezTo>
                  <a:pt x="8084" y="9192"/>
                  <a:pt x="8126" y="9481"/>
                  <a:pt x="8235" y="9575"/>
                </a:cubicBezTo>
                <a:cubicBezTo>
                  <a:pt x="8355" y="9604"/>
                  <a:pt x="8407" y="9603"/>
                  <a:pt x="8483" y="9525"/>
                </a:cubicBezTo>
              </a:path>
              <a:path w="2184" h="1465">
                <a:moveTo>
                  <a:pt x="8855" y="9227"/>
                </a:moveTo>
                <a:cubicBezTo>
                  <a:pt x="8769" y="9170"/>
                  <a:pt x="8645" y="9146"/>
                  <a:pt x="8582" y="9277"/>
                </a:cubicBezTo>
                <a:cubicBezTo>
                  <a:pt x="8515" y="9415"/>
                  <a:pt x="8559" y="9484"/>
                  <a:pt x="8632" y="9575"/>
                </a:cubicBezTo>
                <a:cubicBezTo>
                  <a:pt x="8783" y="9509"/>
                  <a:pt x="8858" y="9446"/>
                  <a:pt x="8905" y="9277"/>
                </a:cubicBezTo>
                <a:cubicBezTo>
                  <a:pt x="8905" y="9269"/>
                  <a:pt x="8905" y="9260"/>
                  <a:pt x="8905" y="9252"/>
                </a:cubicBezTo>
                <a:cubicBezTo>
                  <a:pt x="8905" y="9458"/>
                  <a:pt x="8840" y="9621"/>
                  <a:pt x="8806" y="9823"/>
                </a:cubicBezTo>
                <a:cubicBezTo>
                  <a:pt x="8785" y="10014"/>
                  <a:pt x="8770" y="10056"/>
                  <a:pt x="8806" y="10170"/>
                </a:cubicBezTo>
                <a:cubicBezTo>
                  <a:pt x="8976" y="10192"/>
                  <a:pt x="8960" y="9979"/>
                  <a:pt x="8905" y="9847"/>
                </a:cubicBezTo>
                <a:cubicBezTo>
                  <a:pt x="8866" y="9809"/>
                  <a:pt x="8864" y="9792"/>
                  <a:pt x="8830" y="9798"/>
                </a:cubicBezTo>
              </a:path>
              <a:path w="2184" h="1465">
                <a:moveTo>
                  <a:pt x="9103" y="9178"/>
                </a:moveTo>
                <a:cubicBezTo>
                  <a:pt x="9083" y="9302"/>
                  <a:pt x="9044" y="9452"/>
                  <a:pt x="9103" y="9575"/>
                </a:cubicBezTo>
                <a:cubicBezTo>
                  <a:pt x="9120" y="9583"/>
                  <a:pt x="9136" y="9591"/>
                  <a:pt x="9153" y="9599"/>
                </a:cubicBezTo>
                <a:cubicBezTo>
                  <a:pt x="9322" y="9457"/>
                  <a:pt x="9376" y="9351"/>
                  <a:pt x="9376" y="9128"/>
                </a:cubicBezTo>
                <a:cubicBezTo>
                  <a:pt x="9398" y="9258"/>
                  <a:pt x="9434" y="9392"/>
                  <a:pt x="9451" y="9525"/>
                </a:cubicBezTo>
                <a:cubicBezTo>
                  <a:pt x="9451" y="9566"/>
                  <a:pt x="9442" y="9583"/>
                  <a:pt x="9475" y="9575"/>
                </a:cubicBezTo>
              </a:path>
              <a:path w="2184" h="1465">
                <a:moveTo>
                  <a:pt x="9847" y="9302"/>
                </a:moveTo>
                <a:cubicBezTo>
                  <a:pt x="9912" y="9280"/>
                  <a:pt x="9854" y="9198"/>
                  <a:pt x="9823" y="9153"/>
                </a:cubicBezTo>
                <a:cubicBezTo>
                  <a:pt x="9815" y="9145"/>
                  <a:pt x="9806" y="9136"/>
                  <a:pt x="9798" y="9128"/>
                </a:cubicBezTo>
                <a:cubicBezTo>
                  <a:pt x="9677" y="9168"/>
                  <a:pt x="9470" y="9416"/>
                  <a:pt x="9649" y="9550"/>
                </a:cubicBezTo>
                <a:cubicBezTo>
                  <a:pt x="9773" y="9643"/>
                  <a:pt x="9836" y="9338"/>
                  <a:pt x="9847" y="9302"/>
                </a:cubicBezTo>
                <a:cubicBezTo>
                  <a:pt x="9839" y="9302"/>
                  <a:pt x="9831" y="9302"/>
                  <a:pt x="9823" y="9302"/>
                </a:cubicBezTo>
                <a:cubicBezTo>
                  <a:pt x="9856" y="9541"/>
                  <a:pt x="9946" y="9585"/>
                  <a:pt x="10120" y="9475"/>
                </a:cubicBezTo>
              </a:path>
              <a:path w="2184" h="1465">
                <a:moveTo>
                  <a:pt x="10120" y="8731"/>
                </a:moveTo>
                <a:cubicBezTo>
                  <a:pt x="10210" y="8970"/>
                  <a:pt x="10234" y="9206"/>
                  <a:pt x="10294" y="9451"/>
                </a:cubicBezTo>
                <a:cubicBezTo>
                  <a:pt x="10314" y="9491"/>
                  <a:pt x="10323" y="9517"/>
                  <a:pt x="10319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6160" y="3456000"/>
            <a:ext cx="644760" cy="88920"/>
          </a:xfrm>
          <a:custGeom>
            <a:avLst/>
            <a:gdLst/>
            <a:ahLst/>
            <a:rect l="l" t="t" r="r" b="b"/>
            <a:pathLst>
              <a:path w="1787" h="249">
                <a:moveTo>
                  <a:pt x="2257" y="9599"/>
                </a:moveTo>
                <a:cubicBezTo>
                  <a:pt x="2332" y="9629"/>
                  <a:pt x="2416" y="9629"/>
                  <a:pt x="2530" y="9624"/>
                </a:cubicBezTo>
                <a:cubicBezTo>
                  <a:pt x="2712" y="9616"/>
                  <a:pt x="2900" y="9635"/>
                  <a:pt x="3076" y="9624"/>
                </a:cubicBezTo>
                <a:cubicBezTo>
                  <a:pt x="3250" y="9613"/>
                  <a:pt x="3419" y="9624"/>
                  <a:pt x="3597" y="9624"/>
                </a:cubicBezTo>
                <a:cubicBezTo>
                  <a:pt x="3708" y="9624"/>
                  <a:pt x="3808" y="9649"/>
                  <a:pt x="3919" y="9649"/>
                </a:cubicBezTo>
                <a:cubicBezTo>
                  <a:pt x="3927" y="9649"/>
                  <a:pt x="3936" y="9649"/>
                  <a:pt x="3944" y="9649"/>
                </a:cubicBezTo>
              </a:path>
              <a:path w="1787" h="249">
                <a:moveTo>
                  <a:pt x="2158" y="9773"/>
                </a:moveTo>
                <a:cubicBezTo>
                  <a:pt x="2251" y="9750"/>
                  <a:pt x="2346" y="9739"/>
                  <a:pt x="2456" y="9748"/>
                </a:cubicBezTo>
                <a:cubicBezTo>
                  <a:pt x="2797" y="9776"/>
                  <a:pt x="3130" y="9841"/>
                  <a:pt x="3473" y="9847"/>
                </a:cubicBezTo>
                <a:cubicBezTo>
                  <a:pt x="3556" y="9848"/>
                  <a:pt x="3638" y="9847"/>
                  <a:pt x="3721" y="98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71880" y="4680000"/>
            <a:ext cx="241200" cy="17280"/>
          </a:xfrm>
          <a:custGeom>
            <a:avLst/>
            <a:gdLst/>
            <a:ahLst/>
            <a:rect l="l" t="t" r="r" b="b"/>
            <a:pathLst>
              <a:path w="671" h="50">
                <a:moveTo>
                  <a:pt x="8533" y="13047"/>
                </a:moveTo>
                <a:cubicBezTo>
                  <a:pt x="8757" y="13029"/>
                  <a:pt x="8980" y="13022"/>
                  <a:pt x="9203" y="129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880" y="4606920"/>
            <a:ext cx="714240" cy="322200"/>
          </a:xfrm>
          <a:custGeom>
            <a:avLst/>
            <a:gdLst/>
            <a:ahLst/>
            <a:rect l="l" t="t" r="r" b="b"/>
            <a:pathLst>
              <a:path w="1985" h="894">
                <a:moveTo>
                  <a:pt x="2381" y="12898"/>
                </a:moveTo>
                <a:cubicBezTo>
                  <a:pt x="2440" y="12898"/>
                  <a:pt x="2496" y="12887"/>
                  <a:pt x="2406" y="12824"/>
                </a:cubicBezTo>
                <a:cubicBezTo>
                  <a:pt x="2288" y="12742"/>
                  <a:pt x="2197" y="12868"/>
                  <a:pt x="2133" y="12948"/>
                </a:cubicBezTo>
                <a:cubicBezTo>
                  <a:pt x="2117" y="12973"/>
                  <a:pt x="2100" y="12997"/>
                  <a:pt x="2084" y="13022"/>
                </a:cubicBezTo>
                <a:cubicBezTo>
                  <a:pt x="2126" y="13108"/>
                  <a:pt x="2295" y="13101"/>
                  <a:pt x="2381" y="13146"/>
                </a:cubicBezTo>
                <a:cubicBezTo>
                  <a:pt x="2557" y="13237"/>
                  <a:pt x="2701" y="13534"/>
                  <a:pt x="2456" y="13667"/>
                </a:cubicBezTo>
                <a:cubicBezTo>
                  <a:pt x="2317" y="13742"/>
                  <a:pt x="2084" y="13703"/>
                  <a:pt x="2034" y="13568"/>
                </a:cubicBezTo>
              </a:path>
              <a:path w="1985" h="894">
                <a:moveTo>
                  <a:pt x="3125" y="13395"/>
                </a:moveTo>
                <a:cubicBezTo>
                  <a:pt x="3094" y="13315"/>
                  <a:pt x="3067" y="13247"/>
                  <a:pt x="3026" y="13171"/>
                </a:cubicBezTo>
                <a:cubicBezTo>
                  <a:pt x="2841" y="13194"/>
                  <a:pt x="2660" y="13308"/>
                  <a:pt x="2704" y="13543"/>
                </a:cubicBezTo>
                <a:cubicBezTo>
                  <a:pt x="2729" y="13568"/>
                  <a:pt x="2753" y="13593"/>
                  <a:pt x="2778" y="13618"/>
                </a:cubicBezTo>
                <a:cubicBezTo>
                  <a:pt x="2897" y="13568"/>
                  <a:pt x="3053" y="13525"/>
                  <a:pt x="3001" y="13370"/>
                </a:cubicBezTo>
                <a:cubicBezTo>
                  <a:pt x="3040" y="13460"/>
                  <a:pt x="3072" y="13614"/>
                  <a:pt x="3200" y="13618"/>
                </a:cubicBezTo>
                <a:cubicBezTo>
                  <a:pt x="3233" y="13601"/>
                  <a:pt x="3266" y="13585"/>
                  <a:pt x="3299" y="13568"/>
                </a:cubicBezTo>
              </a:path>
              <a:path w="1985" h="894">
                <a:moveTo>
                  <a:pt x="3274" y="12849"/>
                </a:moveTo>
                <a:cubicBezTo>
                  <a:pt x="3399" y="13076"/>
                  <a:pt x="3454" y="13308"/>
                  <a:pt x="3497" y="13568"/>
                </a:cubicBezTo>
                <a:cubicBezTo>
                  <a:pt x="3497" y="13611"/>
                  <a:pt x="3503" y="13602"/>
                  <a:pt x="3522" y="13519"/>
                </a:cubicBezTo>
              </a:path>
              <a:path w="1985" h="894">
                <a:moveTo>
                  <a:pt x="3696" y="13246"/>
                </a:moveTo>
                <a:cubicBezTo>
                  <a:pt x="3799" y="13246"/>
                  <a:pt x="3917" y="13339"/>
                  <a:pt x="3994" y="13271"/>
                </a:cubicBezTo>
                <a:cubicBezTo>
                  <a:pt x="4048" y="13223"/>
                  <a:pt x="3962" y="13086"/>
                  <a:pt x="3944" y="13047"/>
                </a:cubicBezTo>
                <a:cubicBezTo>
                  <a:pt x="3773" y="13133"/>
                  <a:pt x="3605" y="13372"/>
                  <a:pt x="3795" y="13568"/>
                </a:cubicBezTo>
                <a:cubicBezTo>
                  <a:pt x="3911" y="13591"/>
                  <a:pt x="3944" y="13602"/>
                  <a:pt x="4018" y="135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5320" y="4545000"/>
            <a:ext cx="625680" cy="322200"/>
          </a:xfrm>
          <a:custGeom>
            <a:avLst/>
            <a:gdLst/>
            <a:ahLst/>
            <a:rect l="l" t="t" r="r" b="b"/>
            <a:pathLst>
              <a:path w="1737" h="894">
                <a:moveTo>
                  <a:pt x="4986" y="13519"/>
                </a:moveTo>
                <a:cubicBezTo>
                  <a:pt x="5227" y="13505"/>
                  <a:pt x="5465" y="13468"/>
                  <a:pt x="5705" y="13444"/>
                </a:cubicBezTo>
                <a:cubicBezTo>
                  <a:pt x="5780" y="13444"/>
                  <a:pt x="5816" y="13429"/>
                  <a:pt x="5854" y="13370"/>
                </a:cubicBezTo>
              </a:path>
              <a:path w="1737" h="894">
                <a:moveTo>
                  <a:pt x="6474" y="12650"/>
                </a:moveTo>
                <a:cubicBezTo>
                  <a:pt x="6315" y="12716"/>
                  <a:pt x="6179" y="12767"/>
                  <a:pt x="6226" y="12923"/>
                </a:cubicBezTo>
                <a:cubicBezTo>
                  <a:pt x="6394" y="12884"/>
                  <a:pt x="6421" y="12846"/>
                  <a:pt x="6400" y="12675"/>
                </a:cubicBezTo>
                <a:cubicBezTo>
                  <a:pt x="6400" y="12667"/>
                  <a:pt x="6400" y="12658"/>
                  <a:pt x="6400" y="12650"/>
                </a:cubicBezTo>
                <a:cubicBezTo>
                  <a:pt x="6675" y="12633"/>
                  <a:pt x="6746" y="12771"/>
                  <a:pt x="6697" y="13047"/>
                </a:cubicBezTo>
                <a:cubicBezTo>
                  <a:pt x="6658" y="13265"/>
                  <a:pt x="6348" y="13502"/>
                  <a:pt x="6598" y="134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78040" y="4518000"/>
            <a:ext cx="590760" cy="312840"/>
          </a:xfrm>
          <a:custGeom>
            <a:avLst/>
            <a:gdLst/>
            <a:ahLst/>
            <a:rect l="l" t="t" r="r" b="b"/>
            <a:pathLst>
              <a:path w="1639" h="869">
                <a:moveTo>
                  <a:pt x="7838" y="12948"/>
                </a:moveTo>
                <a:cubicBezTo>
                  <a:pt x="7565" y="12989"/>
                  <a:pt x="7536" y="13090"/>
                  <a:pt x="7441" y="13345"/>
                </a:cubicBezTo>
                <a:cubicBezTo>
                  <a:pt x="7523" y="13375"/>
                  <a:pt x="8011" y="13408"/>
                  <a:pt x="7888" y="13146"/>
                </a:cubicBezTo>
                <a:cubicBezTo>
                  <a:pt x="7830" y="13023"/>
                  <a:pt x="7472" y="13089"/>
                  <a:pt x="7714" y="13022"/>
                </a:cubicBezTo>
              </a:path>
              <a:path w="1639" h="869">
                <a:moveTo>
                  <a:pt x="8533" y="12626"/>
                </a:moveTo>
                <a:cubicBezTo>
                  <a:pt x="8469" y="12562"/>
                  <a:pt x="8295" y="12483"/>
                  <a:pt x="8210" y="12601"/>
                </a:cubicBezTo>
                <a:cubicBezTo>
                  <a:pt x="8084" y="12776"/>
                  <a:pt x="8215" y="13109"/>
                  <a:pt x="8260" y="13295"/>
                </a:cubicBezTo>
                <a:cubicBezTo>
                  <a:pt x="8283" y="13363"/>
                  <a:pt x="8294" y="13395"/>
                  <a:pt x="8260" y="13320"/>
                </a:cubicBezTo>
              </a:path>
              <a:path w="1639" h="869">
                <a:moveTo>
                  <a:pt x="7888" y="12973"/>
                </a:moveTo>
                <a:cubicBezTo>
                  <a:pt x="8136" y="12973"/>
                  <a:pt x="8384" y="12973"/>
                  <a:pt x="8632" y="12973"/>
                </a:cubicBezTo>
              </a:path>
              <a:path w="1639" h="869">
                <a:moveTo>
                  <a:pt x="9079" y="12675"/>
                </a:moveTo>
                <a:cubicBezTo>
                  <a:pt x="9023" y="12614"/>
                  <a:pt x="8849" y="12443"/>
                  <a:pt x="8756" y="12576"/>
                </a:cubicBezTo>
                <a:cubicBezTo>
                  <a:pt x="8656" y="12719"/>
                  <a:pt x="8856" y="13091"/>
                  <a:pt x="8880" y="13246"/>
                </a:cubicBezTo>
                <a:cubicBezTo>
                  <a:pt x="8880" y="13320"/>
                  <a:pt x="8880" y="13329"/>
                  <a:pt x="8880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00840" y="4518000"/>
            <a:ext cx="2071440" cy="519120"/>
          </a:xfrm>
          <a:custGeom>
            <a:avLst/>
            <a:gdLst/>
            <a:ahLst/>
            <a:rect l="l" t="t" r="r" b="b"/>
            <a:pathLst>
              <a:path w="5755" h="1440">
                <a:moveTo>
                  <a:pt x="16669" y="12551"/>
                </a:moveTo>
                <a:cubicBezTo>
                  <a:pt x="16745" y="12803"/>
                  <a:pt x="16813" y="13057"/>
                  <a:pt x="16842" y="13320"/>
                </a:cubicBezTo>
                <a:cubicBezTo>
                  <a:pt x="16842" y="13345"/>
                  <a:pt x="16842" y="13370"/>
                  <a:pt x="16842" y="13395"/>
                </a:cubicBezTo>
              </a:path>
              <a:path w="5755" h="1440">
                <a:moveTo>
                  <a:pt x="20712" y="12923"/>
                </a:moveTo>
                <a:cubicBezTo>
                  <a:pt x="20621" y="12976"/>
                  <a:pt x="20594" y="12993"/>
                  <a:pt x="20563" y="13097"/>
                </a:cubicBezTo>
                <a:cubicBezTo>
                  <a:pt x="20614" y="13107"/>
                  <a:pt x="20833" y="13121"/>
                  <a:pt x="20786" y="12998"/>
                </a:cubicBezTo>
                <a:cubicBezTo>
                  <a:pt x="20740" y="12951"/>
                  <a:pt x="20728" y="12937"/>
                  <a:pt x="20687" y="12923"/>
                </a:cubicBezTo>
              </a:path>
              <a:path w="5755" h="1440">
                <a:moveTo>
                  <a:pt x="22374" y="13965"/>
                </a:moveTo>
                <a:cubicBezTo>
                  <a:pt x="22396" y="13987"/>
                  <a:pt x="22401" y="13996"/>
                  <a:pt x="22423" y="13990"/>
                </a:cubicBezTo>
              </a:path>
              <a:path w="5755" h="1440">
                <a:moveTo>
                  <a:pt x="22423" y="13990"/>
                </a:moveTo>
                <a:lnTo>
                  <a:pt x="22423" y="1399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05640" y="4500720"/>
            <a:ext cx="885600" cy="330120"/>
          </a:xfrm>
          <a:custGeom>
            <a:avLst/>
            <a:gdLst/>
            <a:ahLst/>
            <a:rect l="l" t="t" r="r" b="b"/>
            <a:pathLst>
              <a:path w="2457" h="918">
                <a:moveTo>
                  <a:pt x="15850" y="12675"/>
                </a:moveTo>
                <a:cubicBezTo>
                  <a:pt x="16247" y="12583"/>
                  <a:pt x="16658" y="12565"/>
                  <a:pt x="17066" y="12526"/>
                </a:cubicBezTo>
                <a:cubicBezTo>
                  <a:pt x="17113" y="12522"/>
                  <a:pt x="17349" y="12463"/>
                  <a:pt x="17388" y="12526"/>
                </a:cubicBezTo>
                <a:cubicBezTo>
                  <a:pt x="17396" y="12551"/>
                  <a:pt x="17405" y="12576"/>
                  <a:pt x="17413" y="12601"/>
                </a:cubicBezTo>
              </a:path>
              <a:path w="2457" h="918">
                <a:moveTo>
                  <a:pt x="17487" y="13097"/>
                </a:moveTo>
                <a:cubicBezTo>
                  <a:pt x="17476" y="13031"/>
                  <a:pt x="17440" y="12899"/>
                  <a:pt x="17363" y="12874"/>
                </a:cubicBezTo>
                <a:cubicBezTo>
                  <a:pt x="17156" y="12808"/>
                  <a:pt x="17123" y="13095"/>
                  <a:pt x="17190" y="13221"/>
                </a:cubicBezTo>
                <a:cubicBezTo>
                  <a:pt x="17293" y="13413"/>
                  <a:pt x="17522" y="13252"/>
                  <a:pt x="17537" y="13097"/>
                </a:cubicBezTo>
                <a:cubicBezTo>
                  <a:pt x="17517" y="12998"/>
                  <a:pt x="17509" y="12982"/>
                  <a:pt x="17512" y="12923"/>
                </a:cubicBezTo>
                <a:cubicBezTo>
                  <a:pt x="17452" y="12943"/>
                  <a:pt x="17504" y="13049"/>
                  <a:pt x="17537" y="13097"/>
                </a:cubicBezTo>
                <a:cubicBezTo>
                  <a:pt x="17627" y="13229"/>
                  <a:pt x="17796" y="13196"/>
                  <a:pt x="17934" y="13196"/>
                </a:cubicBezTo>
              </a:path>
              <a:path w="2457" h="918">
                <a:moveTo>
                  <a:pt x="17884" y="12799"/>
                </a:moveTo>
                <a:cubicBezTo>
                  <a:pt x="18005" y="12932"/>
                  <a:pt x="18094" y="13083"/>
                  <a:pt x="18207" y="13221"/>
                </a:cubicBezTo>
                <a:cubicBezTo>
                  <a:pt x="18245" y="13260"/>
                  <a:pt x="18262" y="13292"/>
                  <a:pt x="18256" y="13246"/>
                </a:cubicBezTo>
              </a:path>
              <a:path w="2457" h="918">
                <a:moveTo>
                  <a:pt x="18306" y="12626"/>
                </a:moveTo>
                <a:cubicBezTo>
                  <a:pt x="18179" y="12749"/>
                  <a:pt x="18137" y="12919"/>
                  <a:pt x="18058" y="13072"/>
                </a:cubicBezTo>
                <a:cubicBezTo>
                  <a:pt x="18026" y="13133"/>
                  <a:pt x="17863" y="13374"/>
                  <a:pt x="17909" y="134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13720" y="4411800"/>
            <a:ext cx="1633320" cy="696600"/>
          </a:xfrm>
          <a:custGeom>
            <a:avLst/>
            <a:gdLst/>
            <a:ahLst/>
            <a:rect l="l" t="t" r="r" b="b"/>
            <a:pathLst>
              <a:path w="4540" h="1935">
                <a:moveTo>
                  <a:pt x="19075" y="12353"/>
                </a:moveTo>
                <a:cubicBezTo>
                  <a:pt x="19034" y="12475"/>
                  <a:pt x="18933" y="12658"/>
                  <a:pt x="18926" y="12824"/>
                </a:cubicBezTo>
                <a:cubicBezTo>
                  <a:pt x="18918" y="13005"/>
                  <a:pt x="18959" y="13270"/>
                  <a:pt x="19075" y="13419"/>
                </a:cubicBezTo>
                <a:cubicBezTo>
                  <a:pt x="19083" y="13427"/>
                  <a:pt x="19092" y="13436"/>
                  <a:pt x="19100" y="13444"/>
                </a:cubicBezTo>
              </a:path>
              <a:path w="4540" h="1935">
                <a:moveTo>
                  <a:pt x="19546" y="12502"/>
                </a:moveTo>
                <a:cubicBezTo>
                  <a:pt x="19524" y="12656"/>
                  <a:pt x="19458" y="12798"/>
                  <a:pt x="19422" y="12948"/>
                </a:cubicBezTo>
                <a:cubicBezTo>
                  <a:pt x="19389" y="13089"/>
                  <a:pt x="19386" y="13308"/>
                  <a:pt x="19596" y="13271"/>
                </a:cubicBezTo>
                <a:cubicBezTo>
                  <a:pt x="19712" y="13251"/>
                  <a:pt x="19881" y="13153"/>
                  <a:pt x="19869" y="13022"/>
                </a:cubicBezTo>
                <a:cubicBezTo>
                  <a:pt x="19861" y="13006"/>
                  <a:pt x="19852" y="12989"/>
                  <a:pt x="19844" y="12973"/>
                </a:cubicBezTo>
                <a:cubicBezTo>
                  <a:pt x="19704" y="12991"/>
                  <a:pt x="19674" y="13060"/>
                  <a:pt x="19645" y="13196"/>
                </a:cubicBezTo>
                <a:cubicBezTo>
                  <a:pt x="19626" y="13282"/>
                  <a:pt x="19678" y="13239"/>
                  <a:pt x="19720" y="13221"/>
                </a:cubicBezTo>
              </a:path>
              <a:path w="4540" h="1935">
                <a:moveTo>
                  <a:pt x="20241" y="12477"/>
                </a:moveTo>
                <a:cubicBezTo>
                  <a:pt x="20203" y="12363"/>
                  <a:pt x="20097" y="12607"/>
                  <a:pt x="20092" y="12626"/>
                </a:cubicBezTo>
                <a:cubicBezTo>
                  <a:pt x="20092" y="12659"/>
                  <a:pt x="20092" y="12692"/>
                  <a:pt x="20092" y="12725"/>
                </a:cubicBezTo>
                <a:cubicBezTo>
                  <a:pt x="20176" y="12714"/>
                  <a:pt x="20386" y="12691"/>
                  <a:pt x="20290" y="12551"/>
                </a:cubicBezTo>
                <a:cubicBezTo>
                  <a:pt x="20250" y="12493"/>
                  <a:pt x="20166" y="12502"/>
                  <a:pt x="20216" y="12526"/>
                </a:cubicBezTo>
                <a:cubicBezTo>
                  <a:pt x="20358" y="12593"/>
                  <a:pt x="20406" y="12581"/>
                  <a:pt x="20538" y="12502"/>
                </a:cubicBezTo>
                <a:cubicBezTo>
                  <a:pt x="20555" y="12494"/>
                  <a:pt x="20571" y="12485"/>
                  <a:pt x="20588" y="12477"/>
                </a:cubicBezTo>
                <a:cubicBezTo>
                  <a:pt x="20588" y="12617"/>
                  <a:pt x="20548" y="12747"/>
                  <a:pt x="20489" y="12874"/>
                </a:cubicBezTo>
                <a:cubicBezTo>
                  <a:pt x="20466" y="12923"/>
                  <a:pt x="20143" y="13396"/>
                  <a:pt x="20365" y="13146"/>
                </a:cubicBezTo>
              </a:path>
              <a:path w="4540" h="1935">
                <a:moveTo>
                  <a:pt x="20737" y="12254"/>
                </a:moveTo>
                <a:cubicBezTo>
                  <a:pt x="20932" y="12254"/>
                  <a:pt x="20964" y="12406"/>
                  <a:pt x="21034" y="12576"/>
                </a:cubicBezTo>
                <a:cubicBezTo>
                  <a:pt x="21143" y="12842"/>
                  <a:pt x="21205" y="13206"/>
                  <a:pt x="21010" y="13444"/>
                </a:cubicBezTo>
                <a:cubicBezTo>
                  <a:pt x="20971" y="13483"/>
                  <a:pt x="20969" y="13500"/>
                  <a:pt x="20935" y="13494"/>
                </a:cubicBezTo>
              </a:path>
              <a:path w="4540" h="1935">
                <a:moveTo>
                  <a:pt x="21630" y="13568"/>
                </a:moveTo>
                <a:cubicBezTo>
                  <a:pt x="21508" y="13599"/>
                  <a:pt x="21401" y="13632"/>
                  <a:pt x="21332" y="13742"/>
                </a:cubicBezTo>
                <a:cubicBezTo>
                  <a:pt x="21316" y="13767"/>
                  <a:pt x="21379" y="13881"/>
                  <a:pt x="21406" y="13891"/>
                </a:cubicBezTo>
                <a:cubicBezTo>
                  <a:pt x="21516" y="13931"/>
                  <a:pt x="21614" y="13839"/>
                  <a:pt x="21729" y="13891"/>
                </a:cubicBezTo>
                <a:cubicBezTo>
                  <a:pt x="21934" y="13985"/>
                  <a:pt x="21574" y="14173"/>
                  <a:pt x="21506" y="14188"/>
                </a:cubicBezTo>
                <a:cubicBezTo>
                  <a:pt x="21394" y="14188"/>
                  <a:pt x="21359" y="14198"/>
                  <a:pt x="21332" y="14114"/>
                </a:cubicBezTo>
              </a:path>
              <a:path w="4540" h="1935">
                <a:moveTo>
                  <a:pt x="21878" y="13568"/>
                </a:moveTo>
                <a:cubicBezTo>
                  <a:pt x="21878" y="13630"/>
                  <a:pt x="21865" y="13777"/>
                  <a:pt x="21927" y="13816"/>
                </a:cubicBezTo>
                <a:cubicBezTo>
                  <a:pt x="22065" y="13902"/>
                  <a:pt x="22110" y="13802"/>
                  <a:pt x="22175" y="13717"/>
                </a:cubicBezTo>
              </a:path>
              <a:path w="4540" h="1935">
                <a:moveTo>
                  <a:pt x="22101" y="13469"/>
                </a:moveTo>
                <a:cubicBezTo>
                  <a:pt x="22155" y="13693"/>
                  <a:pt x="22191" y="13908"/>
                  <a:pt x="22200" y="14139"/>
                </a:cubicBezTo>
                <a:cubicBezTo>
                  <a:pt x="22200" y="14178"/>
                  <a:pt x="22211" y="14176"/>
                  <a:pt x="22250" y="14114"/>
                </a:cubicBezTo>
              </a:path>
              <a:path w="4540" h="1935">
                <a:moveTo>
                  <a:pt x="22820" y="13295"/>
                </a:moveTo>
                <a:cubicBezTo>
                  <a:pt x="22657" y="13313"/>
                  <a:pt x="22611" y="13407"/>
                  <a:pt x="22572" y="13568"/>
                </a:cubicBezTo>
                <a:cubicBezTo>
                  <a:pt x="22515" y="13801"/>
                  <a:pt x="22777" y="13479"/>
                  <a:pt x="22796" y="13444"/>
                </a:cubicBezTo>
                <a:cubicBezTo>
                  <a:pt x="22804" y="13428"/>
                  <a:pt x="22812" y="13411"/>
                  <a:pt x="22820" y="13395"/>
                </a:cubicBezTo>
                <a:cubicBezTo>
                  <a:pt x="22833" y="13546"/>
                  <a:pt x="22831" y="13748"/>
                  <a:pt x="22870" y="13891"/>
                </a:cubicBezTo>
                <a:cubicBezTo>
                  <a:pt x="22878" y="13891"/>
                  <a:pt x="22887" y="13891"/>
                  <a:pt x="22895" y="13891"/>
                </a:cubicBezTo>
              </a:path>
              <a:path w="4540" h="1935">
                <a:moveTo>
                  <a:pt x="23341" y="13221"/>
                </a:moveTo>
                <a:cubicBezTo>
                  <a:pt x="23236" y="13333"/>
                  <a:pt x="23116" y="13464"/>
                  <a:pt x="23242" y="13568"/>
                </a:cubicBezTo>
                <a:cubicBezTo>
                  <a:pt x="23362" y="13472"/>
                  <a:pt x="23390" y="13424"/>
                  <a:pt x="23440" y="13271"/>
                </a:cubicBezTo>
                <a:cubicBezTo>
                  <a:pt x="23440" y="13470"/>
                  <a:pt x="23460" y="13667"/>
                  <a:pt x="23465" y="13866"/>
                </a:cubicBezTo>
                <a:cubicBezTo>
                  <a:pt x="23465" y="13907"/>
                  <a:pt x="23465" y="13915"/>
                  <a:pt x="23465" y="139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4749840"/>
            <a:ext cx="561960" cy="457200"/>
          </a:xfrm>
          <a:custGeom>
            <a:avLst/>
            <a:gdLst/>
            <a:ahLst/>
            <a:rect l="l" t="t" r="r" b="b"/>
            <a:pathLst>
              <a:path w="1563" h="1266">
                <a:moveTo>
                  <a:pt x="6796" y="13295"/>
                </a:moveTo>
                <a:cubicBezTo>
                  <a:pt x="6775" y="13403"/>
                  <a:pt x="6762" y="13430"/>
                  <a:pt x="6796" y="13494"/>
                </a:cubicBezTo>
                <a:cubicBezTo>
                  <a:pt x="6978" y="13460"/>
                  <a:pt x="7106" y="13353"/>
                  <a:pt x="6896" y="13221"/>
                </a:cubicBezTo>
                <a:cubicBezTo>
                  <a:pt x="6871" y="13213"/>
                  <a:pt x="6846" y="13204"/>
                  <a:pt x="6821" y="13196"/>
                </a:cubicBezTo>
              </a:path>
              <a:path w="1563" h="1266">
                <a:moveTo>
                  <a:pt x="7987" y="14461"/>
                </a:moveTo>
                <a:cubicBezTo>
                  <a:pt x="8153" y="14433"/>
                  <a:pt x="8220" y="14421"/>
                  <a:pt x="8334" y="14387"/>
                </a:cubicBezTo>
              </a:path>
              <a:path w="1563" h="1266">
                <a:moveTo>
                  <a:pt x="8334" y="14387"/>
                </a:moveTo>
                <a:lnTo>
                  <a:pt x="8334" y="1438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6160" y="5153040"/>
            <a:ext cx="1036800" cy="347760"/>
          </a:xfrm>
          <a:custGeom>
            <a:avLst/>
            <a:gdLst/>
            <a:ahLst/>
            <a:rect l="l" t="t" r="r" b="b"/>
            <a:pathLst>
              <a:path w="2878" h="969">
                <a:moveTo>
                  <a:pt x="2580" y="14461"/>
                </a:moveTo>
                <a:cubicBezTo>
                  <a:pt x="2570" y="14386"/>
                  <a:pt x="2546" y="14325"/>
                  <a:pt x="2456" y="14312"/>
                </a:cubicBezTo>
                <a:cubicBezTo>
                  <a:pt x="2198" y="14275"/>
                  <a:pt x="2160" y="14537"/>
                  <a:pt x="2158" y="14734"/>
                </a:cubicBezTo>
                <a:cubicBezTo>
                  <a:pt x="2155" y="14993"/>
                  <a:pt x="2298" y="15438"/>
                  <a:pt x="2654" y="15230"/>
                </a:cubicBezTo>
                <a:cubicBezTo>
                  <a:pt x="2892" y="15091"/>
                  <a:pt x="2675" y="14797"/>
                  <a:pt x="2456" y="14883"/>
                </a:cubicBezTo>
                <a:cubicBezTo>
                  <a:pt x="2181" y="14991"/>
                  <a:pt x="2429" y="15032"/>
                  <a:pt x="2505" y="15032"/>
                </a:cubicBezTo>
              </a:path>
              <a:path w="2878" h="969">
                <a:moveTo>
                  <a:pt x="2877" y="15007"/>
                </a:moveTo>
                <a:cubicBezTo>
                  <a:pt x="2933" y="15100"/>
                  <a:pt x="2932" y="15115"/>
                  <a:pt x="2977" y="15156"/>
                </a:cubicBezTo>
                <a:cubicBezTo>
                  <a:pt x="2950" y="15062"/>
                  <a:pt x="2851" y="14931"/>
                  <a:pt x="2927" y="14833"/>
                </a:cubicBezTo>
                <a:cubicBezTo>
                  <a:pt x="3025" y="14768"/>
                  <a:pt x="3078" y="14752"/>
                  <a:pt x="3175" y="14784"/>
                </a:cubicBezTo>
              </a:path>
              <a:path w="2878" h="969">
                <a:moveTo>
                  <a:pt x="3448" y="14833"/>
                </a:moveTo>
                <a:cubicBezTo>
                  <a:pt x="3413" y="14658"/>
                  <a:pt x="3286" y="14859"/>
                  <a:pt x="3249" y="14932"/>
                </a:cubicBezTo>
                <a:cubicBezTo>
                  <a:pt x="3205" y="15065"/>
                  <a:pt x="3177" y="15102"/>
                  <a:pt x="3274" y="15156"/>
                </a:cubicBezTo>
                <a:cubicBezTo>
                  <a:pt x="3377" y="15073"/>
                  <a:pt x="3448" y="14883"/>
                  <a:pt x="3448" y="14932"/>
                </a:cubicBezTo>
                <a:cubicBezTo>
                  <a:pt x="3497" y="15032"/>
                  <a:pt x="3513" y="15065"/>
                  <a:pt x="3597" y="15081"/>
                </a:cubicBezTo>
              </a:path>
              <a:path w="2878" h="969">
                <a:moveTo>
                  <a:pt x="3919" y="14734"/>
                </a:moveTo>
                <a:cubicBezTo>
                  <a:pt x="3781" y="14734"/>
                  <a:pt x="3624" y="14913"/>
                  <a:pt x="3746" y="15081"/>
                </a:cubicBezTo>
                <a:cubicBezTo>
                  <a:pt x="3779" y="15089"/>
                  <a:pt x="3812" y="15098"/>
                  <a:pt x="3845" y="15106"/>
                </a:cubicBezTo>
                <a:cubicBezTo>
                  <a:pt x="4031" y="14840"/>
                  <a:pt x="3981" y="14714"/>
                  <a:pt x="3870" y="14412"/>
                </a:cubicBezTo>
                <a:cubicBezTo>
                  <a:pt x="3824" y="14481"/>
                  <a:pt x="3963" y="14821"/>
                  <a:pt x="4018" y="14932"/>
                </a:cubicBezTo>
                <a:cubicBezTo>
                  <a:pt x="4035" y="14949"/>
                  <a:pt x="4051" y="14965"/>
                  <a:pt x="4068" y="14982"/>
                </a:cubicBezTo>
              </a:path>
              <a:path w="2878" h="969">
                <a:moveTo>
                  <a:pt x="4167" y="14784"/>
                </a:moveTo>
                <a:cubicBezTo>
                  <a:pt x="4247" y="14740"/>
                  <a:pt x="4425" y="14732"/>
                  <a:pt x="4490" y="14684"/>
                </a:cubicBezTo>
                <a:cubicBezTo>
                  <a:pt x="4490" y="14656"/>
                  <a:pt x="4487" y="14646"/>
                  <a:pt x="4465" y="14635"/>
                </a:cubicBezTo>
                <a:cubicBezTo>
                  <a:pt x="4338" y="14507"/>
                  <a:pt x="4197" y="14613"/>
                  <a:pt x="4167" y="14808"/>
                </a:cubicBezTo>
                <a:cubicBezTo>
                  <a:pt x="4118" y="15126"/>
                  <a:pt x="4409" y="15011"/>
                  <a:pt x="4539" y="14932"/>
                </a:cubicBezTo>
              </a:path>
              <a:path w="2878" h="969">
                <a:moveTo>
                  <a:pt x="4762" y="14660"/>
                </a:moveTo>
                <a:cubicBezTo>
                  <a:pt x="4683" y="14667"/>
                  <a:pt x="4659" y="14674"/>
                  <a:pt x="4589" y="14709"/>
                </a:cubicBezTo>
                <a:cubicBezTo>
                  <a:pt x="4699" y="14835"/>
                  <a:pt x="4879" y="14840"/>
                  <a:pt x="5035" y="14908"/>
                </a:cubicBezTo>
                <a:cubicBezTo>
                  <a:pt x="5009" y="14947"/>
                  <a:pt x="4725" y="15222"/>
                  <a:pt x="4688" y="15032"/>
                </a:cubicBezTo>
                <a:cubicBezTo>
                  <a:pt x="4705" y="15007"/>
                  <a:pt x="4721" y="14982"/>
                  <a:pt x="4738" y="149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27160" y="4956120"/>
            <a:ext cx="588960" cy="473040"/>
          </a:xfrm>
          <a:custGeom>
            <a:avLst/>
            <a:gdLst/>
            <a:ahLst/>
            <a:rect l="l" t="t" r="r" b="b"/>
            <a:pathLst>
              <a:path w="1638" h="1315">
                <a:moveTo>
                  <a:pt x="5655" y="14536"/>
                </a:moveTo>
                <a:cubicBezTo>
                  <a:pt x="5756" y="14536"/>
                  <a:pt x="5804" y="14498"/>
                  <a:pt x="5904" y="14486"/>
                </a:cubicBezTo>
                <a:cubicBezTo>
                  <a:pt x="6323" y="14438"/>
                  <a:pt x="6748" y="14377"/>
                  <a:pt x="7169" y="14362"/>
                </a:cubicBezTo>
                <a:cubicBezTo>
                  <a:pt x="7227" y="14362"/>
                  <a:pt x="7235" y="14362"/>
                  <a:pt x="7268" y="14362"/>
                </a:cubicBezTo>
              </a:path>
              <a:path w="1638" h="1315">
                <a:moveTo>
                  <a:pt x="6052" y="13816"/>
                </a:moveTo>
                <a:cubicBezTo>
                  <a:pt x="6132" y="13796"/>
                  <a:pt x="6234" y="13727"/>
                  <a:pt x="6325" y="13791"/>
                </a:cubicBezTo>
                <a:cubicBezTo>
                  <a:pt x="6386" y="13834"/>
                  <a:pt x="6198" y="13991"/>
                  <a:pt x="6176" y="14015"/>
                </a:cubicBezTo>
                <a:cubicBezTo>
                  <a:pt x="6253" y="13976"/>
                  <a:pt x="6560" y="13861"/>
                  <a:pt x="6474" y="14089"/>
                </a:cubicBezTo>
                <a:cubicBezTo>
                  <a:pt x="6438" y="14185"/>
                  <a:pt x="6330" y="14178"/>
                  <a:pt x="6251" y="14188"/>
                </a:cubicBezTo>
              </a:path>
              <a:path w="1638" h="1315">
                <a:moveTo>
                  <a:pt x="6251" y="14734"/>
                </a:moveTo>
                <a:cubicBezTo>
                  <a:pt x="6251" y="14784"/>
                  <a:pt x="6251" y="14833"/>
                  <a:pt x="6251" y="14883"/>
                </a:cubicBezTo>
                <a:cubicBezTo>
                  <a:pt x="6446" y="14919"/>
                  <a:pt x="6484" y="14844"/>
                  <a:pt x="6573" y="14684"/>
                </a:cubicBezTo>
              </a:path>
              <a:path w="1638" h="1315">
                <a:moveTo>
                  <a:pt x="6474" y="14536"/>
                </a:moveTo>
                <a:cubicBezTo>
                  <a:pt x="6474" y="14718"/>
                  <a:pt x="6455" y="14909"/>
                  <a:pt x="6499" y="150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0960" y="4983120"/>
            <a:ext cx="768240" cy="357120"/>
          </a:xfrm>
          <a:custGeom>
            <a:avLst/>
            <a:gdLst/>
            <a:ahLst/>
            <a:rect l="l" t="t" r="r" b="b"/>
            <a:pathLst>
              <a:path w="2134" h="993">
                <a:moveTo>
                  <a:pt x="7838" y="14188"/>
                </a:moveTo>
                <a:cubicBezTo>
                  <a:pt x="7885" y="14188"/>
                  <a:pt x="8285" y="14166"/>
                  <a:pt x="8285" y="14213"/>
                </a:cubicBezTo>
                <a:cubicBezTo>
                  <a:pt x="8260" y="14238"/>
                  <a:pt x="8235" y="14263"/>
                  <a:pt x="8210" y="14288"/>
                </a:cubicBezTo>
              </a:path>
              <a:path w="2134" h="993">
                <a:moveTo>
                  <a:pt x="9178" y="13965"/>
                </a:moveTo>
                <a:cubicBezTo>
                  <a:pt x="9146" y="14067"/>
                  <a:pt x="9100" y="14118"/>
                  <a:pt x="9153" y="14188"/>
                </a:cubicBezTo>
                <a:cubicBezTo>
                  <a:pt x="9241" y="14090"/>
                  <a:pt x="9252" y="14045"/>
                  <a:pt x="9178" y="13915"/>
                </a:cubicBezTo>
                <a:cubicBezTo>
                  <a:pt x="9383" y="13792"/>
                  <a:pt x="9575" y="13863"/>
                  <a:pt x="9550" y="14163"/>
                </a:cubicBezTo>
                <a:cubicBezTo>
                  <a:pt x="9533" y="14359"/>
                  <a:pt x="9227" y="14690"/>
                  <a:pt x="9426" y="14610"/>
                </a:cubicBezTo>
              </a:path>
              <a:path w="2134" h="993">
                <a:moveTo>
                  <a:pt x="9798" y="14387"/>
                </a:moveTo>
                <a:cubicBezTo>
                  <a:pt x="9750" y="14482"/>
                  <a:pt x="9733" y="14511"/>
                  <a:pt x="9748" y="14585"/>
                </a:cubicBezTo>
                <a:cubicBezTo>
                  <a:pt x="9858" y="14585"/>
                  <a:pt x="10129" y="14409"/>
                  <a:pt x="9872" y="14337"/>
                </a:cubicBezTo>
                <a:cubicBezTo>
                  <a:pt x="9806" y="14337"/>
                  <a:pt x="9740" y="14337"/>
                  <a:pt x="9674" y="14337"/>
                </a:cubicBezTo>
              </a:path>
              <a:path w="2134" h="993">
                <a:moveTo>
                  <a:pt x="8483" y="14412"/>
                </a:moveTo>
                <a:cubicBezTo>
                  <a:pt x="8537" y="14399"/>
                  <a:pt x="8569" y="14367"/>
                  <a:pt x="8632" y="14362"/>
                </a:cubicBezTo>
                <a:cubicBezTo>
                  <a:pt x="8640" y="14362"/>
                  <a:pt x="8649" y="14362"/>
                  <a:pt x="8657" y="14362"/>
                </a:cubicBezTo>
                <a:cubicBezTo>
                  <a:pt x="8619" y="14488"/>
                  <a:pt x="8614" y="14631"/>
                  <a:pt x="8582" y="14759"/>
                </a:cubicBezTo>
                <a:cubicBezTo>
                  <a:pt x="8566" y="14824"/>
                  <a:pt x="8564" y="14858"/>
                  <a:pt x="8582" y="14784"/>
                </a:cubicBezTo>
              </a:path>
              <a:path w="2134" h="993">
                <a:moveTo>
                  <a:pt x="9004" y="14288"/>
                </a:moveTo>
                <a:cubicBezTo>
                  <a:pt x="8968" y="14288"/>
                  <a:pt x="8877" y="14286"/>
                  <a:pt x="8855" y="14312"/>
                </a:cubicBezTo>
                <a:cubicBezTo>
                  <a:pt x="8819" y="14355"/>
                  <a:pt x="8834" y="14525"/>
                  <a:pt x="8830" y="14585"/>
                </a:cubicBezTo>
                <a:cubicBezTo>
                  <a:pt x="8895" y="14560"/>
                  <a:pt x="8945" y="14469"/>
                  <a:pt x="9029" y="14536"/>
                </a:cubicBezTo>
                <a:cubicBezTo>
                  <a:pt x="9178" y="14655"/>
                  <a:pt x="9032" y="14802"/>
                  <a:pt x="8905" y="14833"/>
                </a:cubicBezTo>
                <a:cubicBezTo>
                  <a:pt x="8827" y="14833"/>
                  <a:pt x="8809" y="14848"/>
                  <a:pt x="8781" y="14808"/>
                </a:cubicBezTo>
              </a:path>
              <a:path w="2134" h="993">
                <a:moveTo>
                  <a:pt x="8359" y="14511"/>
                </a:moveTo>
                <a:cubicBezTo>
                  <a:pt x="8378" y="14453"/>
                  <a:pt x="8518" y="14463"/>
                  <a:pt x="8582" y="14436"/>
                </a:cubicBezTo>
                <a:cubicBezTo>
                  <a:pt x="8605" y="14414"/>
                  <a:pt x="8610" y="14406"/>
                  <a:pt x="8632" y="144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4919760"/>
            <a:ext cx="349200" cy="23328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19100" y="13791"/>
                </a:moveTo>
                <a:cubicBezTo>
                  <a:pt x="19100" y="13673"/>
                  <a:pt x="19080" y="13859"/>
                  <a:pt x="19075" y="13891"/>
                </a:cubicBezTo>
                <a:cubicBezTo>
                  <a:pt x="19064" y="13962"/>
                  <a:pt x="19004" y="14301"/>
                  <a:pt x="19199" y="14263"/>
                </a:cubicBezTo>
                <a:cubicBezTo>
                  <a:pt x="19298" y="14244"/>
                  <a:pt x="19388" y="14064"/>
                  <a:pt x="19323" y="13990"/>
                </a:cubicBezTo>
                <a:cubicBezTo>
                  <a:pt x="19315" y="13990"/>
                  <a:pt x="19306" y="13990"/>
                  <a:pt x="19298" y="13990"/>
                </a:cubicBezTo>
                <a:cubicBezTo>
                  <a:pt x="19271" y="14017"/>
                  <a:pt x="19108" y="14367"/>
                  <a:pt x="19224" y="14312"/>
                </a:cubicBezTo>
                <a:cubicBezTo>
                  <a:pt x="19249" y="14279"/>
                  <a:pt x="19273" y="14246"/>
                  <a:pt x="19298" y="14213"/>
                </a:cubicBezTo>
              </a:path>
              <a:path w="968" h="646">
                <a:moveTo>
                  <a:pt x="19447" y="13742"/>
                </a:moveTo>
                <a:cubicBezTo>
                  <a:pt x="19433" y="13849"/>
                  <a:pt x="19414" y="13853"/>
                  <a:pt x="19472" y="13940"/>
                </a:cubicBezTo>
                <a:cubicBezTo>
                  <a:pt x="19555" y="13847"/>
                  <a:pt x="19575" y="13810"/>
                  <a:pt x="19496" y="13692"/>
                </a:cubicBezTo>
                <a:cubicBezTo>
                  <a:pt x="19665" y="13620"/>
                  <a:pt x="19754" y="13764"/>
                  <a:pt x="19745" y="13940"/>
                </a:cubicBezTo>
                <a:cubicBezTo>
                  <a:pt x="19742" y="13998"/>
                  <a:pt x="19665" y="14172"/>
                  <a:pt x="19670" y="14188"/>
                </a:cubicBezTo>
              </a:path>
              <a:path w="968" h="646">
                <a:moveTo>
                  <a:pt x="19893" y="14089"/>
                </a:moveTo>
                <a:cubicBezTo>
                  <a:pt x="19893" y="14150"/>
                  <a:pt x="19884" y="14166"/>
                  <a:pt x="19918" y="14188"/>
                </a:cubicBezTo>
                <a:cubicBezTo>
                  <a:pt x="19994" y="14120"/>
                  <a:pt x="20081" y="14034"/>
                  <a:pt x="19943" y="13965"/>
                </a:cubicBezTo>
                <a:cubicBezTo>
                  <a:pt x="19901" y="13965"/>
                  <a:pt x="19910" y="13965"/>
                  <a:pt x="19993" y="139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13760" y="4894200"/>
            <a:ext cx="187200" cy="339840"/>
          </a:xfrm>
          <a:custGeom>
            <a:avLst/>
            <a:gdLst/>
            <a:ahLst/>
            <a:rect l="l" t="t" r="r" b="b"/>
            <a:pathLst>
              <a:path w="522" h="944">
                <a:moveTo>
                  <a:pt x="20389" y="13816"/>
                </a:moveTo>
                <a:cubicBezTo>
                  <a:pt x="20349" y="13909"/>
                  <a:pt x="20315" y="13952"/>
                  <a:pt x="20340" y="14039"/>
                </a:cubicBezTo>
                <a:cubicBezTo>
                  <a:pt x="20462" y="13954"/>
                  <a:pt x="20381" y="13893"/>
                  <a:pt x="20489" y="13866"/>
                </a:cubicBezTo>
                <a:cubicBezTo>
                  <a:pt x="20639" y="13828"/>
                  <a:pt x="20637" y="13723"/>
                  <a:pt x="20588" y="13593"/>
                </a:cubicBezTo>
                <a:cubicBezTo>
                  <a:pt x="20645" y="13848"/>
                  <a:pt x="20637" y="14097"/>
                  <a:pt x="20662" y="14362"/>
                </a:cubicBezTo>
                <a:cubicBezTo>
                  <a:pt x="20670" y="14420"/>
                  <a:pt x="20679" y="14478"/>
                  <a:pt x="20687" y="14536"/>
                </a:cubicBezTo>
                <a:cubicBezTo>
                  <a:pt x="20776" y="14476"/>
                  <a:pt x="20944" y="14200"/>
                  <a:pt x="20737" y="14114"/>
                </a:cubicBezTo>
                <a:cubicBezTo>
                  <a:pt x="20670" y="14086"/>
                  <a:pt x="20588" y="14116"/>
                  <a:pt x="20588" y="14188"/>
                </a:cubicBezTo>
              </a:path>
              <a:path w="522" h="944">
                <a:moveTo>
                  <a:pt x="20464" y="14188"/>
                </a:moveTo>
                <a:cubicBezTo>
                  <a:pt x="20590" y="14176"/>
                  <a:pt x="20708" y="14163"/>
                  <a:pt x="20836" y="141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68360" y="5545080"/>
            <a:ext cx="4044960" cy="196920"/>
          </a:xfrm>
          <a:custGeom>
            <a:avLst/>
            <a:gdLst/>
            <a:ahLst/>
            <a:rect l="l" t="t" r="r" b="b"/>
            <a:pathLst>
              <a:path w="11238" h="546">
                <a:moveTo>
                  <a:pt x="6300" y="15900"/>
                </a:moveTo>
                <a:cubicBezTo>
                  <a:pt x="6317" y="15916"/>
                  <a:pt x="6333" y="15933"/>
                  <a:pt x="6350" y="15949"/>
                </a:cubicBezTo>
              </a:path>
              <a:path w="11238" h="546">
                <a:moveTo>
                  <a:pt x="6350" y="15949"/>
                </a:moveTo>
                <a:lnTo>
                  <a:pt x="6350" y="15949"/>
                </a:lnTo>
              </a:path>
              <a:path w="11238" h="546">
                <a:moveTo>
                  <a:pt x="9897" y="15900"/>
                </a:moveTo>
                <a:lnTo>
                  <a:pt x="9897" y="15900"/>
                </a:lnTo>
                <a:lnTo>
                  <a:pt x="9897" y="15900"/>
                </a:lnTo>
              </a:path>
              <a:path w="11238" h="546">
                <a:moveTo>
                  <a:pt x="9897" y="15900"/>
                </a:moveTo>
                <a:lnTo>
                  <a:pt x="9897" y="15900"/>
                </a:lnTo>
              </a:path>
              <a:path w="11238" h="546">
                <a:moveTo>
                  <a:pt x="13494" y="15925"/>
                </a:moveTo>
                <a:cubicBezTo>
                  <a:pt x="13644" y="15867"/>
                  <a:pt x="13780" y="15813"/>
                  <a:pt x="13940" y="15801"/>
                </a:cubicBezTo>
              </a:path>
              <a:path w="11238" h="546">
                <a:moveTo>
                  <a:pt x="17537" y="15404"/>
                </a:moveTo>
                <a:lnTo>
                  <a:pt x="17537" y="15404"/>
                </a:lnTo>
                <a:lnTo>
                  <a:pt x="17537" y="15404"/>
                </a:lnTo>
                <a:lnTo>
                  <a:pt x="17537" y="15404"/>
                </a:lnTo>
              </a:path>
              <a:path w="11238" h="546">
                <a:moveTo>
                  <a:pt x="17537" y="15404"/>
                </a:moveTo>
                <a:lnTo>
                  <a:pt x="17537" y="1540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5732640"/>
            <a:ext cx="277920" cy="260280"/>
          </a:xfrm>
          <a:custGeom>
            <a:avLst/>
            <a:gdLst/>
            <a:ahLst/>
            <a:rect l="l" t="t" r="r" b="b"/>
            <a:pathLst>
              <a:path w="770" h="720">
                <a:moveTo>
                  <a:pt x="2505" y="15949"/>
                </a:moveTo>
                <a:cubicBezTo>
                  <a:pt x="2400" y="15949"/>
                  <a:pt x="2420" y="15934"/>
                  <a:pt x="2356" y="16049"/>
                </a:cubicBezTo>
                <a:cubicBezTo>
                  <a:pt x="2298" y="16153"/>
                  <a:pt x="2300" y="16191"/>
                  <a:pt x="2332" y="16297"/>
                </a:cubicBezTo>
                <a:cubicBezTo>
                  <a:pt x="2441" y="16247"/>
                  <a:pt x="2514" y="16182"/>
                  <a:pt x="2431" y="16049"/>
                </a:cubicBezTo>
                <a:cubicBezTo>
                  <a:pt x="2406" y="16049"/>
                  <a:pt x="2398" y="16049"/>
                  <a:pt x="2406" y="16024"/>
                </a:cubicBezTo>
                <a:cubicBezTo>
                  <a:pt x="2530" y="15974"/>
                  <a:pt x="2571" y="15957"/>
                  <a:pt x="2654" y="15925"/>
                </a:cubicBezTo>
                <a:cubicBezTo>
                  <a:pt x="2768" y="16102"/>
                  <a:pt x="2701" y="16220"/>
                  <a:pt x="2654" y="16421"/>
                </a:cubicBezTo>
                <a:cubicBezTo>
                  <a:pt x="2643" y="16470"/>
                  <a:pt x="2575" y="16626"/>
                  <a:pt x="2629" y="16644"/>
                </a:cubicBezTo>
              </a:path>
              <a:path w="770" h="720">
                <a:moveTo>
                  <a:pt x="2877" y="16446"/>
                </a:moveTo>
                <a:cubicBezTo>
                  <a:pt x="2836" y="16528"/>
                  <a:pt x="2811" y="16545"/>
                  <a:pt x="2853" y="16594"/>
                </a:cubicBezTo>
                <a:cubicBezTo>
                  <a:pt x="2891" y="16590"/>
                  <a:pt x="3185" y="16526"/>
                  <a:pt x="3051" y="16446"/>
                </a:cubicBezTo>
                <a:cubicBezTo>
                  <a:pt x="2959" y="16423"/>
                  <a:pt x="2934" y="16412"/>
                  <a:pt x="2877" y="164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03200" y="5697360"/>
            <a:ext cx="1482840" cy="241560"/>
          </a:xfrm>
          <a:custGeom>
            <a:avLst/>
            <a:gdLst/>
            <a:ahLst/>
            <a:rect l="l" t="t" r="r" b="b"/>
            <a:pathLst>
              <a:path w="4119" h="671">
                <a:moveTo>
                  <a:pt x="3919" y="16148"/>
                </a:moveTo>
                <a:cubicBezTo>
                  <a:pt x="3919" y="16262"/>
                  <a:pt x="3907" y="16067"/>
                  <a:pt x="3795" y="16123"/>
                </a:cubicBezTo>
                <a:cubicBezTo>
                  <a:pt x="3644" y="16198"/>
                  <a:pt x="3615" y="16395"/>
                  <a:pt x="3671" y="16495"/>
                </a:cubicBezTo>
                <a:cubicBezTo>
                  <a:pt x="3844" y="16463"/>
                  <a:pt x="3832" y="16455"/>
                  <a:pt x="3919" y="16297"/>
                </a:cubicBezTo>
              </a:path>
              <a:path w="4119" h="671">
                <a:moveTo>
                  <a:pt x="3795" y="15925"/>
                </a:moveTo>
                <a:cubicBezTo>
                  <a:pt x="3847" y="16114"/>
                  <a:pt x="3932" y="16285"/>
                  <a:pt x="3994" y="16470"/>
                </a:cubicBezTo>
              </a:path>
              <a:path w="4119" h="671">
                <a:moveTo>
                  <a:pt x="4142" y="16272"/>
                </a:moveTo>
                <a:cubicBezTo>
                  <a:pt x="4183" y="16266"/>
                  <a:pt x="4347" y="16257"/>
                  <a:pt x="4341" y="16197"/>
                </a:cubicBezTo>
                <a:cubicBezTo>
                  <a:pt x="4315" y="16119"/>
                  <a:pt x="4303" y="16093"/>
                  <a:pt x="4242" y="16073"/>
                </a:cubicBezTo>
                <a:cubicBezTo>
                  <a:pt x="4142" y="16137"/>
                  <a:pt x="4025" y="16299"/>
                  <a:pt x="4167" y="16421"/>
                </a:cubicBezTo>
                <a:cubicBezTo>
                  <a:pt x="4248" y="16491"/>
                  <a:pt x="4405" y="16416"/>
                  <a:pt x="4490" y="16396"/>
                </a:cubicBezTo>
              </a:path>
              <a:path w="4119" h="671">
                <a:moveTo>
                  <a:pt x="4837" y="16197"/>
                </a:moveTo>
                <a:cubicBezTo>
                  <a:pt x="4785" y="16121"/>
                  <a:pt x="4792" y="16121"/>
                  <a:pt x="4713" y="16073"/>
                </a:cubicBezTo>
                <a:cubicBezTo>
                  <a:pt x="4666" y="16120"/>
                  <a:pt x="4464" y="16384"/>
                  <a:pt x="4638" y="16446"/>
                </a:cubicBezTo>
                <a:cubicBezTo>
                  <a:pt x="4773" y="16419"/>
                  <a:pt x="4821" y="16402"/>
                  <a:pt x="4862" y="16297"/>
                </a:cubicBezTo>
              </a:path>
              <a:path w="4119" h="671">
                <a:moveTo>
                  <a:pt x="4713" y="15900"/>
                </a:moveTo>
                <a:cubicBezTo>
                  <a:pt x="4811" y="16051"/>
                  <a:pt x="4870" y="16259"/>
                  <a:pt x="4961" y="16396"/>
                </a:cubicBezTo>
                <a:cubicBezTo>
                  <a:pt x="4969" y="16396"/>
                  <a:pt x="4978" y="16396"/>
                  <a:pt x="4986" y="16396"/>
                </a:cubicBezTo>
              </a:path>
              <a:path w="4119" h="671">
                <a:moveTo>
                  <a:pt x="5110" y="16123"/>
                </a:moveTo>
                <a:cubicBezTo>
                  <a:pt x="5116" y="16212"/>
                  <a:pt x="5129" y="16287"/>
                  <a:pt x="5159" y="16371"/>
                </a:cubicBezTo>
                <a:cubicBezTo>
                  <a:pt x="5316" y="16371"/>
                  <a:pt x="5369" y="16251"/>
                  <a:pt x="5333" y="16073"/>
                </a:cubicBezTo>
                <a:cubicBezTo>
                  <a:pt x="5325" y="16073"/>
                  <a:pt x="5316" y="16073"/>
                  <a:pt x="5308" y="16073"/>
                </a:cubicBezTo>
                <a:cubicBezTo>
                  <a:pt x="5333" y="16199"/>
                  <a:pt x="5342" y="16249"/>
                  <a:pt x="5457" y="16272"/>
                </a:cubicBezTo>
              </a:path>
              <a:path w="4119" h="671">
                <a:moveTo>
                  <a:pt x="5680" y="16098"/>
                </a:moveTo>
                <a:cubicBezTo>
                  <a:pt x="5730" y="16098"/>
                  <a:pt x="5738" y="16073"/>
                  <a:pt x="5705" y="15999"/>
                </a:cubicBezTo>
                <a:cubicBezTo>
                  <a:pt x="5573" y="15999"/>
                  <a:pt x="5543" y="16181"/>
                  <a:pt x="5556" y="16297"/>
                </a:cubicBezTo>
                <a:cubicBezTo>
                  <a:pt x="5581" y="16526"/>
                  <a:pt x="5799" y="16339"/>
                  <a:pt x="5879" y="16297"/>
                </a:cubicBezTo>
              </a:path>
              <a:path w="4119" h="671">
                <a:moveTo>
                  <a:pt x="5978" y="15825"/>
                </a:moveTo>
                <a:cubicBezTo>
                  <a:pt x="6013" y="16008"/>
                  <a:pt x="6072" y="16190"/>
                  <a:pt x="6102" y="16371"/>
                </a:cubicBezTo>
              </a:path>
              <a:path w="4119" h="671">
                <a:moveTo>
                  <a:pt x="5854" y="16049"/>
                </a:moveTo>
                <a:cubicBezTo>
                  <a:pt x="5974" y="15972"/>
                  <a:pt x="6161" y="15897"/>
                  <a:pt x="6300" y="15999"/>
                </a:cubicBezTo>
                <a:cubicBezTo>
                  <a:pt x="6399" y="16071"/>
                  <a:pt x="6449" y="16443"/>
                  <a:pt x="6449" y="16321"/>
                </a:cubicBezTo>
                <a:cubicBezTo>
                  <a:pt x="6449" y="16288"/>
                  <a:pt x="6449" y="16255"/>
                  <a:pt x="6449" y="16222"/>
                </a:cubicBezTo>
              </a:path>
              <a:path w="4119" h="671">
                <a:moveTo>
                  <a:pt x="6697" y="15974"/>
                </a:moveTo>
                <a:cubicBezTo>
                  <a:pt x="6608" y="16116"/>
                  <a:pt x="6619" y="16176"/>
                  <a:pt x="6697" y="16321"/>
                </a:cubicBezTo>
                <a:cubicBezTo>
                  <a:pt x="6784" y="16289"/>
                  <a:pt x="7084" y="16125"/>
                  <a:pt x="6871" y="15999"/>
                </a:cubicBezTo>
                <a:cubicBezTo>
                  <a:pt x="6863" y="15994"/>
                  <a:pt x="6583" y="16079"/>
                  <a:pt x="6846" y="15999"/>
                </a:cubicBezTo>
              </a:path>
              <a:path w="4119" h="671">
                <a:moveTo>
                  <a:pt x="7069" y="16297"/>
                </a:moveTo>
                <a:cubicBezTo>
                  <a:pt x="7048" y="16222"/>
                  <a:pt x="6943" y="16052"/>
                  <a:pt x="7069" y="15999"/>
                </a:cubicBezTo>
                <a:cubicBezTo>
                  <a:pt x="7277" y="15911"/>
                  <a:pt x="7308" y="16205"/>
                  <a:pt x="7317" y="16321"/>
                </a:cubicBezTo>
                <a:cubicBezTo>
                  <a:pt x="7317" y="16354"/>
                  <a:pt x="7317" y="16354"/>
                  <a:pt x="7317" y="16297"/>
                </a:cubicBezTo>
              </a:path>
              <a:path w="4119" h="671">
                <a:moveTo>
                  <a:pt x="7565" y="15999"/>
                </a:moveTo>
                <a:cubicBezTo>
                  <a:pt x="7475" y="16035"/>
                  <a:pt x="7470" y="16052"/>
                  <a:pt x="7417" y="16049"/>
                </a:cubicBezTo>
                <a:cubicBezTo>
                  <a:pt x="7568" y="16074"/>
                  <a:pt x="7633" y="16123"/>
                  <a:pt x="7739" y="16222"/>
                </a:cubicBezTo>
                <a:cubicBezTo>
                  <a:pt x="7572" y="16453"/>
                  <a:pt x="7508" y="16332"/>
                  <a:pt x="7441" y="161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09960" y="5626080"/>
            <a:ext cx="384120" cy="223920"/>
          </a:xfrm>
          <a:custGeom>
            <a:avLst/>
            <a:gdLst/>
            <a:ahLst/>
            <a:rect l="l" t="t" r="r" b="b"/>
            <a:pathLst>
              <a:path w="1068" h="621">
                <a:moveTo>
                  <a:pt x="8880" y="15875"/>
                </a:moveTo>
                <a:cubicBezTo>
                  <a:pt x="8922" y="15819"/>
                  <a:pt x="8896" y="15666"/>
                  <a:pt x="8830" y="15627"/>
                </a:cubicBezTo>
                <a:cubicBezTo>
                  <a:pt x="8561" y="15468"/>
                  <a:pt x="8645" y="15969"/>
                  <a:pt x="8657" y="16049"/>
                </a:cubicBezTo>
                <a:cubicBezTo>
                  <a:pt x="8676" y="16179"/>
                  <a:pt x="8767" y="16266"/>
                  <a:pt x="8632" y="16148"/>
                </a:cubicBezTo>
              </a:path>
              <a:path w="1068" h="621">
                <a:moveTo>
                  <a:pt x="8359" y="15974"/>
                </a:moveTo>
                <a:cubicBezTo>
                  <a:pt x="8533" y="15974"/>
                  <a:pt x="8706" y="15974"/>
                  <a:pt x="8880" y="15974"/>
                </a:cubicBezTo>
                <a:cubicBezTo>
                  <a:pt x="8860" y="16034"/>
                  <a:pt x="8701" y="16195"/>
                  <a:pt x="8830" y="16247"/>
                </a:cubicBezTo>
                <a:cubicBezTo>
                  <a:pt x="8971" y="16303"/>
                  <a:pt x="9197" y="16072"/>
                  <a:pt x="9029" y="15974"/>
                </a:cubicBezTo>
                <a:cubicBezTo>
                  <a:pt x="8933" y="15918"/>
                  <a:pt x="8869" y="15978"/>
                  <a:pt x="8880" y="16024"/>
                </a:cubicBezTo>
              </a:path>
              <a:path w="1068" h="621">
                <a:moveTo>
                  <a:pt x="9203" y="16173"/>
                </a:moveTo>
                <a:cubicBezTo>
                  <a:pt x="9229" y="16199"/>
                  <a:pt x="9155" y="16047"/>
                  <a:pt x="9227" y="15949"/>
                </a:cubicBezTo>
                <a:cubicBezTo>
                  <a:pt x="9286" y="15869"/>
                  <a:pt x="9358" y="15852"/>
                  <a:pt x="9426" y="158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98920" y="5589720"/>
            <a:ext cx="1965240" cy="322200"/>
          </a:xfrm>
          <a:custGeom>
            <a:avLst/>
            <a:gdLst/>
            <a:ahLst/>
            <a:rect l="l" t="t" r="r" b="b"/>
            <a:pathLst>
              <a:path w="5458" h="894">
                <a:moveTo>
                  <a:pt x="9996" y="15974"/>
                </a:moveTo>
                <a:cubicBezTo>
                  <a:pt x="10063" y="16101"/>
                  <a:pt x="10042" y="16222"/>
                  <a:pt x="10145" y="16321"/>
                </a:cubicBezTo>
              </a:path>
              <a:path w="5458" h="894">
                <a:moveTo>
                  <a:pt x="10294" y="16197"/>
                </a:moveTo>
                <a:cubicBezTo>
                  <a:pt x="10368" y="16246"/>
                  <a:pt x="10244" y="16030"/>
                  <a:pt x="10244" y="15974"/>
                </a:cubicBezTo>
                <a:cubicBezTo>
                  <a:pt x="10244" y="15769"/>
                  <a:pt x="10539" y="16012"/>
                  <a:pt x="10567" y="16049"/>
                </a:cubicBezTo>
                <a:cubicBezTo>
                  <a:pt x="10640" y="16145"/>
                  <a:pt x="10616" y="16186"/>
                  <a:pt x="10616" y="16049"/>
                </a:cubicBezTo>
              </a:path>
              <a:path w="5458" h="894">
                <a:moveTo>
                  <a:pt x="10716" y="15825"/>
                </a:moveTo>
                <a:cubicBezTo>
                  <a:pt x="10659" y="15863"/>
                  <a:pt x="10634" y="15858"/>
                  <a:pt x="10641" y="15900"/>
                </a:cubicBezTo>
                <a:cubicBezTo>
                  <a:pt x="10746" y="15952"/>
                  <a:pt x="10821" y="15982"/>
                  <a:pt x="10914" y="16049"/>
                </a:cubicBezTo>
                <a:cubicBezTo>
                  <a:pt x="10864" y="16084"/>
                  <a:pt x="10651" y="16220"/>
                  <a:pt x="10666" y="16049"/>
                </a:cubicBezTo>
                <a:cubicBezTo>
                  <a:pt x="10683" y="16008"/>
                  <a:pt x="10699" y="15966"/>
                  <a:pt x="10716" y="15925"/>
                </a:cubicBezTo>
              </a:path>
              <a:path w="5458" h="894">
                <a:moveTo>
                  <a:pt x="10840" y="15801"/>
                </a:moveTo>
                <a:cubicBezTo>
                  <a:pt x="10882" y="15891"/>
                  <a:pt x="10922" y="15982"/>
                  <a:pt x="10964" y="16073"/>
                </a:cubicBezTo>
                <a:cubicBezTo>
                  <a:pt x="11090" y="16037"/>
                  <a:pt x="11174" y="15994"/>
                  <a:pt x="11162" y="15850"/>
                </a:cubicBezTo>
                <a:cubicBezTo>
                  <a:pt x="11154" y="15834"/>
                  <a:pt x="11145" y="15817"/>
                  <a:pt x="11137" y="15801"/>
                </a:cubicBezTo>
                <a:cubicBezTo>
                  <a:pt x="11191" y="15924"/>
                  <a:pt x="11270" y="15987"/>
                  <a:pt x="11385" y="16049"/>
                </a:cubicBezTo>
                <a:cubicBezTo>
                  <a:pt x="11424" y="15958"/>
                  <a:pt x="11402" y="15907"/>
                  <a:pt x="11385" y="15801"/>
                </a:cubicBezTo>
              </a:path>
              <a:path w="5458" h="894">
                <a:moveTo>
                  <a:pt x="11410" y="15949"/>
                </a:moveTo>
                <a:cubicBezTo>
                  <a:pt x="11427" y="15982"/>
                  <a:pt x="11443" y="16016"/>
                  <a:pt x="11460" y="16049"/>
                </a:cubicBezTo>
                <a:cubicBezTo>
                  <a:pt x="11434" y="15945"/>
                  <a:pt x="11416" y="15818"/>
                  <a:pt x="11460" y="15701"/>
                </a:cubicBezTo>
                <a:cubicBezTo>
                  <a:pt x="11496" y="15607"/>
                  <a:pt x="11599" y="15682"/>
                  <a:pt x="11658" y="15701"/>
                </a:cubicBezTo>
              </a:path>
              <a:path w="5458" h="894">
                <a:moveTo>
                  <a:pt x="11881" y="15701"/>
                </a:moveTo>
                <a:cubicBezTo>
                  <a:pt x="11746" y="15740"/>
                  <a:pt x="11664" y="15883"/>
                  <a:pt x="11757" y="16024"/>
                </a:cubicBezTo>
                <a:cubicBezTo>
                  <a:pt x="11879" y="16210"/>
                  <a:pt x="11921" y="15871"/>
                  <a:pt x="11906" y="15801"/>
                </a:cubicBezTo>
                <a:cubicBezTo>
                  <a:pt x="11931" y="15924"/>
                  <a:pt x="11939" y="15965"/>
                  <a:pt x="12005" y="16024"/>
                </a:cubicBezTo>
                <a:cubicBezTo>
                  <a:pt x="12147" y="15947"/>
                  <a:pt x="12112" y="15952"/>
                  <a:pt x="12129" y="15776"/>
                </a:cubicBezTo>
              </a:path>
              <a:path w="5458" h="894">
                <a:moveTo>
                  <a:pt x="12154" y="15850"/>
                </a:moveTo>
                <a:cubicBezTo>
                  <a:pt x="12190" y="16017"/>
                  <a:pt x="12189" y="16018"/>
                  <a:pt x="12154" y="15850"/>
                </a:cubicBezTo>
                <a:cubicBezTo>
                  <a:pt x="12134" y="15749"/>
                  <a:pt x="12115" y="15729"/>
                  <a:pt x="12154" y="15677"/>
                </a:cubicBezTo>
                <a:cubicBezTo>
                  <a:pt x="12349" y="15713"/>
                  <a:pt x="12387" y="15773"/>
                  <a:pt x="12427" y="15974"/>
                </a:cubicBezTo>
              </a:path>
              <a:path w="5458" h="894">
                <a:moveTo>
                  <a:pt x="12675" y="15677"/>
                </a:moveTo>
                <a:cubicBezTo>
                  <a:pt x="12695" y="15717"/>
                  <a:pt x="12704" y="15723"/>
                  <a:pt x="12700" y="15751"/>
                </a:cubicBezTo>
                <a:cubicBezTo>
                  <a:pt x="12700" y="15712"/>
                  <a:pt x="12734" y="15554"/>
                  <a:pt x="12650" y="15602"/>
                </a:cubicBezTo>
                <a:cubicBezTo>
                  <a:pt x="12517" y="15678"/>
                  <a:pt x="12425" y="15984"/>
                  <a:pt x="12650" y="16024"/>
                </a:cubicBezTo>
                <a:cubicBezTo>
                  <a:pt x="12765" y="15978"/>
                  <a:pt x="12800" y="15968"/>
                  <a:pt x="12849" y="15900"/>
                </a:cubicBezTo>
              </a:path>
              <a:path w="5458" h="894">
                <a:moveTo>
                  <a:pt x="12923" y="15751"/>
                </a:moveTo>
                <a:cubicBezTo>
                  <a:pt x="13002" y="15708"/>
                  <a:pt x="13014" y="15701"/>
                  <a:pt x="13097" y="15701"/>
                </a:cubicBezTo>
                <a:cubicBezTo>
                  <a:pt x="13089" y="15669"/>
                  <a:pt x="13023" y="15535"/>
                  <a:pt x="12998" y="15528"/>
                </a:cubicBezTo>
                <a:cubicBezTo>
                  <a:pt x="12840" y="15487"/>
                  <a:pt x="12909" y="15895"/>
                  <a:pt x="12948" y="15949"/>
                </a:cubicBezTo>
                <a:cubicBezTo>
                  <a:pt x="13049" y="16089"/>
                  <a:pt x="13125" y="15994"/>
                  <a:pt x="13221" y="15925"/>
                </a:cubicBezTo>
              </a:path>
              <a:path w="5458" h="894">
                <a:moveTo>
                  <a:pt x="13494" y="15974"/>
                </a:moveTo>
                <a:cubicBezTo>
                  <a:pt x="13504" y="16145"/>
                  <a:pt x="13535" y="16267"/>
                  <a:pt x="13469" y="16421"/>
                </a:cubicBezTo>
              </a:path>
              <a:path w="5458" h="894">
                <a:moveTo>
                  <a:pt x="13618" y="15602"/>
                </a:moveTo>
                <a:cubicBezTo>
                  <a:pt x="13618" y="15574"/>
                  <a:pt x="13620" y="15563"/>
                  <a:pt x="13643" y="15553"/>
                </a:cubicBezTo>
                <a:cubicBezTo>
                  <a:pt x="13643" y="15663"/>
                  <a:pt x="13580" y="15998"/>
                  <a:pt x="13667" y="16073"/>
                </a:cubicBezTo>
                <a:cubicBezTo>
                  <a:pt x="13736" y="16133"/>
                  <a:pt x="13868" y="16032"/>
                  <a:pt x="13915" y="15999"/>
                </a:cubicBezTo>
              </a:path>
              <a:path w="5458" h="894">
                <a:moveTo>
                  <a:pt x="14163" y="15801"/>
                </a:moveTo>
                <a:cubicBezTo>
                  <a:pt x="14142" y="15715"/>
                  <a:pt x="14054" y="15742"/>
                  <a:pt x="14015" y="15825"/>
                </a:cubicBezTo>
                <a:cubicBezTo>
                  <a:pt x="13948" y="15966"/>
                  <a:pt x="14054" y="16084"/>
                  <a:pt x="14163" y="15949"/>
                </a:cubicBezTo>
                <a:cubicBezTo>
                  <a:pt x="14188" y="15875"/>
                  <a:pt x="14196" y="15850"/>
                  <a:pt x="14163" y="15801"/>
                </a:cubicBezTo>
                <a:cubicBezTo>
                  <a:pt x="14243" y="15879"/>
                  <a:pt x="14314" y="15983"/>
                  <a:pt x="14436" y="15925"/>
                </a:cubicBezTo>
                <a:cubicBezTo>
                  <a:pt x="14453" y="15908"/>
                  <a:pt x="14469" y="15892"/>
                  <a:pt x="14486" y="15875"/>
                </a:cubicBezTo>
              </a:path>
              <a:path w="5458" h="894">
                <a:moveTo>
                  <a:pt x="14412" y="15652"/>
                </a:moveTo>
                <a:cubicBezTo>
                  <a:pt x="14478" y="15702"/>
                  <a:pt x="14549" y="15832"/>
                  <a:pt x="14635" y="15900"/>
                </a:cubicBezTo>
                <a:cubicBezTo>
                  <a:pt x="14678" y="15922"/>
                  <a:pt x="14689" y="15926"/>
                  <a:pt x="14709" y="15949"/>
                </a:cubicBezTo>
              </a:path>
              <a:path w="5458" h="894">
                <a:moveTo>
                  <a:pt x="14585" y="15577"/>
                </a:moveTo>
                <a:cubicBezTo>
                  <a:pt x="14578" y="15660"/>
                  <a:pt x="14476" y="15963"/>
                  <a:pt x="14511" y="16024"/>
                </a:cubicBezTo>
                <a:cubicBezTo>
                  <a:pt x="14519" y="16024"/>
                  <a:pt x="14528" y="16024"/>
                  <a:pt x="14536" y="16024"/>
                </a:cubicBezTo>
              </a:path>
              <a:path w="5458" h="894">
                <a:moveTo>
                  <a:pt x="14833" y="15751"/>
                </a:moveTo>
                <a:cubicBezTo>
                  <a:pt x="14860" y="15738"/>
                  <a:pt x="14969" y="15742"/>
                  <a:pt x="14982" y="15726"/>
                </a:cubicBezTo>
                <a:cubicBezTo>
                  <a:pt x="14982" y="15718"/>
                  <a:pt x="14982" y="15709"/>
                  <a:pt x="14982" y="15701"/>
                </a:cubicBezTo>
                <a:cubicBezTo>
                  <a:pt x="14958" y="15663"/>
                  <a:pt x="14885" y="15525"/>
                  <a:pt x="14833" y="15602"/>
                </a:cubicBezTo>
                <a:cubicBezTo>
                  <a:pt x="14759" y="15712"/>
                  <a:pt x="14724" y="16015"/>
                  <a:pt x="14932" y="15999"/>
                </a:cubicBezTo>
                <a:cubicBezTo>
                  <a:pt x="14973" y="15982"/>
                  <a:pt x="15015" y="15966"/>
                  <a:pt x="15056" y="15949"/>
                </a:cubicBezTo>
              </a:path>
              <a:path w="5458" h="894">
                <a:moveTo>
                  <a:pt x="15329" y="15553"/>
                </a:moveTo>
                <a:cubicBezTo>
                  <a:pt x="15242" y="15531"/>
                  <a:pt x="15254" y="15538"/>
                  <a:pt x="15180" y="15602"/>
                </a:cubicBezTo>
                <a:cubicBezTo>
                  <a:pt x="15199" y="15713"/>
                  <a:pt x="15316" y="15637"/>
                  <a:pt x="15404" y="15701"/>
                </a:cubicBezTo>
                <a:cubicBezTo>
                  <a:pt x="15556" y="15812"/>
                  <a:pt x="15323" y="15972"/>
                  <a:pt x="15205" y="15925"/>
                </a:cubicBezTo>
                <a:cubicBezTo>
                  <a:pt x="15180" y="15900"/>
                  <a:pt x="15156" y="15875"/>
                  <a:pt x="15131" y="158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00840" y="5367240"/>
            <a:ext cx="598320" cy="482760"/>
          </a:xfrm>
          <a:custGeom>
            <a:avLst/>
            <a:gdLst/>
            <a:ahLst/>
            <a:rect l="l" t="t" r="r" b="b"/>
            <a:pathLst>
              <a:path w="1663" h="1340">
                <a:moveTo>
                  <a:pt x="17289" y="15156"/>
                </a:moveTo>
                <a:cubicBezTo>
                  <a:pt x="17223" y="15177"/>
                  <a:pt x="17286" y="15402"/>
                  <a:pt x="17289" y="15429"/>
                </a:cubicBezTo>
                <a:cubicBezTo>
                  <a:pt x="17305" y="15561"/>
                  <a:pt x="17327" y="15693"/>
                  <a:pt x="17338" y="15825"/>
                </a:cubicBezTo>
              </a:path>
              <a:path w="1663" h="1340">
                <a:moveTo>
                  <a:pt x="16669" y="15354"/>
                </a:moveTo>
                <a:cubicBezTo>
                  <a:pt x="16827" y="15331"/>
                  <a:pt x="16987" y="15278"/>
                  <a:pt x="17140" y="15230"/>
                </a:cubicBezTo>
                <a:cubicBezTo>
                  <a:pt x="17221" y="15205"/>
                  <a:pt x="17361" y="15131"/>
                  <a:pt x="17438" y="15205"/>
                </a:cubicBezTo>
                <a:cubicBezTo>
                  <a:pt x="17463" y="15230"/>
                  <a:pt x="17487" y="15255"/>
                  <a:pt x="17512" y="15280"/>
                </a:cubicBezTo>
              </a:path>
              <a:path w="1663" h="1340">
                <a:moveTo>
                  <a:pt x="17587" y="15577"/>
                </a:moveTo>
                <a:cubicBezTo>
                  <a:pt x="17619" y="15482"/>
                  <a:pt x="17659" y="15694"/>
                  <a:pt x="17661" y="15701"/>
                </a:cubicBezTo>
                <a:cubicBezTo>
                  <a:pt x="17704" y="15863"/>
                  <a:pt x="17692" y="15839"/>
                  <a:pt x="17661" y="15677"/>
                </a:cubicBezTo>
              </a:path>
              <a:path w="1663" h="1340">
                <a:moveTo>
                  <a:pt x="17934" y="15677"/>
                </a:moveTo>
                <a:cubicBezTo>
                  <a:pt x="17990" y="15853"/>
                  <a:pt x="18015" y="16053"/>
                  <a:pt x="18083" y="16222"/>
                </a:cubicBezTo>
                <a:cubicBezTo>
                  <a:pt x="18107" y="16247"/>
                  <a:pt x="18115" y="16255"/>
                  <a:pt x="18083" y="16222"/>
                </a:cubicBezTo>
                <a:cubicBezTo>
                  <a:pt x="18018" y="15991"/>
                  <a:pt x="17993" y="15814"/>
                  <a:pt x="18033" y="15577"/>
                </a:cubicBezTo>
                <a:cubicBezTo>
                  <a:pt x="18056" y="15441"/>
                  <a:pt x="18091" y="15463"/>
                  <a:pt x="18207" y="15453"/>
                </a:cubicBezTo>
                <a:cubicBezTo>
                  <a:pt x="18318" y="15599"/>
                  <a:pt x="18413" y="15738"/>
                  <a:pt x="18157" y="15801"/>
                </a:cubicBezTo>
                <a:cubicBezTo>
                  <a:pt x="18042" y="15829"/>
                  <a:pt x="18038" y="15780"/>
                  <a:pt x="17983" y="15701"/>
                </a:cubicBezTo>
              </a:path>
              <a:path w="1663" h="1340">
                <a:moveTo>
                  <a:pt x="17214" y="15354"/>
                </a:moveTo>
                <a:cubicBezTo>
                  <a:pt x="17174" y="15298"/>
                  <a:pt x="17179" y="15322"/>
                  <a:pt x="17190" y="15280"/>
                </a:cubicBezTo>
                <a:cubicBezTo>
                  <a:pt x="17219" y="15167"/>
                  <a:pt x="17493" y="15091"/>
                  <a:pt x="17587" y="15056"/>
                </a:cubicBezTo>
                <a:cubicBezTo>
                  <a:pt x="17677" y="15022"/>
                  <a:pt x="17819" y="14979"/>
                  <a:pt x="17884" y="14957"/>
                </a:cubicBezTo>
              </a:path>
              <a:path w="1663" h="1340">
                <a:moveTo>
                  <a:pt x="16694" y="15379"/>
                </a:moveTo>
                <a:cubicBezTo>
                  <a:pt x="16718" y="15360"/>
                  <a:pt x="16792" y="15297"/>
                  <a:pt x="16842" y="15280"/>
                </a:cubicBezTo>
                <a:cubicBezTo>
                  <a:pt x="17080" y="15201"/>
                  <a:pt x="17325" y="15144"/>
                  <a:pt x="17562" y="15056"/>
                </a:cubicBezTo>
                <a:cubicBezTo>
                  <a:pt x="17681" y="15012"/>
                  <a:pt x="17854" y="14969"/>
                  <a:pt x="17959" y="149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imes New Roman"/>
              </a:rPr>
              <a:t>Objective:  Students will be able to find the percent of a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o find the percent of a number,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change the percent</a:t>
            </a: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 to the equivalent decimal 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and multiply</a:t>
            </a: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25% of 8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52480" y="3429000"/>
          <a:ext cx="5943600" cy="301464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 of 852 = 0.25 x 85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1" lang="en-US" sz="2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= 213.00 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1" lang="en-US" sz="2200" spc="-1" strike="noStrike">
                          <a:solidFill>
                            <a:srgbClr val="66ffff"/>
                          </a:solidFill>
                          <a:latin typeface="Times New Roman"/>
                        </a:rPr>
                        <a:t>just 2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6170760" y="561960"/>
            <a:ext cx="357120" cy="403200"/>
          </a:xfrm>
          <a:custGeom>
            <a:avLst/>
            <a:gdLst/>
            <a:ahLst/>
            <a:rect l="l" t="t" r="r" b="b"/>
            <a:pathLst>
              <a:path w="993" h="1117">
                <a:moveTo>
                  <a:pt x="17562" y="1885"/>
                </a:moveTo>
                <a:cubicBezTo>
                  <a:pt x="17562" y="1768"/>
                  <a:pt x="17569" y="2068"/>
                  <a:pt x="17587" y="2183"/>
                </a:cubicBezTo>
                <a:cubicBezTo>
                  <a:pt x="17601" y="2274"/>
                  <a:pt x="17628" y="2350"/>
                  <a:pt x="17587" y="2406"/>
                </a:cubicBezTo>
              </a:path>
              <a:path w="993" h="1117">
                <a:moveTo>
                  <a:pt x="17239" y="2406"/>
                </a:moveTo>
                <a:cubicBezTo>
                  <a:pt x="17344" y="2546"/>
                  <a:pt x="17446" y="2629"/>
                  <a:pt x="17636" y="2629"/>
                </a:cubicBezTo>
                <a:cubicBezTo>
                  <a:pt x="17818" y="2629"/>
                  <a:pt x="18013" y="2499"/>
                  <a:pt x="18083" y="2332"/>
                </a:cubicBezTo>
                <a:cubicBezTo>
                  <a:pt x="18158" y="2152"/>
                  <a:pt x="18123" y="1954"/>
                  <a:pt x="18033" y="1786"/>
                </a:cubicBezTo>
                <a:cubicBezTo>
                  <a:pt x="17980" y="1686"/>
                  <a:pt x="17832" y="1563"/>
                  <a:pt x="17711" y="1563"/>
                </a:cubicBezTo>
                <a:cubicBezTo>
                  <a:pt x="17550" y="1563"/>
                  <a:pt x="17382" y="1610"/>
                  <a:pt x="17289" y="1736"/>
                </a:cubicBezTo>
                <a:cubicBezTo>
                  <a:pt x="17180" y="1884"/>
                  <a:pt x="17093" y="2147"/>
                  <a:pt x="17140" y="2332"/>
                </a:cubicBezTo>
                <a:cubicBezTo>
                  <a:pt x="17198" y="2559"/>
                  <a:pt x="17312" y="2565"/>
                  <a:pt x="17487" y="2629"/>
                </a:cubicBezTo>
                <a:cubicBezTo>
                  <a:pt x="17510" y="2652"/>
                  <a:pt x="17518" y="2656"/>
                  <a:pt x="17512" y="26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88080" y="1812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579" y="5035"/>
                </a:moveTo>
                <a:lnTo>
                  <a:pt x="18579" y="5035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83000" y="1768320"/>
            <a:ext cx="3205080" cy="54000"/>
          </a:xfrm>
          <a:custGeom>
            <a:avLst/>
            <a:gdLst/>
            <a:ahLst/>
            <a:rect l="l" t="t" r="r" b="b"/>
            <a:pathLst>
              <a:path w="8906" h="150">
                <a:moveTo>
                  <a:pt x="9674" y="4911"/>
                </a:moveTo>
                <a:cubicBezTo>
                  <a:pt x="9740" y="4911"/>
                  <a:pt x="9790" y="4914"/>
                  <a:pt x="9872" y="4911"/>
                </a:cubicBezTo>
                <a:cubicBezTo>
                  <a:pt x="10110" y="4901"/>
                  <a:pt x="10352" y="4936"/>
                  <a:pt x="10592" y="4936"/>
                </a:cubicBezTo>
                <a:cubicBezTo>
                  <a:pt x="11990" y="4936"/>
                  <a:pt x="13389" y="4934"/>
                  <a:pt x="14784" y="4911"/>
                </a:cubicBezTo>
                <a:cubicBezTo>
                  <a:pt x="14991" y="4908"/>
                  <a:pt x="15195" y="4936"/>
                  <a:pt x="15404" y="4936"/>
                </a:cubicBezTo>
                <a:cubicBezTo>
                  <a:pt x="15761" y="4936"/>
                  <a:pt x="16115" y="4956"/>
                  <a:pt x="16470" y="4961"/>
                </a:cubicBezTo>
                <a:cubicBezTo>
                  <a:pt x="16819" y="4966"/>
                  <a:pt x="17164" y="5022"/>
                  <a:pt x="17512" y="5035"/>
                </a:cubicBezTo>
                <a:cubicBezTo>
                  <a:pt x="17751" y="5044"/>
                  <a:pt x="17991" y="5071"/>
                  <a:pt x="18231" y="5060"/>
                </a:cubicBezTo>
                <a:cubicBezTo>
                  <a:pt x="18349" y="5055"/>
                  <a:pt x="18461" y="5045"/>
                  <a:pt x="18579" y="50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81320" y="3152880"/>
            <a:ext cx="1652760" cy="44280"/>
          </a:xfrm>
          <a:custGeom>
            <a:avLst/>
            <a:gdLst/>
            <a:ahLst/>
            <a:rect l="l" t="t" r="r" b="b"/>
            <a:pathLst>
              <a:path w="4590" h="125">
                <a:moveTo>
                  <a:pt x="11336" y="8880"/>
                </a:moveTo>
                <a:cubicBezTo>
                  <a:pt x="11346" y="8878"/>
                  <a:pt x="11389" y="8857"/>
                  <a:pt x="11435" y="8855"/>
                </a:cubicBezTo>
                <a:cubicBezTo>
                  <a:pt x="11682" y="8847"/>
                  <a:pt x="11947" y="8852"/>
                  <a:pt x="12179" y="8830"/>
                </a:cubicBezTo>
                <a:cubicBezTo>
                  <a:pt x="12326" y="8816"/>
                  <a:pt x="12490" y="8821"/>
                  <a:pt x="12626" y="8806"/>
                </a:cubicBezTo>
                <a:cubicBezTo>
                  <a:pt x="12771" y="8790"/>
                  <a:pt x="12940" y="8794"/>
                  <a:pt x="13072" y="8781"/>
                </a:cubicBezTo>
                <a:cubicBezTo>
                  <a:pt x="13196" y="8769"/>
                  <a:pt x="13381" y="8749"/>
                  <a:pt x="13494" y="8756"/>
                </a:cubicBezTo>
                <a:cubicBezTo>
                  <a:pt x="13531" y="8758"/>
                  <a:pt x="13590" y="8781"/>
                  <a:pt x="13643" y="8781"/>
                </a:cubicBezTo>
                <a:cubicBezTo>
                  <a:pt x="13789" y="8781"/>
                  <a:pt x="13989" y="8817"/>
                  <a:pt x="14114" y="8806"/>
                </a:cubicBezTo>
                <a:cubicBezTo>
                  <a:pt x="14174" y="8800"/>
                  <a:pt x="14167" y="8784"/>
                  <a:pt x="14238" y="8781"/>
                </a:cubicBezTo>
                <a:cubicBezTo>
                  <a:pt x="14313" y="8778"/>
                  <a:pt x="14358" y="8804"/>
                  <a:pt x="14436" y="8806"/>
                </a:cubicBezTo>
                <a:cubicBezTo>
                  <a:pt x="14633" y="8811"/>
                  <a:pt x="14872" y="8811"/>
                  <a:pt x="15032" y="8830"/>
                </a:cubicBezTo>
                <a:cubicBezTo>
                  <a:pt x="15272" y="8859"/>
                  <a:pt x="15551" y="8829"/>
                  <a:pt x="15776" y="8806"/>
                </a:cubicBezTo>
                <a:cubicBezTo>
                  <a:pt x="15824" y="8801"/>
                  <a:pt x="15876" y="8806"/>
                  <a:pt x="15925" y="88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0160" y="1731960"/>
            <a:ext cx="3510000" cy="179280"/>
          </a:xfrm>
          <a:custGeom>
            <a:avLst/>
            <a:gdLst/>
            <a:ahLst/>
            <a:rect l="l" t="t" r="r" b="b"/>
            <a:pathLst>
              <a:path w="9749" h="497">
                <a:moveTo>
                  <a:pt x="12055" y="5308"/>
                </a:moveTo>
                <a:cubicBezTo>
                  <a:pt x="12251" y="5301"/>
                  <a:pt x="12411" y="5279"/>
                  <a:pt x="12601" y="5234"/>
                </a:cubicBezTo>
              </a:path>
              <a:path w="9749" h="497">
                <a:moveTo>
                  <a:pt x="12129" y="5135"/>
                </a:moveTo>
                <a:cubicBezTo>
                  <a:pt x="12165" y="5046"/>
                  <a:pt x="12259" y="5012"/>
                  <a:pt x="12353" y="4986"/>
                </a:cubicBezTo>
                <a:cubicBezTo>
                  <a:pt x="12396" y="4986"/>
                  <a:pt x="12421" y="4992"/>
                  <a:pt x="12452" y="5011"/>
                </a:cubicBezTo>
              </a:path>
              <a:path w="9749" h="497">
                <a:moveTo>
                  <a:pt x="21754" y="4812"/>
                </a:moveTo>
                <a:cubicBezTo>
                  <a:pt x="21770" y="4829"/>
                  <a:pt x="21787" y="4845"/>
                  <a:pt x="21803" y="48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1714680"/>
            <a:ext cx="1517760" cy="482400"/>
          </a:xfrm>
          <a:custGeom>
            <a:avLst/>
            <a:gdLst/>
            <a:ahLst/>
            <a:rect l="l" t="t" r="r" b="b"/>
            <a:pathLst>
              <a:path w="4218" h="1341">
                <a:moveTo>
                  <a:pt x="6995" y="5184"/>
                </a:moveTo>
                <a:cubicBezTo>
                  <a:pt x="7057" y="5046"/>
                  <a:pt x="7125" y="5026"/>
                  <a:pt x="7268" y="5035"/>
                </a:cubicBezTo>
                <a:cubicBezTo>
                  <a:pt x="7343" y="5325"/>
                  <a:pt x="7299" y="5516"/>
                  <a:pt x="6970" y="5631"/>
                </a:cubicBezTo>
                <a:cubicBezTo>
                  <a:pt x="6920" y="5631"/>
                  <a:pt x="6871" y="5631"/>
                  <a:pt x="6821" y="5631"/>
                </a:cubicBezTo>
                <a:cubicBezTo>
                  <a:pt x="6877" y="5496"/>
                  <a:pt x="7006" y="5401"/>
                  <a:pt x="7144" y="5556"/>
                </a:cubicBezTo>
                <a:cubicBezTo>
                  <a:pt x="7184" y="5637"/>
                  <a:pt x="7200" y="5650"/>
                  <a:pt x="7193" y="5705"/>
                </a:cubicBezTo>
              </a:path>
              <a:path w="4218" h="1341">
                <a:moveTo>
                  <a:pt x="6623" y="5854"/>
                </a:moveTo>
                <a:cubicBezTo>
                  <a:pt x="7007" y="5924"/>
                  <a:pt x="7552" y="5917"/>
                  <a:pt x="7689" y="5432"/>
                </a:cubicBezTo>
                <a:cubicBezTo>
                  <a:pt x="7806" y="5018"/>
                  <a:pt x="7325" y="4665"/>
                  <a:pt x="6945" y="4762"/>
                </a:cubicBezTo>
                <a:cubicBezTo>
                  <a:pt x="6529" y="4868"/>
                  <a:pt x="6274" y="5675"/>
                  <a:pt x="6722" y="5904"/>
                </a:cubicBezTo>
                <a:cubicBezTo>
                  <a:pt x="6863" y="5920"/>
                  <a:pt x="7003" y="5937"/>
                  <a:pt x="7144" y="5953"/>
                </a:cubicBezTo>
              </a:path>
              <a:path w="4218" h="1341">
                <a:moveTo>
                  <a:pt x="8483" y="5283"/>
                </a:moveTo>
                <a:cubicBezTo>
                  <a:pt x="8483" y="5298"/>
                  <a:pt x="8389" y="5161"/>
                  <a:pt x="8334" y="5110"/>
                </a:cubicBezTo>
                <a:cubicBezTo>
                  <a:pt x="8091" y="5320"/>
                  <a:pt x="8128" y="5502"/>
                  <a:pt x="8186" y="5804"/>
                </a:cubicBezTo>
                <a:cubicBezTo>
                  <a:pt x="8546" y="5728"/>
                  <a:pt x="8736" y="5573"/>
                  <a:pt x="8781" y="5159"/>
                </a:cubicBezTo>
                <a:cubicBezTo>
                  <a:pt x="8773" y="5126"/>
                  <a:pt x="8764" y="5093"/>
                  <a:pt x="8756" y="5060"/>
                </a:cubicBezTo>
                <a:cubicBezTo>
                  <a:pt x="8756" y="5258"/>
                  <a:pt x="8756" y="5457"/>
                  <a:pt x="8756" y="5655"/>
                </a:cubicBezTo>
                <a:cubicBezTo>
                  <a:pt x="8762" y="5593"/>
                  <a:pt x="8835" y="5147"/>
                  <a:pt x="8954" y="5407"/>
                </a:cubicBezTo>
                <a:cubicBezTo>
                  <a:pt x="8993" y="5492"/>
                  <a:pt x="8910" y="5854"/>
                  <a:pt x="8954" y="5606"/>
                </a:cubicBezTo>
              </a:path>
              <a:path w="4218" h="1341">
                <a:moveTo>
                  <a:pt x="9252" y="5383"/>
                </a:moveTo>
                <a:cubicBezTo>
                  <a:pt x="9271" y="5271"/>
                  <a:pt x="9163" y="5207"/>
                  <a:pt x="9054" y="5333"/>
                </a:cubicBezTo>
                <a:cubicBezTo>
                  <a:pt x="8967" y="5485"/>
                  <a:pt x="8933" y="5517"/>
                  <a:pt x="8954" y="5631"/>
                </a:cubicBezTo>
                <a:cubicBezTo>
                  <a:pt x="9128" y="5651"/>
                  <a:pt x="9184" y="5619"/>
                  <a:pt x="9277" y="5432"/>
                </a:cubicBezTo>
                <a:cubicBezTo>
                  <a:pt x="9329" y="5660"/>
                  <a:pt x="9358" y="5598"/>
                  <a:pt x="9500" y="5482"/>
                </a:cubicBezTo>
                <a:cubicBezTo>
                  <a:pt x="9590" y="5409"/>
                  <a:pt x="9550" y="5578"/>
                  <a:pt x="9550" y="5631"/>
                </a:cubicBezTo>
                <a:cubicBezTo>
                  <a:pt x="9560" y="5489"/>
                  <a:pt x="9582" y="5429"/>
                  <a:pt x="9649" y="5308"/>
                </a:cubicBezTo>
                <a:cubicBezTo>
                  <a:pt x="9790" y="5391"/>
                  <a:pt x="9824" y="5467"/>
                  <a:pt x="9847" y="5631"/>
                </a:cubicBezTo>
              </a:path>
              <a:path w="4218" h="1341">
                <a:moveTo>
                  <a:pt x="10096" y="5333"/>
                </a:moveTo>
                <a:cubicBezTo>
                  <a:pt x="9947" y="5432"/>
                  <a:pt x="9897" y="5465"/>
                  <a:pt x="9847" y="5581"/>
                </a:cubicBezTo>
                <a:cubicBezTo>
                  <a:pt x="9942" y="5769"/>
                  <a:pt x="10039" y="5495"/>
                  <a:pt x="10120" y="5383"/>
                </a:cubicBezTo>
                <a:cubicBezTo>
                  <a:pt x="10248" y="5206"/>
                  <a:pt x="10238" y="5844"/>
                  <a:pt x="10120" y="6028"/>
                </a:cubicBezTo>
                <a:cubicBezTo>
                  <a:pt x="9958" y="6281"/>
                  <a:pt x="9825" y="5970"/>
                  <a:pt x="9773" y="5879"/>
                </a:cubicBezTo>
              </a:path>
              <a:path w="4218" h="1341">
                <a:moveTo>
                  <a:pt x="10220" y="5531"/>
                </a:moveTo>
                <a:cubicBezTo>
                  <a:pt x="10349" y="5470"/>
                  <a:pt x="10402" y="5441"/>
                  <a:pt x="10492" y="5333"/>
                </a:cubicBezTo>
                <a:cubicBezTo>
                  <a:pt x="10285" y="5363"/>
                  <a:pt x="10256" y="5466"/>
                  <a:pt x="10170" y="5631"/>
                </a:cubicBezTo>
                <a:cubicBezTo>
                  <a:pt x="10423" y="5757"/>
                  <a:pt x="10432" y="5681"/>
                  <a:pt x="10716" y="55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60880" y="1776240"/>
            <a:ext cx="277920" cy="250920"/>
          </a:xfrm>
          <a:custGeom>
            <a:avLst/>
            <a:gdLst/>
            <a:ahLst/>
            <a:rect l="l" t="t" r="r" b="b"/>
            <a:pathLst>
              <a:path w="770" h="696">
                <a:moveTo>
                  <a:pt x="11683" y="5184"/>
                </a:moveTo>
                <a:cubicBezTo>
                  <a:pt x="11591" y="5368"/>
                  <a:pt x="11573" y="5412"/>
                  <a:pt x="11609" y="5606"/>
                </a:cubicBezTo>
                <a:cubicBezTo>
                  <a:pt x="11742" y="5606"/>
                  <a:pt x="12212" y="5543"/>
                  <a:pt x="11981" y="5283"/>
                </a:cubicBezTo>
                <a:cubicBezTo>
                  <a:pt x="11866" y="5154"/>
                  <a:pt x="11658" y="5279"/>
                  <a:pt x="11782" y="5184"/>
                </a:cubicBezTo>
              </a:path>
              <a:path w="770" h="696">
                <a:moveTo>
                  <a:pt x="12328" y="4936"/>
                </a:moveTo>
                <a:cubicBezTo>
                  <a:pt x="12099" y="5028"/>
                  <a:pt x="12159" y="5110"/>
                  <a:pt x="12229" y="5333"/>
                </a:cubicBezTo>
                <a:cubicBezTo>
                  <a:pt x="12253" y="5410"/>
                  <a:pt x="12305" y="5516"/>
                  <a:pt x="12278" y="55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6200" y="1830240"/>
            <a:ext cx="304920" cy="169920"/>
          </a:xfrm>
          <a:custGeom>
            <a:avLst/>
            <a:gdLst/>
            <a:ahLst/>
            <a:rect l="l" t="t" r="r" b="b"/>
            <a:pathLst>
              <a:path w="845" h="472">
                <a:moveTo>
                  <a:pt x="13469" y="5085"/>
                </a:moveTo>
                <a:cubicBezTo>
                  <a:pt x="13484" y="5141"/>
                  <a:pt x="13568" y="5511"/>
                  <a:pt x="13568" y="5482"/>
                </a:cubicBezTo>
              </a:path>
              <a:path w="845" h="472">
                <a:moveTo>
                  <a:pt x="13295" y="5308"/>
                </a:moveTo>
                <a:cubicBezTo>
                  <a:pt x="13354" y="5301"/>
                  <a:pt x="13833" y="5214"/>
                  <a:pt x="13841" y="5259"/>
                </a:cubicBezTo>
                <a:cubicBezTo>
                  <a:pt x="13853" y="5330"/>
                  <a:pt x="13806" y="5463"/>
                  <a:pt x="13816" y="5556"/>
                </a:cubicBezTo>
                <a:cubicBezTo>
                  <a:pt x="13887" y="5546"/>
                  <a:pt x="14371" y="5359"/>
                  <a:pt x="14064" y="5259"/>
                </a:cubicBezTo>
                <a:cubicBezTo>
                  <a:pt x="13990" y="5259"/>
                  <a:pt x="13915" y="5259"/>
                  <a:pt x="13841" y="52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13240" y="1820880"/>
            <a:ext cx="204840" cy="304920"/>
          </a:xfrm>
          <a:custGeom>
            <a:avLst/>
            <a:gdLst/>
            <a:ahLst/>
            <a:rect l="l" t="t" r="r" b="b"/>
            <a:pathLst>
              <a:path w="571" h="845">
                <a:moveTo>
                  <a:pt x="14833" y="5209"/>
                </a:moveTo>
                <a:cubicBezTo>
                  <a:pt x="14833" y="5184"/>
                  <a:pt x="14833" y="5176"/>
                  <a:pt x="14808" y="5184"/>
                </a:cubicBezTo>
                <a:cubicBezTo>
                  <a:pt x="14964" y="5340"/>
                  <a:pt x="15140" y="5582"/>
                  <a:pt x="15304" y="5705"/>
                </a:cubicBezTo>
                <a:cubicBezTo>
                  <a:pt x="15312" y="5705"/>
                  <a:pt x="15321" y="5705"/>
                  <a:pt x="15329" y="5705"/>
                </a:cubicBezTo>
              </a:path>
              <a:path w="571" h="845">
                <a:moveTo>
                  <a:pt x="15230" y="5060"/>
                </a:moveTo>
                <a:cubicBezTo>
                  <a:pt x="15102" y="5253"/>
                  <a:pt x="14989" y="5447"/>
                  <a:pt x="14883" y="5655"/>
                </a:cubicBezTo>
                <a:cubicBezTo>
                  <a:pt x="14837" y="5746"/>
                  <a:pt x="14881" y="5872"/>
                  <a:pt x="14784" y="5904"/>
                </a:cubicBezTo>
                <a:cubicBezTo>
                  <a:pt x="14776" y="5904"/>
                  <a:pt x="14767" y="5904"/>
                  <a:pt x="14759" y="59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15040" y="1803240"/>
            <a:ext cx="366840" cy="339840"/>
          </a:xfrm>
          <a:custGeom>
            <a:avLst/>
            <a:gdLst/>
            <a:ahLst/>
            <a:rect l="l" t="t" r="r" b="b"/>
            <a:pathLst>
              <a:path w="1018" h="943">
                <a:moveTo>
                  <a:pt x="17512" y="5358"/>
                </a:moveTo>
                <a:cubicBezTo>
                  <a:pt x="17592" y="5291"/>
                  <a:pt x="17732" y="5201"/>
                  <a:pt x="17835" y="5283"/>
                </a:cubicBezTo>
                <a:cubicBezTo>
                  <a:pt x="17895" y="5331"/>
                  <a:pt x="17763" y="5433"/>
                  <a:pt x="17735" y="5457"/>
                </a:cubicBezTo>
                <a:cubicBezTo>
                  <a:pt x="17823" y="5470"/>
                  <a:pt x="17858" y="5491"/>
                  <a:pt x="17934" y="5531"/>
                </a:cubicBezTo>
                <a:cubicBezTo>
                  <a:pt x="17794" y="5759"/>
                  <a:pt x="17696" y="5730"/>
                  <a:pt x="17462" y="5655"/>
                </a:cubicBezTo>
              </a:path>
              <a:path w="1018" h="943">
                <a:moveTo>
                  <a:pt x="17264" y="5829"/>
                </a:moveTo>
                <a:cubicBezTo>
                  <a:pt x="17528" y="5947"/>
                  <a:pt x="17892" y="6052"/>
                  <a:pt x="18132" y="5779"/>
                </a:cubicBezTo>
                <a:cubicBezTo>
                  <a:pt x="18346" y="5535"/>
                  <a:pt x="18361" y="5032"/>
                  <a:pt x="17934" y="5011"/>
                </a:cubicBezTo>
                <a:cubicBezTo>
                  <a:pt x="17576" y="4994"/>
                  <a:pt x="16903" y="5595"/>
                  <a:pt x="17388" y="5904"/>
                </a:cubicBezTo>
                <a:cubicBezTo>
                  <a:pt x="17471" y="5904"/>
                  <a:pt x="17553" y="5904"/>
                  <a:pt x="17636" y="59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46920" y="1670040"/>
            <a:ext cx="1420920" cy="374760"/>
          </a:xfrm>
          <a:custGeom>
            <a:avLst/>
            <a:gdLst/>
            <a:ahLst/>
            <a:rect l="l" t="t" r="r" b="b"/>
            <a:pathLst>
              <a:path w="3945" h="1043">
                <a:moveTo>
                  <a:pt x="19298" y="5333"/>
                </a:moveTo>
                <a:cubicBezTo>
                  <a:pt x="19309" y="5377"/>
                  <a:pt x="19465" y="5890"/>
                  <a:pt x="19323" y="5556"/>
                </a:cubicBezTo>
                <a:cubicBezTo>
                  <a:pt x="19379" y="5349"/>
                  <a:pt x="19494" y="5036"/>
                  <a:pt x="19695" y="5407"/>
                </a:cubicBezTo>
                <a:cubicBezTo>
                  <a:pt x="19716" y="5531"/>
                  <a:pt x="19724" y="5555"/>
                  <a:pt x="19720" y="5631"/>
                </a:cubicBezTo>
                <a:cubicBezTo>
                  <a:pt x="19707" y="5531"/>
                  <a:pt x="19649" y="5288"/>
                  <a:pt x="19794" y="5234"/>
                </a:cubicBezTo>
                <a:cubicBezTo>
                  <a:pt x="20020" y="5150"/>
                  <a:pt x="20032" y="5519"/>
                  <a:pt x="20042" y="5631"/>
                </a:cubicBezTo>
                <a:cubicBezTo>
                  <a:pt x="20042" y="5623"/>
                  <a:pt x="20042" y="5614"/>
                  <a:pt x="20042" y="5606"/>
                </a:cubicBezTo>
              </a:path>
              <a:path w="3945" h="1043">
                <a:moveTo>
                  <a:pt x="20265" y="5234"/>
                </a:moveTo>
                <a:cubicBezTo>
                  <a:pt x="20253" y="5289"/>
                  <a:pt x="20157" y="5643"/>
                  <a:pt x="20365" y="5556"/>
                </a:cubicBezTo>
                <a:cubicBezTo>
                  <a:pt x="20478" y="5509"/>
                  <a:pt x="20484" y="5421"/>
                  <a:pt x="20538" y="5333"/>
                </a:cubicBezTo>
                <a:cubicBezTo>
                  <a:pt x="20508" y="5392"/>
                  <a:pt x="20486" y="5581"/>
                  <a:pt x="20613" y="5581"/>
                </a:cubicBezTo>
                <a:cubicBezTo>
                  <a:pt x="20878" y="5581"/>
                  <a:pt x="20929" y="5215"/>
                  <a:pt x="20910" y="5035"/>
                </a:cubicBezTo>
                <a:cubicBezTo>
                  <a:pt x="20902" y="5002"/>
                  <a:pt x="20894" y="4969"/>
                  <a:pt x="20886" y="4936"/>
                </a:cubicBezTo>
                <a:cubicBezTo>
                  <a:pt x="20842" y="5034"/>
                  <a:pt x="20721" y="5238"/>
                  <a:pt x="20811" y="5383"/>
                </a:cubicBezTo>
                <a:cubicBezTo>
                  <a:pt x="21003" y="5693"/>
                  <a:pt x="21330" y="5161"/>
                  <a:pt x="21406" y="5060"/>
                </a:cubicBezTo>
              </a:path>
              <a:path w="3945" h="1043">
                <a:moveTo>
                  <a:pt x="21357" y="4688"/>
                </a:moveTo>
                <a:cubicBezTo>
                  <a:pt x="21357" y="4934"/>
                  <a:pt x="21376" y="5164"/>
                  <a:pt x="21406" y="5407"/>
                </a:cubicBezTo>
                <a:cubicBezTo>
                  <a:pt x="21406" y="5415"/>
                  <a:pt x="21406" y="5424"/>
                  <a:pt x="21406" y="5432"/>
                </a:cubicBezTo>
              </a:path>
              <a:path w="3945" h="1043">
                <a:moveTo>
                  <a:pt x="21109" y="5085"/>
                </a:moveTo>
                <a:cubicBezTo>
                  <a:pt x="21281" y="5052"/>
                  <a:pt x="21615" y="4894"/>
                  <a:pt x="21754" y="5060"/>
                </a:cubicBezTo>
                <a:cubicBezTo>
                  <a:pt x="21826" y="5146"/>
                  <a:pt x="21803" y="5282"/>
                  <a:pt x="21803" y="5383"/>
                </a:cubicBezTo>
              </a:path>
              <a:path w="3945" h="1043">
                <a:moveTo>
                  <a:pt x="22027" y="5383"/>
                </a:moveTo>
                <a:cubicBezTo>
                  <a:pt x="22050" y="5523"/>
                  <a:pt x="22056" y="5565"/>
                  <a:pt x="22076" y="5655"/>
                </a:cubicBezTo>
                <a:cubicBezTo>
                  <a:pt x="22035" y="5350"/>
                  <a:pt x="22016" y="5199"/>
                  <a:pt x="22175" y="4936"/>
                </a:cubicBezTo>
                <a:cubicBezTo>
                  <a:pt x="22241" y="4987"/>
                  <a:pt x="22496" y="5346"/>
                  <a:pt x="22200" y="5308"/>
                </a:cubicBezTo>
                <a:cubicBezTo>
                  <a:pt x="22042" y="5288"/>
                  <a:pt x="22027" y="5163"/>
                  <a:pt x="22027" y="5060"/>
                </a:cubicBezTo>
              </a:path>
              <a:path w="3945" h="1043">
                <a:moveTo>
                  <a:pt x="22498" y="4638"/>
                </a:moveTo>
                <a:cubicBezTo>
                  <a:pt x="22525" y="4826"/>
                  <a:pt x="22537" y="5021"/>
                  <a:pt x="22572" y="5209"/>
                </a:cubicBezTo>
                <a:cubicBezTo>
                  <a:pt x="22608" y="5402"/>
                  <a:pt x="22792" y="5091"/>
                  <a:pt x="22820" y="5060"/>
                </a:cubicBezTo>
              </a:path>
              <a:path w="3945" h="1043">
                <a:moveTo>
                  <a:pt x="22895" y="4887"/>
                </a:moveTo>
                <a:cubicBezTo>
                  <a:pt x="22866" y="5030"/>
                  <a:pt x="22843" y="5132"/>
                  <a:pt x="22944" y="5234"/>
                </a:cubicBezTo>
                <a:cubicBezTo>
                  <a:pt x="23068" y="5149"/>
                  <a:pt x="23149" y="5088"/>
                  <a:pt x="23192" y="4936"/>
                </a:cubicBezTo>
                <a:cubicBezTo>
                  <a:pt x="23227" y="5083"/>
                  <a:pt x="23297" y="5367"/>
                  <a:pt x="23192" y="5507"/>
                </a:cubicBezTo>
                <a:cubicBezTo>
                  <a:pt x="23118" y="5606"/>
                  <a:pt x="22962" y="5547"/>
                  <a:pt x="22870" y="55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04920" y="2714760"/>
            <a:ext cx="1170000" cy="71280"/>
          </a:xfrm>
          <a:custGeom>
            <a:avLst/>
            <a:gdLst/>
            <a:ahLst/>
            <a:rect l="l" t="t" r="r" b="b"/>
            <a:pathLst>
              <a:path w="3250" h="199">
                <a:moveTo>
                  <a:pt x="3349" y="7565"/>
                </a:moveTo>
                <a:cubicBezTo>
                  <a:pt x="3447" y="7541"/>
                  <a:pt x="3479" y="7533"/>
                  <a:pt x="3547" y="7541"/>
                </a:cubicBezTo>
              </a:path>
              <a:path w="3250" h="199">
                <a:moveTo>
                  <a:pt x="3398" y="7739"/>
                </a:moveTo>
                <a:cubicBezTo>
                  <a:pt x="3528" y="7713"/>
                  <a:pt x="3574" y="7701"/>
                  <a:pt x="3646" y="7640"/>
                </a:cubicBezTo>
              </a:path>
              <a:path w="3250" h="199">
                <a:moveTo>
                  <a:pt x="3646" y="7640"/>
                </a:moveTo>
                <a:lnTo>
                  <a:pt x="3646" y="7640"/>
                </a:lnTo>
              </a:path>
              <a:path w="3250" h="199">
                <a:moveTo>
                  <a:pt x="5457" y="7590"/>
                </a:moveTo>
                <a:cubicBezTo>
                  <a:pt x="5564" y="7568"/>
                  <a:pt x="5588" y="7560"/>
                  <a:pt x="5655" y="7565"/>
                </a:cubicBezTo>
              </a:path>
              <a:path w="3250" h="199">
                <a:moveTo>
                  <a:pt x="6548" y="7615"/>
                </a:moveTo>
                <a:cubicBezTo>
                  <a:pt x="6565" y="7598"/>
                  <a:pt x="6581" y="7582"/>
                  <a:pt x="6598" y="75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5760" y="2608200"/>
            <a:ext cx="669600" cy="374760"/>
          </a:xfrm>
          <a:custGeom>
            <a:avLst/>
            <a:gdLst/>
            <a:ahLst/>
            <a:rect l="l" t="t" r="r" b="b"/>
            <a:pathLst>
              <a:path w="1861" h="1043">
                <a:moveTo>
                  <a:pt x="1612" y="7615"/>
                </a:moveTo>
                <a:cubicBezTo>
                  <a:pt x="1697" y="7488"/>
                  <a:pt x="1913" y="7498"/>
                  <a:pt x="1910" y="7714"/>
                </a:cubicBezTo>
                <a:cubicBezTo>
                  <a:pt x="1905" y="8111"/>
                  <a:pt x="1574" y="8224"/>
                  <a:pt x="1265" y="8235"/>
                </a:cubicBezTo>
                <a:cubicBezTo>
                  <a:pt x="1310" y="7946"/>
                  <a:pt x="1439" y="7971"/>
                  <a:pt x="1687" y="8111"/>
                </a:cubicBezTo>
                <a:cubicBezTo>
                  <a:pt x="1804" y="8177"/>
                  <a:pt x="1804" y="8306"/>
                  <a:pt x="1786" y="8235"/>
                </a:cubicBezTo>
              </a:path>
              <a:path w="1861" h="1043">
                <a:moveTo>
                  <a:pt x="2257" y="7441"/>
                </a:moveTo>
                <a:cubicBezTo>
                  <a:pt x="2201" y="7458"/>
                  <a:pt x="2125" y="7424"/>
                  <a:pt x="2084" y="7466"/>
                </a:cubicBezTo>
                <a:cubicBezTo>
                  <a:pt x="2045" y="7506"/>
                  <a:pt x="2032" y="7633"/>
                  <a:pt x="2009" y="7689"/>
                </a:cubicBezTo>
                <a:cubicBezTo>
                  <a:pt x="2106" y="7689"/>
                  <a:pt x="2160" y="7626"/>
                  <a:pt x="2257" y="7714"/>
                </a:cubicBezTo>
                <a:cubicBezTo>
                  <a:pt x="2451" y="7890"/>
                  <a:pt x="2247" y="8034"/>
                  <a:pt x="2084" y="8086"/>
                </a:cubicBezTo>
                <a:cubicBezTo>
                  <a:pt x="1901" y="8144"/>
                  <a:pt x="1921" y="8114"/>
                  <a:pt x="1960" y="7987"/>
                </a:cubicBezTo>
              </a:path>
              <a:path w="1861" h="1043">
                <a:moveTo>
                  <a:pt x="2580" y="7392"/>
                </a:moveTo>
                <a:cubicBezTo>
                  <a:pt x="2536" y="7377"/>
                  <a:pt x="2555" y="7361"/>
                  <a:pt x="2555" y="7441"/>
                </a:cubicBezTo>
                <a:cubicBezTo>
                  <a:pt x="2555" y="7488"/>
                  <a:pt x="2593" y="7466"/>
                  <a:pt x="2629" y="7466"/>
                </a:cubicBezTo>
                <a:cubicBezTo>
                  <a:pt x="2610" y="7388"/>
                  <a:pt x="2591" y="7364"/>
                  <a:pt x="2555" y="7293"/>
                </a:cubicBezTo>
                <a:cubicBezTo>
                  <a:pt x="2734" y="7223"/>
                  <a:pt x="2842" y="7316"/>
                  <a:pt x="2828" y="7541"/>
                </a:cubicBezTo>
                <a:cubicBezTo>
                  <a:pt x="2815" y="7747"/>
                  <a:pt x="2673" y="7906"/>
                  <a:pt x="2604" y="8086"/>
                </a:cubicBezTo>
              </a:path>
              <a:path w="1861" h="1043">
                <a:moveTo>
                  <a:pt x="2977" y="7764"/>
                </a:moveTo>
                <a:cubicBezTo>
                  <a:pt x="2943" y="7849"/>
                  <a:pt x="2897" y="7883"/>
                  <a:pt x="2952" y="7938"/>
                </a:cubicBezTo>
                <a:cubicBezTo>
                  <a:pt x="3051" y="7891"/>
                  <a:pt x="3253" y="7725"/>
                  <a:pt x="3001" y="7739"/>
                </a:cubicBezTo>
                <a:cubicBezTo>
                  <a:pt x="2960" y="7747"/>
                  <a:pt x="2918" y="7756"/>
                  <a:pt x="2877" y="77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4200" y="2473200"/>
            <a:ext cx="1347840" cy="474840"/>
          </a:xfrm>
          <a:custGeom>
            <a:avLst/>
            <a:gdLst/>
            <a:ahLst/>
            <a:rect l="l" t="t" r="r" b="b"/>
            <a:pathLst>
              <a:path w="3746" h="1316">
                <a:moveTo>
                  <a:pt x="3994" y="6970"/>
                </a:moveTo>
                <a:cubicBezTo>
                  <a:pt x="4041" y="6804"/>
                  <a:pt x="4264" y="6892"/>
                  <a:pt x="4341" y="7020"/>
                </a:cubicBezTo>
                <a:cubicBezTo>
                  <a:pt x="4475" y="7243"/>
                  <a:pt x="4158" y="7371"/>
                  <a:pt x="3994" y="7317"/>
                </a:cubicBezTo>
                <a:cubicBezTo>
                  <a:pt x="3994" y="7309"/>
                  <a:pt x="3994" y="7301"/>
                  <a:pt x="3994" y="7293"/>
                </a:cubicBezTo>
                <a:cubicBezTo>
                  <a:pt x="4170" y="7222"/>
                  <a:pt x="4215" y="7208"/>
                  <a:pt x="4390" y="7317"/>
                </a:cubicBezTo>
              </a:path>
              <a:path w="3746" h="1316">
                <a:moveTo>
                  <a:pt x="4812" y="6871"/>
                </a:moveTo>
                <a:cubicBezTo>
                  <a:pt x="4781" y="6873"/>
                  <a:pt x="4587" y="6870"/>
                  <a:pt x="4589" y="6921"/>
                </a:cubicBezTo>
                <a:cubicBezTo>
                  <a:pt x="4610" y="7005"/>
                  <a:pt x="4626" y="7024"/>
                  <a:pt x="4589" y="7069"/>
                </a:cubicBezTo>
                <a:cubicBezTo>
                  <a:pt x="4753" y="7008"/>
                  <a:pt x="4816" y="6992"/>
                  <a:pt x="4911" y="7144"/>
                </a:cubicBezTo>
                <a:cubicBezTo>
                  <a:pt x="4824" y="7294"/>
                  <a:pt x="4761" y="7317"/>
                  <a:pt x="4589" y="7293"/>
                </a:cubicBezTo>
              </a:path>
              <a:path w="3746" h="1316">
                <a:moveTo>
                  <a:pt x="3845" y="7590"/>
                </a:moveTo>
                <a:cubicBezTo>
                  <a:pt x="4179" y="7491"/>
                  <a:pt x="4561" y="7443"/>
                  <a:pt x="4911" y="7417"/>
                </a:cubicBezTo>
                <a:cubicBezTo>
                  <a:pt x="5095" y="7417"/>
                  <a:pt x="5120" y="7446"/>
                  <a:pt x="5209" y="7392"/>
                </a:cubicBezTo>
              </a:path>
              <a:path w="3746" h="1316">
                <a:moveTo>
                  <a:pt x="3894" y="7764"/>
                </a:moveTo>
                <a:cubicBezTo>
                  <a:pt x="3916" y="7895"/>
                  <a:pt x="3908" y="8004"/>
                  <a:pt x="3894" y="8136"/>
                </a:cubicBezTo>
                <a:cubicBezTo>
                  <a:pt x="3894" y="8178"/>
                  <a:pt x="3894" y="8203"/>
                  <a:pt x="3894" y="8161"/>
                </a:cubicBezTo>
              </a:path>
              <a:path w="3746" h="1316">
                <a:moveTo>
                  <a:pt x="4291" y="7714"/>
                </a:moveTo>
                <a:cubicBezTo>
                  <a:pt x="4142" y="7849"/>
                  <a:pt x="4107" y="7944"/>
                  <a:pt x="4118" y="8136"/>
                </a:cubicBezTo>
                <a:cubicBezTo>
                  <a:pt x="4265" y="8113"/>
                  <a:pt x="4437" y="8028"/>
                  <a:pt x="4341" y="7838"/>
                </a:cubicBezTo>
                <a:cubicBezTo>
                  <a:pt x="4281" y="7799"/>
                  <a:pt x="4269" y="7796"/>
                  <a:pt x="4242" y="7764"/>
                </a:cubicBezTo>
              </a:path>
              <a:path w="3746" h="1316">
                <a:moveTo>
                  <a:pt x="4638" y="7714"/>
                </a:moveTo>
                <a:cubicBezTo>
                  <a:pt x="4590" y="7837"/>
                  <a:pt x="4571" y="7929"/>
                  <a:pt x="4564" y="8062"/>
                </a:cubicBezTo>
                <a:cubicBezTo>
                  <a:pt x="4732" y="8073"/>
                  <a:pt x="4899" y="8005"/>
                  <a:pt x="4862" y="7789"/>
                </a:cubicBezTo>
                <a:cubicBezTo>
                  <a:pt x="4806" y="7705"/>
                  <a:pt x="4778" y="7680"/>
                  <a:pt x="4688" y="7714"/>
                </a:cubicBezTo>
              </a:path>
              <a:path w="3746" h="1316">
                <a:moveTo>
                  <a:pt x="5383" y="7466"/>
                </a:moveTo>
                <a:cubicBezTo>
                  <a:pt x="5467" y="7452"/>
                  <a:pt x="5545" y="7423"/>
                  <a:pt x="5631" y="7417"/>
                </a:cubicBezTo>
                <a:cubicBezTo>
                  <a:pt x="5639" y="7417"/>
                  <a:pt x="5647" y="7417"/>
                  <a:pt x="5655" y="7417"/>
                </a:cubicBezTo>
              </a:path>
              <a:path w="3746" h="1316">
                <a:moveTo>
                  <a:pt x="6152" y="7169"/>
                </a:moveTo>
                <a:cubicBezTo>
                  <a:pt x="6049" y="7290"/>
                  <a:pt x="5963" y="7475"/>
                  <a:pt x="5978" y="7640"/>
                </a:cubicBezTo>
                <a:cubicBezTo>
                  <a:pt x="5995" y="7665"/>
                  <a:pt x="6011" y="7689"/>
                  <a:pt x="6028" y="7714"/>
                </a:cubicBezTo>
                <a:cubicBezTo>
                  <a:pt x="6239" y="7619"/>
                  <a:pt x="6406" y="7455"/>
                  <a:pt x="6251" y="7193"/>
                </a:cubicBezTo>
                <a:cubicBezTo>
                  <a:pt x="6191" y="7154"/>
                  <a:pt x="6179" y="7124"/>
                  <a:pt x="6152" y="7169"/>
                </a:cubicBezTo>
              </a:path>
              <a:path w="3746" h="1316">
                <a:moveTo>
                  <a:pt x="6871" y="7169"/>
                </a:moveTo>
                <a:cubicBezTo>
                  <a:pt x="6806" y="7169"/>
                  <a:pt x="6931" y="7078"/>
                  <a:pt x="6995" y="7094"/>
                </a:cubicBezTo>
                <a:cubicBezTo>
                  <a:pt x="7237" y="7153"/>
                  <a:pt x="7087" y="7472"/>
                  <a:pt x="6945" y="7541"/>
                </a:cubicBezTo>
                <a:cubicBezTo>
                  <a:pt x="6776" y="7623"/>
                  <a:pt x="6782" y="7571"/>
                  <a:pt x="6772" y="7466"/>
                </a:cubicBezTo>
                <a:cubicBezTo>
                  <a:pt x="6907" y="7409"/>
                  <a:pt x="7060" y="7380"/>
                  <a:pt x="7069" y="7590"/>
                </a:cubicBezTo>
                <a:cubicBezTo>
                  <a:pt x="7074" y="7709"/>
                  <a:pt x="7045" y="7590"/>
                  <a:pt x="7045" y="7565"/>
                </a:cubicBezTo>
              </a:path>
              <a:path w="3746" h="1316">
                <a:moveTo>
                  <a:pt x="7491" y="6995"/>
                </a:moveTo>
                <a:cubicBezTo>
                  <a:pt x="7444" y="7021"/>
                  <a:pt x="7314" y="7056"/>
                  <a:pt x="7293" y="7094"/>
                </a:cubicBezTo>
                <a:cubicBezTo>
                  <a:pt x="7271" y="7134"/>
                  <a:pt x="7252" y="7199"/>
                  <a:pt x="7243" y="7243"/>
                </a:cubicBezTo>
                <a:cubicBezTo>
                  <a:pt x="7338" y="7224"/>
                  <a:pt x="7441" y="7155"/>
                  <a:pt x="7541" y="7218"/>
                </a:cubicBezTo>
                <a:cubicBezTo>
                  <a:pt x="7745" y="7348"/>
                  <a:pt x="7422" y="7531"/>
                  <a:pt x="7317" y="7541"/>
                </a:cubicBezTo>
                <a:cubicBezTo>
                  <a:pt x="7284" y="7533"/>
                  <a:pt x="7251" y="7524"/>
                  <a:pt x="7218" y="75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83040" y="2419200"/>
            <a:ext cx="581040" cy="206640"/>
          </a:xfrm>
          <a:custGeom>
            <a:avLst/>
            <a:gdLst/>
            <a:ahLst/>
            <a:rect l="l" t="t" r="r" b="b"/>
            <a:pathLst>
              <a:path w="1613" h="572">
                <a:moveTo>
                  <a:pt x="11410" y="6796"/>
                </a:moveTo>
                <a:cubicBezTo>
                  <a:pt x="11268" y="6761"/>
                  <a:pt x="11178" y="6925"/>
                  <a:pt x="11112" y="7045"/>
                </a:cubicBezTo>
                <a:cubicBezTo>
                  <a:pt x="11067" y="7159"/>
                  <a:pt x="11048" y="7191"/>
                  <a:pt x="11088" y="7268"/>
                </a:cubicBezTo>
                <a:cubicBezTo>
                  <a:pt x="11251" y="7290"/>
                  <a:pt x="11443" y="7262"/>
                  <a:pt x="11509" y="7069"/>
                </a:cubicBezTo>
                <a:cubicBezTo>
                  <a:pt x="11558" y="6925"/>
                  <a:pt x="11466" y="6872"/>
                  <a:pt x="11410" y="6796"/>
                </a:cubicBezTo>
                <a:cubicBezTo>
                  <a:pt x="11410" y="6772"/>
                  <a:pt x="11410" y="6764"/>
                  <a:pt x="11385" y="6772"/>
                </a:cubicBezTo>
              </a:path>
              <a:path w="1613" h="572">
                <a:moveTo>
                  <a:pt x="11633" y="7169"/>
                </a:moveTo>
                <a:cubicBezTo>
                  <a:pt x="11633" y="7210"/>
                  <a:pt x="11633" y="7284"/>
                  <a:pt x="11633" y="7243"/>
                </a:cubicBezTo>
              </a:path>
              <a:path w="1613" h="572">
                <a:moveTo>
                  <a:pt x="11881" y="6796"/>
                </a:moveTo>
                <a:cubicBezTo>
                  <a:pt x="12024" y="6752"/>
                  <a:pt x="12238" y="6759"/>
                  <a:pt x="12179" y="6995"/>
                </a:cubicBezTo>
                <a:cubicBezTo>
                  <a:pt x="12139" y="7158"/>
                  <a:pt x="11994" y="7213"/>
                  <a:pt x="11857" y="7169"/>
                </a:cubicBezTo>
                <a:cubicBezTo>
                  <a:pt x="11870" y="7089"/>
                  <a:pt x="11943" y="7080"/>
                  <a:pt x="12030" y="7119"/>
                </a:cubicBezTo>
                <a:cubicBezTo>
                  <a:pt x="12093" y="7147"/>
                  <a:pt x="12114" y="7224"/>
                  <a:pt x="12129" y="7193"/>
                </a:cubicBezTo>
              </a:path>
              <a:path w="1613" h="572">
                <a:moveTo>
                  <a:pt x="12601" y="6722"/>
                </a:moveTo>
                <a:cubicBezTo>
                  <a:pt x="12469" y="6722"/>
                  <a:pt x="12477" y="6691"/>
                  <a:pt x="12427" y="6796"/>
                </a:cubicBezTo>
                <a:cubicBezTo>
                  <a:pt x="12398" y="6857"/>
                  <a:pt x="12366" y="6907"/>
                  <a:pt x="12353" y="6970"/>
                </a:cubicBezTo>
                <a:cubicBezTo>
                  <a:pt x="12434" y="6958"/>
                  <a:pt x="12541" y="6922"/>
                  <a:pt x="12626" y="6945"/>
                </a:cubicBezTo>
                <a:cubicBezTo>
                  <a:pt x="12781" y="6986"/>
                  <a:pt x="12596" y="7150"/>
                  <a:pt x="12551" y="7169"/>
                </a:cubicBezTo>
                <a:cubicBezTo>
                  <a:pt x="12484" y="7197"/>
                  <a:pt x="12422" y="7193"/>
                  <a:pt x="12353" y="71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67200" y="2394000"/>
            <a:ext cx="125640" cy="150840"/>
          </a:xfrm>
          <a:custGeom>
            <a:avLst/>
            <a:gdLst/>
            <a:ahLst/>
            <a:rect l="l" t="t" r="r" b="b"/>
            <a:pathLst>
              <a:path w="348" h="422">
                <a:moveTo>
                  <a:pt x="13568" y="6722"/>
                </a:moveTo>
                <a:cubicBezTo>
                  <a:pt x="13568" y="6681"/>
                  <a:pt x="13709" y="6863"/>
                  <a:pt x="13742" y="6896"/>
                </a:cubicBezTo>
                <a:cubicBezTo>
                  <a:pt x="13783" y="6937"/>
                  <a:pt x="13825" y="6979"/>
                  <a:pt x="13866" y="7020"/>
                </a:cubicBezTo>
              </a:path>
              <a:path w="348" h="422">
                <a:moveTo>
                  <a:pt x="13767" y="6697"/>
                </a:moveTo>
                <a:cubicBezTo>
                  <a:pt x="13767" y="6669"/>
                  <a:pt x="13769" y="6659"/>
                  <a:pt x="13791" y="6648"/>
                </a:cubicBezTo>
                <a:cubicBezTo>
                  <a:pt x="13747" y="6781"/>
                  <a:pt x="13622" y="6877"/>
                  <a:pt x="13543" y="6995"/>
                </a:cubicBezTo>
                <a:cubicBezTo>
                  <a:pt x="13524" y="7036"/>
                  <a:pt x="13516" y="7042"/>
                  <a:pt x="13519" y="70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0040" y="2367000"/>
            <a:ext cx="490680" cy="241200"/>
          </a:xfrm>
          <a:custGeom>
            <a:avLst/>
            <a:gdLst/>
            <a:ahLst/>
            <a:rect l="l" t="t" r="r" b="b"/>
            <a:pathLst>
              <a:path w="1365" h="671">
                <a:moveTo>
                  <a:pt x="14734" y="6623"/>
                </a:moveTo>
                <a:cubicBezTo>
                  <a:pt x="14620" y="6572"/>
                  <a:pt x="14538" y="6578"/>
                  <a:pt x="14436" y="6672"/>
                </a:cubicBezTo>
                <a:cubicBezTo>
                  <a:pt x="14420" y="6697"/>
                  <a:pt x="14403" y="6722"/>
                  <a:pt x="14387" y="6747"/>
                </a:cubicBezTo>
                <a:cubicBezTo>
                  <a:pt x="14501" y="6872"/>
                  <a:pt x="14645" y="6962"/>
                  <a:pt x="14759" y="7094"/>
                </a:cubicBezTo>
                <a:cubicBezTo>
                  <a:pt x="14680" y="7218"/>
                  <a:pt x="14612" y="7246"/>
                  <a:pt x="14461" y="7218"/>
                </a:cubicBezTo>
                <a:cubicBezTo>
                  <a:pt x="14520" y="7075"/>
                  <a:pt x="14611" y="6929"/>
                  <a:pt x="14684" y="6796"/>
                </a:cubicBezTo>
                <a:cubicBezTo>
                  <a:pt x="14692" y="6788"/>
                  <a:pt x="14701" y="6780"/>
                  <a:pt x="14709" y="6772"/>
                </a:cubicBezTo>
              </a:path>
              <a:path w="1365" h="671">
                <a:moveTo>
                  <a:pt x="15056" y="6672"/>
                </a:moveTo>
                <a:cubicBezTo>
                  <a:pt x="14970" y="6672"/>
                  <a:pt x="14955" y="6653"/>
                  <a:pt x="14908" y="6747"/>
                </a:cubicBezTo>
                <a:cubicBezTo>
                  <a:pt x="14889" y="6785"/>
                  <a:pt x="14867" y="6833"/>
                  <a:pt x="14858" y="6871"/>
                </a:cubicBezTo>
                <a:cubicBezTo>
                  <a:pt x="14934" y="6871"/>
                  <a:pt x="15038" y="6851"/>
                  <a:pt x="15106" y="6896"/>
                </a:cubicBezTo>
                <a:cubicBezTo>
                  <a:pt x="15187" y="6950"/>
                  <a:pt x="15230" y="7123"/>
                  <a:pt x="15106" y="7169"/>
                </a:cubicBezTo>
                <a:cubicBezTo>
                  <a:pt x="15020" y="7201"/>
                  <a:pt x="14923" y="7193"/>
                  <a:pt x="14833" y="7193"/>
                </a:cubicBezTo>
              </a:path>
              <a:path w="1365" h="671">
                <a:moveTo>
                  <a:pt x="15379" y="6722"/>
                </a:moveTo>
                <a:cubicBezTo>
                  <a:pt x="15444" y="6711"/>
                  <a:pt x="15617" y="6602"/>
                  <a:pt x="15627" y="6747"/>
                </a:cubicBezTo>
                <a:cubicBezTo>
                  <a:pt x="15638" y="6910"/>
                  <a:pt x="15465" y="7073"/>
                  <a:pt x="15379" y="7193"/>
                </a:cubicBezTo>
                <a:cubicBezTo>
                  <a:pt x="15464" y="7193"/>
                  <a:pt x="15538" y="7171"/>
                  <a:pt x="15627" y="7169"/>
                </a:cubicBezTo>
                <a:cubicBezTo>
                  <a:pt x="15677" y="7168"/>
                  <a:pt x="15776" y="7169"/>
                  <a:pt x="15726" y="7169"/>
                </a:cubicBezTo>
              </a:path>
              <a:path w="1365" h="671">
                <a:moveTo>
                  <a:pt x="14982" y="6697"/>
                </a:moveTo>
                <a:cubicBezTo>
                  <a:pt x="14997" y="6651"/>
                  <a:pt x="15120" y="6636"/>
                  <a:pt x="15180" y="6623"/>
                </a:cubicBezTo>
                <a:cubicBezTo>
                  <a:pt x="15205" y="6623"/>
                  <a:pt x="15213" y="6623"/>
                  <a:pt x="15205" y="66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72080" y="4438800"/>
            <a:ext cx="1393920" cy="1347480"/>
          </a:xfrm>
          <a:custGeom>
            <a:avLst/>
            <a:gdLst/>
            <a:ahLst/>
            <a:rect l="l" t="t" r="r" b="b"/>
            <a:pathLst>
              <a:path w="3871" h="3746">
                <a:moveTo>
                  <a:pt x="17314" y="12477"/>
                </a:moveTo>
                <a:cubicBezTo>
                  <a:pt x="17291" y="12500"/>
                  <a:pt x="17283" y="12511"/>
                  <a:pt x="17289" y="12477"/>
                </a:cubicBezTo>
                <a:cubicBezTo>
                  <a:pt x="17537" y="12359"/>
                  <a:pt x="17682" y="12553"/>
                  <a:pt x="17537" y="12824"/>
                </a:cubicBezTo>
                <a:cubicBezTo>
                  <a:pt x="17422" y="13040"/>
                  <a:pt x="17310" y="13001"/>
                  <a:pt x="17165" y="12923"/>
                </a:cubicBezTo>
                <a:cubicBezTo>
                  <a:pt x="17281" y="12741"/>
                  <a:pt x="17382" y="12795"/>
                  <a:pt x="17537" y="12923"/>
                </a:cubicBezTo>
                <a:cubicBezTo>
                  <a:pt x="17554" y="12940"/>
                  <a:pt x="17570" y="12956"/>
                  <a:pt x="17587" y="12973"/>
                </a:cubicBezTo>
              </a:path>
              <a:path w="3871" h="3746">
                <a:moveTo>
                  <a:pt x="18207" y="12328"/>
                </a:moveTo>
                <a:cubicBezTo>
                  <a:pt x="18144" y="12328"/>
                  <a:pt x="18031" y="12305"/>
                  <a:pt x="18008" y="12353"/>
                </a:cubicBezTo>
                <a:cubicBezTo>
                  <a:pt x="17959" y="12457"/>
                  <a:pt x="17925" y="12538"/>
                  <a:pt x="17909" y="12650"/>
                </a:cubicBezTo>
                <a:cubicBezTo>
                  <a:pt x="17930" y="12714"/>
                  <a:pt x="17983" y="12648"/>
                  <a:pt x="18033" y="12626"/>
                </a:cubicBezTo>
                <a:cubicBezTo>
                  <a:pt x="18173" y="12564"/>
                  <a:pt x="18331" y="12600"/>
                  <a:pt x="18355" y="12774"/>
                </a:cubicBezTo>
                <a:cubicBezTo>
                  <a:pt x="18385" y="12990"/>
                  <a:pt x="18060" y="12972"/>
                  <a:pt x="17934" y="12948"/>
                </a:cubicBezTo>
                <a:cubicBezTo>
                  <a:pt x="17926" y="12940"/>
                  <a:pt x="17917" y="12931"/>
                  <a:pt x="17909" y="12923"/>
                </a:cubicBezTo>
              </a:path>
              <a:path w="3871" h="3746">
                <a:moveTo>
                  <a:pt x="15478" y="13618"/>
                </a:moveTo>
                <a:cubicBezTo>
                  <a:pt x="15804" y="13546"/>
                  <a:pt x="16154" y="13511"/>
                  <a:pt x="16495" y="13469"/>
                </a:cubicBezTo>
                <a:cubicBezTo>
                  <a:pt x="17388" y="13358"/>
                  <a:pt x="18282" y="13322"/>
                  <a:pt x="19174" y="13221"/>
                </a:cubicBezTo>
                <a:cubicBezTo>
                  <a:pt x="19241" y="13213"/>
                  <a:pt x="19281" y="13225"/>
                  <a:pt x="19348" y="13221"/>
                </a:cubicBezTo>
              </a:path>
              <a:path w="3871" h="3746">
                <a:moveTo>
                  <a:pt x="16446" y="12502"/>
                </a:moveTo>
                <a:cubicBezTo>
                  <a:pt x="16371" y="12427"/>
                  <a:pt x="16292" y="12695"/>
                  <a:pt x="16272" y="12750"/>
                </a:cubicBezTo>
                <a:cubicBezTo>
                  <a:pt x="16205" y="12932"/>
                  <a:pt x="16177" y="13133"/>
                  <a:pt x="16446" y="13097"/>
                </a:cubicBezTo>
                <a:cubicBezTo>
                  <a:pt x="16618" y="13074"/>
                  <a:pt x="16789" y="12928"/>
                  <a:pt x="16793" y="12750"/>
                </a:cubicBezTo>
                <a:cubicBezTo>
                  <a:pt x="16797" y="12572"/>
                  <a:pt x="16588" y="12494"/>
                  <a:pt x="16446" y="12502"/>
                </a:cubicBezTo>
                <a:cubicBezTo>
                  <a:pt x="16244" y="12513"/>
                  <a:pt x="16463" y="12633"/>
                  <a:pt x="16495" y="12650"/>
                </a:cubicBezTo>
              </a:path>
              <a:path w="3871" h="3746">
                <a:moveTo>
                  <a:pt x="16867" y="12973"/>
                </a:moveTo>
                <a:cubicBezTo>
                  <a:pt x="16908" y="12959"/>
                  <a:pt x="16904" y="12948"/>
                  <a:pt x="16867" y="12998"/>
                </a:cubicBezTo>
                <a:cubicBezTo>
                  <a:pt x="16899" y="12995"/>
                  <a:pt x="17076" y="12939"/>
                  <a:pt x="17016" y="12923"/>
                </a:cubicBezTo>
                <a:cubicBezTo>
                  <a:pt x="16917" y="12896"/>
                  <a:pt x="16909" y="12955"/>
                  <a:pt x="16892" y="13022"/>
                </a:cubicBezTo>
              </a:path>
              <a:path w="3871" h="3746">
                <a:moveTo>
                  <a:pt x="18455" y="13593"/>
                </a:moveTo>
                <a:cubicBezTo>
                  <a:pt x="18328" y="13683"/>
                  <a:pt x="18224" y="13840"/>
                  <a:pt x="18256" y="14015"/>
                </a:cubicBezTo>
                <a:cubicBezTo>
                  <a:pt x="18273" y="14040"/>
                  <a:pt x="18289" y="14064"/>
                  <a:pt x="18306" y="14089"/>
                </a:cubicBezTo>
                <a:cubicBezTo>
                  <a:pt x="18549" y="14089"/>
                  <a:pt x="18685" y="14022"/>
                  <a:pt x="18678" y="13742"/>
                </a:cubicBezTo>
                <a:cubicBezTo>
                  <a:pt x="18675" y="13606"/>
                  <a:pt x="18561" y="13605"/>
                  <a:pt x="18455" y="13593"/>
                </a:cubicBezTo>
              </a:path>
              <a:path w="3871" h="3746">
                <a:moveTo>
                  <a:pt x="17413" y="13643"/>
                </a:moveTo>
                <a:cubicBezTo>
                  <a:pt x="17413" y="13576"/>
                  <a:pt x="17392" y="13724"/>
                  <a:pt x="17388" y="13791"/>
                </a:cubicBezTo>
                <a:cubicBezTo>
                  <a:pt x="17378" y="13943"/>
                  <a:pt x="17349" y="14094"/>
                  <a:pt x="17388" y="14238"/>
                </a:cubicBezTo>
                <a:cubicBezTo>
                  <a:pt x="17493" y="14238"/>
                  <a:pt x="17641" y="14245"/>
                  <a:pt x="17735" y="14188"/>
                </a:cubicBezTo>
                <a:cubicBezTo>
                  <a:pt x="17829" y="14130"/>
                  <a:pt x="17874" y="14037"/>
                  <a:pt x="17909" y="13940"/>
                </a:cubicBezTo>
                <a:cubicBezTo>
                  <a:pt x="17868" y="13900"/>
                  <a:pt x="17824" y="13867"/>
                  <a:pt x="17760" y="13891"/>
                </a:cubicBezTo>
                <a:cubicBezTo>
                  <a:pt x="17648" y="13932"/>
                  <a:pt x="17677" y="14033"/>
                  <a:pt x="17686" y="14114"/>
                </a:cubicBezTo>
                <a:cubicBezTo>
                  <a:pt x="17691" y="14160"/>
                  <a:pt x="17700" y="14171"/>
                  <a:pt x="17735" y="14188"/>
                </a:cubicBezTo>
              </a:path>
              <a:path w="3871" h="3746">
                <a:moveTo>
                  <a:pt x="16049" y="13891"/>
                </a:moveTo>
                <a:cubicBezTo>
                  <a:pt x="16049" y="13792"/>
                  <a:pt x="16062" y="14041"/>
                  <a:pt x="16049" y="14139"/>
                </a:cubicBezTo>
                <a:cubicBezTo>
                  <a:pt x="16041" y="14164"/>
                  <a:pt x="16032" y="14188"/>
                  <a:pt x="16024" y="14213"/>
                </a:cubicBezTo>
                <a:cubicBezTo>
                  <a:pt x="16139" y="14199"/>
                  <a:pt x="16225" y="14175"/>
                  <a:pt x="16321" y="14114"/>
                </a:cubicBezTo>
              </a:path>
              <a:path w="3871" h="3746">
                <a:moveTo>
                  <a:pt x="16222" y="13891"/>
                </a:moveTo>
                <a:cubicBezTo>
                  <a:pt x="16329" y="13943"/>
                  <a:pt x="16335" y="14196"/>
                  <a:pt x="16346" y="14312"/>
                </a:cubicBezTo>
                <a:cubicBezTo>
                  <a:pt x="16346" y="14403"/>
                  <a:pt x="16313" y="14444"/>
                  <a:pt x="16371" y="14436"/>
                </a:cubicBezTo>
              </a:path>
              <a:path w="3871" h="3746">
                <a:moveTo>
                  <a:pt x="16421" y="13866"/>
                </a:moveTo>
                <a:cubicBezTo>
                  <a:pt x="16517" y="13786"/>
                  <a:pt x="16621" y="13694"/>
                  <a:pt x="16644" y="13891"/>
                </a:cubicBezTo>
                <a:cubicBezTo>
                  <a:pt x="16663" y="14056"/>
                  <a:pt x="16578" y="14154"/>
                  <a:pt x="16545" y="14288"/>
                </a:cubicBezTo>
                <a:cubicBezTo>
                  <a:pt x="16649" y="14228"/>
                  <a:pt x="16744" y="14173"/>
                  <a:pt x="16867" y="14163"/>
                </a:cubicBezTo>
                <a:cubicBezTo>
                  <a:pt x="16892" y="14161"/>
                  <a:pt x="16917" y="14163"/>
                  <a:pt x="16942" y="14163"/>
                </a:cubicBezTo>
              </a:path>
              <a:path w="3871" h="3746">
                <a:moveTo>
                  <a:pt x="18554" y="14387"/>
                </a:moveTo>
                <a:cubicBezTo>
                  <a:pt x="18540" y="14344"/>
                  <a:pt x="18472" y="14363"/>
                  <a:pt x="18455" y="14412"/>
                </a:cubicBezTo>
                <a:cubicBezTo>
                  <a:pt x="18410" y="14543"/>
                  <a:pt x="18398" y="14637"/>
                  <a:pt x="18455" y="14759"/>
                </a:cubicBezTo>
                <a:cubicBezTo>
                  <a:pt x="18503" y="14861"/>
                  <a:pt x="18636" y="14851"/>
                  <a:pt x="18728" y="14808"/>
                </a:cubicBezTo>
                <a:cubicBezTo>
                  <a:pt x="18814" y="14769"/>
                  <a:pt x="18897" y="14660"/>
                  <a:pt x="18876" y="14560"/>
                </a:cubicBezTo>
                <a:cubicBezTo>
                  <a:pt x="18855" y="14457"/>
                  <a:pt x="18798" y="14408"/>
                  <a:pt x="18703" y="14387"/>
                </a:cubicBezTo>
                <a:cubicBezTo>
                  <a:pt x="18661" y="14378"/>
                  <a:pt x="18581" y="14373"/>
                  <a:pt x="18554" y="14412"/>
                </a:cubicBezTo>
                <a:cubicBezTo>
                  <a:pt x="18521" y="14459"/>
                  <a:pt x="18502" y="14472"/>
                  <a:pt x="18529" y="14486"/>
                </a:cubicBezTo>
              </a:path>
              <a:path w="3871" h="3746">
                <a:moveTo>
                  <a:pt x="17562" y="14560"/>
                </a:moveTo>
                <a:cubicBezTo>
                  <a:pt x="17587" y="14560"/>
                  <a:pt x="17595" y="14560"/>
                  <a:pt x="17587" y="14536"/>
                </a:cubicBezTo>
                <a:cubicBezTo>
                  <a:pt x="17603" y="14584"/>
                  <a:pt x="17564" y="14846"/>
                  <a:pt x="17636" y="14858"/>
                </a:cubicBezTo>
                <a:cubicBezTo>
                  <a:pt x="17768" y="14880"/>
                  <a:pt x="17860" y="14748"/>
                  <a:pt x="17959" y="14709"/>
                </a:cubicBezTo>
              </a:path>
              <a:path w="3871" h="3746">
                <a:moveTo>
                  <a:pt x="17884" y="14362"/>
                </a:moveTo>
                <a:cubicBezTo>
                  <a:pt x="17838" y="14339"/>
                  <a:pt x="17918" y="14552"/>
                  <a:pt x="17934" y="14610"/>
                </a:cubicBezTo>
                <a:cubicBezTo>
                  <a:pt x="17967" y="14731"/>
                  <a:pt x="18009" y="14862"/>
                  <a:pt x="18033" y="14982"/>
                </a:cubicBezTo>
              </a:path>
              <a:path w="3871" h="3746">
                <a:moveTo>
                  <a:pt x="16917" y="14660"/>
                </a:moveTo>
                <a:cubicBezTo>
                  <a:pt x="16890" y="14579"/>
                  <a:pt x="16831" y="14695"/>
                  <a:pt x="16818" y="14734"/>
                </a:cubicBezTo>
                <a:cubicBezTo>
                  <a:pt x="16774" y="14866"/>
                  <a:pt x="16773" y="14998"/>
                  <a:pt x="16842" y="15106"/>
                </a:cubicBezTo>
                <a:cubicBezTo>
                  <a:pt x="16908" y="15209"/>
                  <a:pt x="17016" y="15204"/>
                  <a:pt x="17115" y="15131"/>
                </a:cubicBezTo>
                <a:cubicBezTo>
                  <a:pt x="17217" y="15056"/>
                  <a:pt x="17234" y="14950"/>
                  <a:pt x="17239" y="14833"/>
                </a:cubicBezTo>
                <a:cubicBezTo>
                  <a:pt x="17242" y="14754"/>
                  <a:pt x="17203" y="14721"/>
                  <a:pt x="17140" y="14684"/>
                </a:cubicBezTo>
                <a:cubicBezTo>
                  <a:pt x="17097" y="14659"/>
                  <a:pt x="17020" y="14612"/>
                  <a:pt x="16966" y="14635"/>
                </a:cubicBezTo>
                <a:cubicBezTo>
                  <a:pt x="16911" y="14658"/>
                  <a:pt x="16943" y="14688"/>
                  <a:pt x="16917" y="14709"/>
                </a:cubicBezTo>
                <a:cubicBezTo>
                  <a:pt x="16909" y="14709"/>
                  <a:pt x="16900" y="14709"/>
                  <a:pt x="16892" y="14709"/>
                </a:cubicBezTo>
              </a:path>
              <a:path w="3871" h="3746">
                <a:moveTo>
                  <a:pt x="18876" y="15354"/>
                </a:moveTo>
                <a:cubicBezTo>
                  <a:pt x="18766" y="15428"/>
                  <a:pt x="18720" y="15563"/>
                  <a:pt x="18703" y="15701"/>
                </a:cubicBezTo>
                <a:cubicBezTo>
                  <a:pt x="18703" y="15786"/>
                  <a:pt x="18696" y="15806"/>
                  <a:pt x="18728" y="15850"/>
                </a:cubicBezTo>
                <a:cubicBezTo>
                  <a:pt x="18864" y="15873"/>
                  <a:pt x="18930" y="15836"/>
                  <a:pt x="19000" y="15701"/>
                </a:cubicBezTo>
                <a:cubicBezTo>
                  <a:pt x="19042" y="15619"/>
                  <a:pt x="19046" y="15522"/>
                  <a:pt x="18976" y="15478"/>
                </a:cubicBezTo>
                <a:cubicBezTo>
                  <a:pt x="18912" y="15436"/>
                  <a:pt x="18901" y="15420"/>
                  <a:pt x="18852" y="15429"/>
                </a:cubicBezTo>
              </a:path>
              <a:path w="3871" h="3746">
                <a:moveTo>
                  <a:pt x="18058" y="15553"/>
                </a:moveTo>
                <a:cubicBezTo>
                  <a:pt x="18058" y="15441"/>
                  <a:pt x="17940" y="15765"/>
                  <a:pt x="17934" y="15825"/>
                </a:cubicBezTo>
                <a:cubicBezTo>
                  <a:pt x="17918" y="15981"/>
                  <a:pt x="17999" y="16150"/>
                  <a:pt x="18182" y="16049"/>
                </a:cubicBezTo>
                <a:cubicBezTo>
                  <a:pt x="18296" y="15986"/>
                  <a:pt x="18330" y="15844"/>
                  <a:pt x="18306" y="15726"/>
                </a:cubicBezTo>
                <a:cubicBezTo>
                  <a:pt x="18291" y="15654"/>
                  <a:pt x="18228" y="15593"/>
                  <a:pt x="18157" y="15577"/>
                </a:cubicBezTo>
                <a:cubicBezTo>
                  <a:pt x="18116" y="15577"/>
                  <a:pt x="18108" y="15577"/>
                  <a:pt x="18083" y="15577"/>
                </a:cubicBezTo>
              </a:path>
              <a:path w="3871" h="3746">
                <a:moveTo>
                  <a:pt x="16396" y="13320"/>
                </a:moveTo>
                <a:cubicBezTo>
                  <a:pt x="16420" y="13417"/>
                  <a:pt x="16463" y="13540"/>
                  <a:pt x="16495" y="13643"/>
                </a:cubicBezTo>
                <a:cubicBezTo>
                  <a:pt x="16532" y="13761"/>
                  <a:pt x="16406" y="13414"/>
                  <a:pt x="16371" y="13295"/>
                </a:cubicBezTo>
                <a:cubicBezTo>
                  <a:pt x="16429" y="13392"/>
                  <a:pt x="16445" y="13534"/>
                  <a:pt x="16495" y="13643"/>
                </a:cubicBezTo>
                <a:cubicBezTo>
                  <a:pt x="16517" y="13665"/>
                  <a:pt x="16526" y="13676"/>
                  <a:pt x="16520" y="13643"/>
                </a:cubicBezTo>
                <a:cubicBezTo>
                  <a:pt x="16480" y="13586"/>
                  <a:pt x="16421" y="13475"/>
                  <a:pt x="16396" y="134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45080" y="3848040"/>
            <a:ext cx="581040" cy="438120"/>
          </a:xfrm>
          <a:custGeom>
            <a:avLst/>
            <a:gdLst/>
            <a:ahLst/>
            <a:rect l="l" t="t" r="r" b="b"/>
            <a:pathLst>
              <a:path w="1613" h="1216">
                <a:moveTo>
                  <a:pt x="16942" y="10815"/>
                </a:moveTo>
                <a:cubicBezTo>
                  <a:pt x="16942" y="10730"/>
                  <a:pt x="16969" y="10931"/>
                  <a:pt x="16991" y="11013"/>
                </a:cubicBezTo>
                <a:cubicBezTo>
                  <a:pt x="17010" y="11071"/>
                  <a:pt x="17019" y="11077"/>
                  <a:pt x="17016" y="11112"/>
                </a:cubicBezTo>
              </a:path>
              <a:path w="1613" h="1216">
                <a:moveTo>
                  <a:pt x="16073" y="10864"/>
                </a:moveTo>
                <a:cubicBezTo>
                  <a:pt x="16018" y="10846"/>
                  <a:pt x="16086" y="10791"/>
                  <a:pt x="16123" y="10765"/>
                </a:cubicBezTo>
                <a:cubicBezTo>
                  <a:pt x="16140" y="10757"/>
                  <a:pt x="16156" y="10748"/>
                  <a:pt x="16173" y="10740"/>
                </a:cubicBezTo>
                <a:cubicBezTo>
                  <a:pt x="16193" y="10905"/>
                  <a:pt x="16188" y="11005"/>
                  <a:pt x="16123" y="11162"/>
                </a:cubicBezTo>
                <a:cubicBezTo>
                  <a:pt x="16082" y="11243"/>
                  <a:pt x="16065" y="11256"/>
                  <a:pt x="16073" y="11311"/>
                </a:cubicBezTo>
                <a:cubicBezTo>
                  <a:pt x="16152" y="11272"/>
                  <a:pt x="16226" y="11194"/>
                  <a:pt x="16321" y="11162"/>
                </a:cubicBezTo>
                <a:cubicBezTo>
                  <a:pt x="16329" y="11162"/>
                  <a:pt x="16338" y="11162"/>
                  <a:pt x="16346" y="11162"/>
                </a:cubicBezTo>
              </a:path>
              <a:path w="1613" h="1216">
                <a:moveTo>
                  <a:pt x="16073" y="10790"/>
                </a:moveTo>
                <a:cubicBezTo>
                  <a:pt x="16132" y="10671"/>
                  <a:pt x="16161" y="10984"/>
                  <a:pt x="16197" y="11112"/>
                </a:cubicBezTo>
                <a:cubicBezTo>
                  <a:pt x="16240" y="11266"/>
                  <a:pt x="16325" y="11542"/>
                  <a:pt x="16222" y="11187"/>
                </a:cubicBezTo>
                <a:cubicBezTo>
                  <a:pt x="16179" y="11038"/>
                  <a:pt x="16192" y="10826"/>
                  <a:pt x="16123" y="10691"/>
                </a:cubicBezTo>
                <a:cubicBezTo>
                  <a:pt x="16123" y="10699"/>
                  <a:pt x="16123" y="10708"/>
                  <a:pt x="16123" y="10716"/>
                </a:cubicBezTo>
                <a:cubicBezTo>
                  <a:pt x="16153" y="10920"/>
                  <a:pt x="16172" y="11137"/>
                  <a:pt x="16222" y="11336"/>
                </a:cubicBezTo>
                <a:cubicBezTo>
                  <a:pt x="16269" y="11522"/>
                  <a:pt x="16105" y="10973"/>
                  <a:pt x="16049" y="10790"/>
                </a:cubicBezTo>
                <a:cubicBezTo>
                  <a:pt x="15935" y="10676"/>
                  <a:pt x="16185" y="11225"/>
                  <a:pt x="16197" y="11261"/>
                </a:cubicBezTo>
                <a:cubicBezTo>
                  <a:pt x="16205" y="11302"/>
                  <a:pt x="16214" y="11344"/>
                  <a:pt x="16222" y="11385"/>
                </a:cubicBezTo>
              </a:path>
              <a:path w="1613" h="1216">
                <a:moveTo>
                  <a:pt x="15404" y="11385"/>
                </a:moveTo>
                <a:cubicBezTo>
                  <a:pt x="15499" y="11518"/>
                  <a:pt x="15542" y="11697"/>
                  <a:pt x="15577" y="11857"/>
                </a:cubicBezTo>
                <a:cubicBezTo>
                  <a:pt x="15577" y="11873"/>
                  <a:pt x="15577" y="11890"/>
                  <a:pt x="15577" y="11906"/>
                </a:cubicBezTo>
                <a:cubicBezTo>
                  <a:pt x="15481" y="11730"/>
                  <a:pt x="15470" y="11549"/>
                  <a:pt x="15429" y="11361"/>
                </a:cubicBezTo>
                <a:cubicBezTo>
                  <a:pt x="15409" y="11320"/>
                  <a:pt x="15390" y="11304"/>
                  <a:pt x="15429" y="113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59200" y="2786040"/>
            <a:ext cx="401760" cy="420840"/>
          </a:xfrm>
          <a:custGeom>
            <a:avLst/>
            <a:gdLst/>
            <a:ahLst/>
            <a:rect l="l" t="t" r="r" b="b"/>
            <a:pathLst>
              <a:path w="1117" h="1167">
                <a:moveTo>
                  <a:pt x="13444" y="7888"/>
                </a:moveTo>
                <a:cubicBezTo>
                  <a:pt x="13428" y="7867"/>
                  <a:pt x="13435" y="7859"/>
                  <a:pt x="13419" y="7838"/>
                </a:cubicBezTo>
                <a:cubicBezTo>
                  <a:pt x="13419" y="7846"/>
                  <a:pt x="13419" y="7855"/>
                  <a:pt x="13419" y="7863"/>
                </a:cubicBezTo>
                <a:cubicBezTo>
                  <a:pt x="13452" y="7890"/>
                  <a:pt x="13520" y="7941"/>
                  <a:pt x="13568" y="7987"/>
                </a:cubicBezTo>
                <a:cubicBezTo>
                  <a:pt x="13588" y="8006"/>
                  <a:pt x="13622" y="8062"/>
                  <a:pt x="13643" y="8086"/>
                </a:cubicBezTo>
                <a:cubicBezTo>
                  <a:pt x="13699" y="8150"/>
                  <a:pt x="13788" y="8178"/>
                  <a:pt x="13841" y="8235"/>
                </a:cubicBezTo>
                <a:cubicBezTo>
                  <a:pt x="13884" y="8281"/>
                  <a:pt x="13918" y="8337"/>
                  <a:pt x="13965" y="8384"/>
                </a:cubicBezTo>
                <a:cubicBezTo>
                  <a:pt x="14012" y="8431"/>
                  <a:pt x="14032" y="8475"/>
                  <a:pt x="14089" y="8508"/>
                </a:cubicBezTo>
                <a:cubicBezTo>
                  <a:pt x="14140" y="8538"/>
                  <a:pt x="14175" y="8569"/>
                  <a:pt x="14213" y="8607"/>
                </a:cubicBezTo>
                <a:cubicBezTo>
                  <a:pt x="14241" y="8635"/>
                  <a:pt x="14260" y="8641"/>
                  <a:pt x="14288" y="8657"/>
                </a:cubicBezTo>
                <a:cubicBezTo>
                  <a:pt x="14315" y="8678"/>
                  <a:pt x="14285" y="8673"/>
                  <a:pt x="14337" y="8682"/>
                </a:cubicBezTo>
              </a:path>
              <a:path w="1117" h="1167">
                <a:moveTo>
                  <a:pt x="14312" y="7764"/>
                </a:moveTo>
                <a:cubicBezTo>
                  <a:pt x="14260" y="7743"/>
                  <a:pt x="14279" y="7757"/>
                  <a:pt x="14213" y="7813"/>
                </a:cubicBezTo>
                <a:cubicBezTo>
                  <a:pt x="14146" y="7870"/>
                  <a:pt x="14048" y="7925"/>
                  <a:pt x="13990" y="7987"/>
                </a:cubicBezTo>
                <a:cubicBezTo>
                  <a:pt x="13931" y="8051"/>
                  <a:pt x="13885" y="8099"/>
                  <a:pt x="13816" y="8161"/>
                </a:cubicBezTo>
                <a:cubicBezTo>
                  <a:pt x="13733" y="8236"/>
                  <a:pt x="13665" y="8326"/>
                  <a:pt x="13593" y="8409"/>
                </a:cubicBezTo>
                <a:cubicBezTo>
                  <a:pt x="13535" y="8475"/>
                  <a:pt x="13469" y="8561"/>
                  <a:pt x="13419" y="8632"/>
                </a:cubicBezTo>
                <a:cubicBezTo>
                  <a:pt x="13373" y="8696"/>
                  <a:pt x="13341" y="8765"/>
                  <a:pt x="13295" y="8830"/>
                </a:cubicBezTo>
                <a:cubicBezTo>
                  <a:pt x="13257" y="8885"/>
                  <a:pt x="13251" y="8875"/>
                  <a:pt x="13221" y="89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13200" y="2803680"/>
            <a:ext cx="1258920" cy="1884240"/>
          </a:xfrm>
          <a:custGeom>
            <a:avLst/>
            <a:gdLst/>
            <a:ahLst/>
            <a:rect l="l" t="t" r="r" b="b"/>
            <a:pathLst>
              <a:path w="3498" h="5234">
                <a:moveTo>
                  <a:pt x="13370" y="7789"/>
                </a:moveTo>
                <a:cubicBezTo>
                  <a:pt x="13390" y="7829"/>
                  <a:pt x="13399" y="7835"/>
                  <a:pt x="13395" y="7863"/>
                </a:cubicBezTo>
              </a:path>
              <a:path w="3498" h="5234">
                <a:moveTo>
                  <a:pt x="16867" y="12973"/>
                </a:moveTo>
                <a:cubicBezTo>
                  <a:pt x="16845" y="12995"/>
                  <a:pt x="16836" y="13000"/>
                  <a:pt x="16842" y="130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044960"/>
            <a:ext cx="677880" cy="295200"/>
          </a:xfrm>
          <a:custGeom>
            <a:avLst/>
            <a:gdLst/>
            <a:ahLst/>
            <a:rect l="l" t="t" r="r" b="b"/>
            <a:pathLst>
              <a:path w="1886" h="819">
                <a:moveTo>
                  <a:pt x="16793" y="11361"/>
                </a:moveTo>
                <a:cubicBezTo>
                  <a:pt x="16585" y="11392"/>
                  <a:pt x="16475" y="11441"/>
                  <a:pt x="16297" y="11559"/>
                </a:cubicBezTo>
                <a:cubicBezTo>
                  <a:pt x="16378" y="11710"/>
                  <a:pt x="16590" y="11821"/>
                  <a:pt x="16718" y="11981"/>
                </a:cubicBezTo>
                <a:cubicBezTo>
                  <a:pt x="16508" y="12075"/>
                  <a:pt x="16231" y="12115"/>
                  <a:pt x="16421" y="11807"/>
                </a:cubicBezTo>
                <a:cubicBezTo>
                  <a:pt x="16483" y="11707"/>
                  <a:pt x="16664" y="11554"/>
                  <a:pt x="16694" y="11435"/>
                </a:cubicBezTo>
              </a:path>
              <a:path w="1886" h="819">
                <a:moveTo>
                  <a:pt x="17239" y="11311"/>
                </a:moveTo>
                <a:cubicBezTo>
                  <a:pt x="17181" y="11323"/>
                  <a:pt x="17095" y="11317"/>
                  <a:pt x="17041" y="11336"/>
                </a:cubicBezTo>
                <a:cubicBezTo>
                  <a:pt x="17033" y="11344"/>
                  <a:pt x="17024" y="11353"/>
                  <a:pt x="17016" y="11361"/>
                </a:cubicBezTo>
                <a:cubicBezTo>
                  <a:pt x="17009" y="11492"/>
                  <a:pt x="17006" y="11619"/>
                  <a:pt x="16942" y="11733"/>
                </a:cubicBezTo>
                <a:cubicBezTo>
                  <a:pt x="17027" y="11675"/>
                  <a:pt x="17135" y="11634"/>
                  <a:pt x="17239" y="11683"/>
                </a:cubicBezTo>
                <a:cubicBezTo>
                  <a:pt x="17444" y="11780"/>
                  <a:pt x="17358" y="12008"/>
                  <a:pt x="17165" y="12055"/>
                </a:cubicBezTo>
                <a:cubicBezTo>
                  <a:pt x="17002" y="12055"/>
                  <a:pt x="16952" y="12063"/>
                  <a:pt x="16892" y="11956"/>
                </a:cubicBezTo>
              </a:path>
              <a:path w="1886" h="819">
                <a:moveTo>
                  <a:pt x="17611" y="11385"/>
                </a:moveTo>
                <a:cubicBezTo>
                  <a:pt x="17627" y="11328"/>
                  <a:pt x="17715" y="11287"/>
                  <a:pt x="17810" y="11237"/>
                </a:cubicBezTo>
                <a:cubicBezTo>
                  <a:pt x="18055" y="11417"/>
                  <a:pt x="18237" y="11648"/>
                  <a:pt x="17959" y="11931"/>
                </a:cubicBezTo>
                <a:cubicBezTo>
                  <a:pt x="17808" y="12085"/>
                  <a:pt x="17678" y="12033"/>
                  <a:pt x="17512" y="11981"/>
                </a:cubicBezTo>
                <a:cubicBezTo>
                  <a:pt x="17583" y="11802"/>
                  <a:pt x="17695" y="11711"/>
                  <a:pt x="17909" y="11782"/>
                </a:cubicBezTo>
                <a:cubicBezTo>
                  <a:pt x="18045" y="11827"/>
                  <a:pt x="18099" y="12015"/>
                  <a:pt x="18182" y="12055"/>
                </a:cubicBezTo>
                <a:cubicBezTo>
                  <a:pt x="18182" y="12047"/>
                  <a:pt x="18182" y="12038"/>
                  <a:pt x="18182" y="120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99080" y="4491000"/>
            <a:ext cx="115920" cy="223920"/>
          </a:xfrm>
          <a:custGeom>
            <a:avLst/>
            <a:gdLst/>
            <a:ahLst/>
            <a:rect l="l" t="t" r="r" b="b"/>
            <a:pathLst>
              <a:path w="323" h="621">
                <a:moveTo>
                  <a:pt x="15577" y="12626"/>
                </a:moveTo>
                <a:cubicBezTo>
                  <a:pt x="15707" y="12756"/>
                  <a:pt x="15810" y="12872"/>
                  <a:pt x="15875" y="13047"/>
                </a:cubicBezTo>
              </a:path>
              <a:path w="323" h="621">
                <a:moveTo>
                  <a:pt x="15875" y="12477"/>
                </a:moveTo>
                <a:cubicBezTo>
                  <a:pt x="15772" y="12689"/>
                  <a:pt x="15670" y="12894"/>
                  <a:pt x="15553" y="130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05240" y="4956120"/>
            <a:ext cx="768600" cy="625680"/>
          </a:xfrm>
          <a:custGeom>
            <a:avLst/>
            <a:gdLst/>
            <a:ahLst/>
            <a:rect l="l" t="t" r="r" b="b"/>
            <a:pathLst>
              <a:path w="2134" h="1737">
                <a:moveTo>
                  <a:pt x="15652" y="14957"/>
                </a:moveTo>
                <a:cubicBezTo>
                  <a:pt x="15627" y="14957"/>
                  <a:pt x="15619" y="14957"/>
                  <a:pt x="15627" y="14932"/>
                </a:cubicBezTo>
                <a:cubicBezTo>
                  <a:pt x="15609" y="15059"/>
                  <a:pt x="15717" y="15275"/>
                  <a:pt x="15801" y="15404"/>
                </a:cubicBezTo>
                <a:cubicBezTo>
                  <a:pt x="15846" y="15474"/>
                  <a:pt x="15850" y="15435"/>
                  <a:pt x="15850" y="15503"/>
                </a:cubicBezTo>
              </a:path>
              <a:path w="2134" h="1737">
                <a:moveTo>
                  <a:pt x="16024" y="14833"/>
                </a:moveTo>
                <a:cubicBezTo>
                  <a:pt x="16077" y="14780"/>
                  <a:pt x="16147" y="14758"/>
                  <a:pt x="16222" y="14734"/>
                </a:cubicBezTo>
                <a:cubicBezTo>
                  <a:pt x="16326" y="14700"/>
                  <a:pt x="16422" y="14643"/>
                  <a:pt x="16520" y="14610"/>
                </a:cubicBezTo>
                <a:cubicBezTo>
                  <a:pt x="16520" y="14762"/>
                  <a:pt x="16522" y="14905"/>
                  <a:pt x="16545" y="15056"/>
                </a:cubicBezTo>
                <a:cubicBezTo>
                  <a:pt x="16558" y="15142"/>
                  <a:pt x="16577" y="15208"/>
                  <a:pt x="16594" y="15280"/>
                </a:cubicBezTo>
              </a:path>
              <a:path w="2134" h="1737">
                <a:moveTo>
                  <a:pt x="14660" y="14610"/>
                </a:moveTo>
                <a:cubicBezTo>
                  <a:pt x="14680" y="14669"/>
                  <a:pt x="14879" y="15120"/>
                  <a:pt x="14808" y="15156"/>
                </a:cubicBezTo>
                <a:cubicBezTo>
                  <a:pt x="14800" y="15139"/>
                  <a:pt x="14792" y="15123"/>
                  <a:pt x="14784" y="15106"/>
                </a:cubicBezTo>
              </a:path>
              <a:path w="2134" h="1737">
                <a:moveTo>
                  <a:pt x="14461" y="14833"/>
                </a:moveTo>
                <a:cubicBezTo>
                  <a:pt x="14657" y="14777"/>
                  <a:pt x="14932" y="14634"/>
                  <a:pt x="15131" y="14635"/>
                </a:cubicBezTo>
                <a:cubicBezTo>
                  <a:pt x="15131" y="14643"/>
                  <a:pt x="15131" y="14652"/>
                  <a:pt x="15131" y="14660"/>
                </a:cubicBezTo>
              </a:path>
              <a:path w="2134" h="1737">
                <a:moveTo>
                  <a:pt x="15156" y="13767"/>
                </a:moveTo>
                <a:cubicBezTo>
                  <a:pt x="15176" y="13908"/>
                  <a:pt x="15248" y="14024"/>
                  <a:pt x="15280" y="14163"/>
                </a:cubicBezTo>
                <a:cubicBezTo>
                  <a:pt x="15280" y="14188"/>
                  <a:pt x="15280" y="14196"/>
                  <a:pt x="15280" y="14163"/>
                </a:cubicBezTo>
                <a:cubicBezTo>
                  <a:pt x="15247" y="14039"/>
                  <a:pt x="15213" y="13915"/>
                  <a:pt x="15180" y="13791"/>
                </a:cubicBezTo>
                <a:cubicBezTo>
                  <a:pt x="15180" y="13726"/>
                  <a:pt x="15254" y="14010"/>
                  <a:pt x="15255" y="14015"/>
                </a:cubicBezTo>
                <a:cubicBezTo>
                  <a:pt x="15255" y="14089"/>
                  <a:pt x="15230" y="14122"/>
                  <a:pt x="15280" y="141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70320" y="4357800"/>
            <a:ext cx="2054520" cy="1849320"/>
          </a:xfrm>
          <a:custGeom>
            <a:avLst/>
            <a:gdLst/>
            <a:ahLst/>
            <a:rect l="l" t="t" r="r" b="b"/>
            <a:pathLst>
              <a:path w="5706" h="5135">
                <a:moveTo>
                  <a:pt x="14362" y="16049"/>
                </a:moveTo>
                <a:cubicBezTo>
                  <a:pt x="14497" y="15975"/>
                  <a:pt x="14626" y="15915"/>
                  <a:pt x="14784" y="15875"/>
                </a:cubicBezTo>
                <a:cubicBezTo>
                  <a:pt x="15080" y="15800"/>
                  <a:pt x="15381" y="15770"/>
                  <a:pt x="15677" y="15701"/>
                </a:cubicBezTo>
                <a:cubicBezTo>
                  <a:pt x="15925" y="15643"/>
                  <a:pt x="16171" y="15574"/>
                  <a:pt x="16421" y="15528"/>
                </a:cubicBezTo>
                <a:cubicBezTo>
                  <a:pt x="16616" y="15492"/>
                  <a:pt x="16799" y="15426"/>
                  <a:pt x="16991" y="15379"/>
                </a:cubicBezTo>
                <a:cubicBezTo>
                  <a:pt x="17160" y="15337"/>
                  <a:pt x="17320" y="15275"/>
                  <a:pt x="17487" y="15230"/>
                </a:cubicBezTo>
                <a:cubicBezTo>
                  <a:pt x="17684" y="15177"/>
                  <a:pt x="17884" y="15158"/>
                  <a:pt x="18083" y="15131"/>
                </a:cubicBezTo>
                <a:cubicBezTo>
                  <a:pt x="18341" y="15096"/>
                  <a:pt x="18595" y="15008"/>
                  <a:pt x="18852" y="14982"/>
                </a:cubicBezTo>
                <a:cubicBezTo>
                  <a:pt x="18985" y="14969"/>
                  <a:pt x="19074" y="14946"/>
                  <a:pt x="19199" y="14908"/>
                </a:cubicBezTo>
                <a:cubicBezTo>
                  <a:pt x="19246" y="14894"/>
                  <a:pt x="19278" y="14894"/>
                  <a:pt x="19323" y="14883"/>
                </a:cubicBezTo>
              </a:path>
              <a:path w="5706" h="5135">
                <a:moveTo>
                  <a:pt x="17115" y="15701"/>
                </a:moveTo>
                <a:cubicBezTo>
                  <a:pt x="17175" y="15594"/>
                  <a:pt x="17197" y="15539"/>
                  <a:pt x="17314" y="15553"/>
                </a:cubicBezTo>
                <a:cubicBezTo>
                  <a:pt x="17394" y="15647"/>
                  <a:pt x="17365" y="15781"/>
                  <a:pt x="17289" y="15900"/>
                </a:cubicBezTo>
                <a:cubicBezTo>
                  <a:pt x="17272" y="15916"/>
                  <a:pt x="17256" y="15933"/>
                  <a:pt x="17239" y="15949"/>
                </a:cubicBezTo>
                <a:cubicBezTo>
                  <a:pt x="17285" y="15869"/>
                  <a:pt x="17334" y="15813"/>
                  <a:pt x="17438" y="15825"/>
                </a:cubicBezTo>
                <a:cubicBezTo>
                  <a:pt x="17559" y="15839"/>
                  <a:pt x="17605" y="15978"/>
                  <a:pt x="17537" y="16073"/>
                </a:cubicBezTo>
                <a:cubicBezTo>
                  <a:pt x="17443" y="16203"/>
                  <a:pt x="17375" y="16196"/>
                  <a:pt x="17239" y="16173"/>
                </a:cubicBezTo>
                <a:cubicBezTo>
                  <a:pt x="17211" y="16173"/>
                  <a:pt x="17200" y="16171"/>
                  <a:pt x="17190" y="16148"/>
                </a:cubicBezTo>
              </a:path>
              <a:path w="5706" h="5135">
                <a:moveTo>
                  <a:pt x="16644" y="15949"/>
                </a:moveTo>
                <a:cubicBezTo>
                  <a:pt x="16644" y="15937"/>
                  <a:pt x="16622" y="15822"/>
                  <a:pt x="16619" y="15825"/>
                </a:cubicBezTo>
                <a:cubicBezTo>
                  <a:pt x="16607" y="15837"/>
                  <a:pt x="16733" y="16142"/>
                  <a:pt x="16743" y="16173"/>
                </a:cubicBezTo>
                <a:cubicBezTo>
                  <a:pt x="16771" y="16229"/>
                  <a:pt x="16777" y="16238"/>
                  <a:pt x="16743" y="16148"/>
                </a:cubicBezTo>
                <a:cubicBezTo>
                  <a:pt x="16686" y="16025"/>
                  <a:pt x="16644" y="15900"/>
                  <a:pt x="16594" y="15776"/>
                </a:cubicBezTo>
                <a:cubicBezTo>
                  <a:pt x="16644" y="15924"/>
                  <a:pt x="16734" y="16070"/>
                  <a:pt x="16768" y="16222"/>
                </a:cubicBezTo>
                <a:cubicBezTo>
                  <a:pt x="16779" y="16272"/>
                  <a:pt x="16758" y="16222"/>
                  <a:pt x="16743" y="16173"/>
                </a:cubicBezTo>
              </a:path>
              <a:path w="5706" h="5135">
                <a:moveTo>
                  <a:pt x="15825" y="16098"/>
                </a:moveTo>
                <a:cubicBezTo>
                  <a:pt x="15833" y="16106"/>
                  <a:pt x="15842" y="16115"/>
                  <a:pt x="15850" y="16123"/>
                </a:cubicBezTo>
                <a:cubicBezTo>
                  <a:pt x="15850" y="16047"/>
                  <a:pt x="15833" y="16037"/>
                  <a:pt x="15900" y="15999"/>
                </a:cubicBezTo>
                <a:cubicBezTo>
                  <a:pt x="15963" y="15963"/>
                  <a:pt x="16017" y="15924"/>
                  <a:pt x="16098" y="15949"/>
                </a:cubicBezTo>
                <a:cubicBezTo>
                  <a:pt x="16144" y="15963"/>
                  <a:pt x="16194" y="16086"/>
                  <a:pt x="16222" y="16123"/>
                </a:cubicBezTo>
                <a:cubicBezTo>
                  <a:pt x="16239" y="16145"/>
                  <a:pt x="16243" y="16218"/>
                  <a:pt x="16222" y="16247"/>
                </a:cubicBezTo>
                <a:cubicBezTo>
                  <a:pt x="16167" y="16325"/>
                  <a:pt x="16130" y="16337"/>
                  <a:pt x="16098" y="16421"/>
                </a:cubicBezTo>
                <a:cubicBezTo>
                  <a:pt x="16065" y="16508"/>
                  <a:pt x="16049" y="16578"/>
                  <a:pt x="16049" y="16669"/>
                </a:cubicBezTo>
                <a:cubicBezTo>
                  <a:pt x="16049" y="16702"/>
                  <a:pt x="16049" y="16735"/>
                  <a:pt x="16049" y="16768"/>
                </a:cubicBezTo>
                <a:cubicBezTo>
                  <a:pt x="16049" y="16688"/>
                  <a:pt x="16032" y="16561"/>
                  <a:pt x="16073" y="16520"/>
                </a:cubicBezTo>
                <a:cubicBezTo>
                  <a:pt x="16129" y="16463"/>
                  <a:pt x="16166" y="16516"/>
                  <a:pt x="16197" y="16570"/>
                </a:cubicBezTo>
                <a:cubicBezTo>
                  <a:pt x="16234" y="16633"/>
                  <a:pt x="16287" y="16640"/>
                  <a:pt x="16346" y="16594"/>
                </a:cubicBezTo>
                <a:cubicBezTo>
                  <a:pt x="16395" y="16556"/>
                  <a:pt x="16421" y="16530"/>
                  <a:pt x="16421" y="16470"/>
                </a:cubicBezTo>
              </a:path>
              <a:path w="5706" h="5135">
                <a:moveTo>
                  <a:pt x="19496" y="12229"/>
                </a:moveTo>
                <a:cubicBezTo>
                  <a:pt x="19537" y="12256"/>
                  <a:pt x="19631" y="12151"/>
                  <a:pt x="19695" y="12105"/>
                </a:cubicBezTo>
                <a:cubicBezTo>
                  <a:pt x="19861" y="12211"/>
                  <a:pt x="19927" y="12458"/>
                  <a:pt x="19720" y="12626"/>
                </a:cubicBezTo>
                <a:cubicBezTo>
                  <a:pt x="19612" y="12647"/>
                  <a:pt x="19585" y="12660"/>
                  <a:pt x="19521" y="12626"/>
                </a:cubicBezTo>
                <a:cubicBezTo>
                  <a:pt x="19565" y="12465"/>
                  <a:pt x="19654" y="12502"/>
                  <a:pt x="19819" y="12502"/>
                </a:cubicBezTo>
                <a:cubicBezTo>
                  <a:pt x="19939" y="12502"/>
                  <a:pt x="19980" y="12478"/>
                  <a:pt x="20067" y="12402"/>
                </a:cubicBezTo>
              </a:path>
              <a:path w="5706" h="5135">
                <a:moveTo>
                  <a:pt x="17661" y="16123"/>
                </a:moveTo>
                <a:cubicBezTo>
                  <a:pt x="17688" y="16114"/>
                  <a:pt x="17707" y="16105"/>
                  <a:pt x="17711" y="16073"/>
                </a:cubicBezTo>
                <a:cubicBezTo>
                  <a:pt x="17717" y="16023"/>
                  <a:pt x="17736" y="16160"/>
                  <a:pt x="17760" y="16197"/>
                </a:cubicBezTo>
                <a:cubicBezTo>
                  <a:pt x="17783" y="16220"/>
                  <a:pt x="17787" y="16228"/>
                  <a:pt x="17810" y="16222"/>
                </a:cubicBezTo>
                <a:cubicBezTo>
                  <a:pt x="17812" y="16201"/>
                  <a:pt x="17854" y="16018"/>
                  <a:pt x="17760" y="16073"/>
                </a:cubicBezTo>
                <a:cubicBezTo>
                  <a:pt x="17732" y="16128"/>
                  <a:pt x="17724" y="16151"/>
                  <a:pt x="17735" y="16197"/>
                </a:cubicBezTo>
                <a:cubicBezTo>
                  <a:pt x="17758" y="16265"/>
                  <a:pt x="17822" y="16177"/>
                  <a:pt x="17810" y="16123"/>
                </a:cubicBezTo>
                <a:cubicBezTo>
                  <a:pt x="17787" y="16100"/>
                  <a:pt x="17783" y="16092"/>
                  <a:pt x="17760" y="16098"/>
                </a:cubicBezTo>
                <a:cubicBezTo>
                  <a:pt x="17756" y="16112"/>
                  <a:pt x="17710" y="16304"/>
                  <a:pt x="17785" y="16197"/>
                </a:cubicBezTo>
                <a:cubicBezTo>
                  <a:pt x="17841" y="16118"/>
                  <a:pt x="17759" y="16065"/>
                  <a:pt x="17735" y="16148"/>
                </a:cubicBezTo>
                <a:cubicBezTo>
                  <a:pt x="17702" y="16261"/>
                  <a:pt x="17816" y="16162"/>
                  <a:pt x="17785" y="16123"/>
                </a:cubicBezTo>
                <a:cubicBezTo>
                  <a:pt x="17752" y="16123"/>
                  <a:pt x="17743" y="16131"/>
                  <a:pt x="17760" y="16173"/>
                </a:cubicBezTo>
              </a:path>
              <a:path w="5706" h="5135">
                <a:moveTo>
                  <a:pt x="15429" y="17066"/>
                </a:moveTo>
                <a:cubicBezTo>
                  <a:pt x="15487" y="17100"/>
                  <a:pt x="15584" y="17156"/>
                  <a:pt x="15677" y="17165"/>
                </a:cubicBezTo>
                <a:cubicBezTo>
                  <a:pt x="15880" y="17185"/>
                  <a:pt x="16068" y="17194"/>
                  <a:pt x="16272" y="17165"/>
                </a:cubicBezTo>
                <a:cubicBezTo>
                  <a:pt x="16499" y="17133"/>
                  <a:pt x="16701" y="17016"/>
                  <a:pt x="16917" y="16942"/>
                </a:cubicBezTo>
                <a:cubicBezTo>
                  <a:pt x="17089" y="16882"/>
                  <a:pt x="17240" y="16809"/>
                  <a:pt x="17363" y="16669"/>
                </a:cubicBezTo>
                <a:cubicBezTo>
                  <a:pt x="17460" y="16559"/>
                  <a:pt x="17492" y="16445"/>
                  <a:pt x="17562" y="16321"/>
                </a:cubicBezTo>
                <a:cubicBezTo>
                  <a:pt x="17603" y="16248"/>
                  <a:pt x="17666" y="16156"/>
                  <a:pt x="17686" y="16073"/>
                </a:cubicBezTo>
                <a:cubicBezTo>
                  <a:pt x="17710" y="15970"/>
                  <a:pt x="17694" y="15795"/>
                  <a:pt x="17661" y="15701"/>
                </a:cubicBezTo>
                <a:cubicBezTo>
                  <a:pt x="17632" y="15619"/>
                  <a:pt x="17610" y="15564"/>
                  <a:pt x="17537" y="15503"/>
                </a:cubicBezTo>
                <a:cubicBezTo>
                  <a:pt x="17457" y="15437"/>
                  <a:pt x="17316" y="15391"/>
                  <a:pt x="17214" y="15379"/>
                </a:cubicBezTo>
                <a:cubicBezTo>
                  <a:pt x="17089" y="15365"/>
                  <a:pt x="16909" y="15409"/>
                  <a:pt x="16793" y="15453"/>
                </a:cubicBezTo>
                <a:cubicBezTo>
                  <a:pt x="16650" y="15507"/>
                  <a:pt x="16518" y="15606"/>
                  <a:pt x="16371" y="15652"/>
                </a:cubicBezTo>
                <a:cubicBezTo>
                  <a:pt x="16215" y="15700"/>
                  <a:pt x="16076" y="15760"/>
                  <a:pt x="15925" y="15825"/>
                </a:cubicBezTo>
                <a:cubicBezTo>
                  <a:pt x="15757" y="15897"/>
                  <a:pt x="15595" y="15953"/>
                  <a:pt x="15453" y="16073"/>
                </a:cubicBezTo>
                <a:cubicBezTo>
                  <a:pt x="15308" y="16195"/>
                  <a:pt x="15190" y="16358"/>
                  <a:pt x="15180" y="16545"/>
                </a:cubicBezTo>
                <a:cubicBezTo>
                  <a:pt x="15172" y="16688"/>
                  <a:pt x="15228" y="16822"/>
                  <a:pt x="15304" y="16942"/>
                </a:cubicBezTo>
                <a:cubicBezTo>
                  <a:pt x="15392" y="17080"/>
                  <a:pt x="15498" y="17161"/>
                  <a:pt x="15652" y="17214"/>
                </a:cubicBezTo>
                <a:cubicBezTo>
                  <a:pt x="15795" y="17263"/>
                  <a:pt x="15954" y="17243"/>
                  <a:pt x="16098" y="17214"/>
                </a:cubicBezTo>
                <a:cubicBezTo>
                  <a:pt x="16224" y="17189"/>
                  <a:pt x="16347" y="17187"/>
                  <a:pt x="16470" y="17165"/>
                </a:cubicBezTo>
                <a:cubicBezTo>
                  <a:pt x="16567" y="17148"/>
                  <a:pt x="16713" y="17094"/>
                  <a:pt x="16793" y="17041"/>
                </a:cubicBezTo>
                <a:cubicBezTo>
                  <a:pt x="16893" y="16975"/>
                  <a:pt x="16971" y="16908"/>
                  <a:pt x="17090" y="16867"/>
                </a:cubicBezTo>
                <a:cubicBezTo>
                  <a:pt x="17192" y="16832"/>
                  <a:pt x="17328" y="16779"/>
                  <a:pt x="17413" y="16718"/>
                </a:cubicBezTo>
                <a:cubicBezTo>
                  <a:pt x="17405" y="16718"/>
                  <a:pt x="17396" y="16718"/>
                  <a:pt x="17388" y="167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2760" y="3313080"/>
            <a:ext cx="606240" cy="330120"/>
          </a:xfrm>
          <a:custGeom>
            <a:avLst/>
            <a:gdLst/>
            <a:ahLst/>
            <a:rect l="l" t="t" r="r" b="b"/>
            <a:pathLst>
              <a:path w="1688" h="918">
                <a:moveTo>
                  <a:pt x="1637" y="9475"/>
                </a:moveTo>
                <a:cubicBezTo>
                  <a:pt x="1629" y="9483"/>
                  <a:pt x="1620" y="9492"/>
                  <a:pt x="1612" y="9500"/>
                </a:cubicBezTo>
                <a:cubicBezTo>
                  <a:pt x="1720" y="9344"/>
                  <a:pt x="1904" y="9362"/>
                  <a:pt x="1885" y="9624"/>
                </a:cubicBezTo>
                <a:cubicBezTo>
                  <a:pt x="1862" y="9937"/>
                  <a:pt x="1628" y="10060"/>
                  <a:pt x="1364" y="10046"/>
                </a:cubicBezTo>
                <a:cubicBezTo>
                  <a:pt x="1330" y="9910"/>
                  <a:pt x="1476" y="9860"/>
                  <a:pt x="1612" y="9897"/>
                </a:cubicBezTo>
                <a:cubicBezTo>
                  <a:pt x="1723" y="9927"/>
                  <a:pt x="1811" y="10010"/>
                  <a:pt x="1811" y="10120"/>
                </a:cubicBezTo>
                <a:cubicBezTo>
                  <a:pt x="1811" y="10112"/>
                  <a:pt x="1811" y="10104"/>
                  <a:pt x="1811" y="10096"/>
                </a:cubicBezTo>
              </a:path>
              <a:path w="1688" h="918">
                <a:moveTo>
                  <a:pt x="2282" y="9401"/>
                </a:moveTo>
                <a:cubicBezTo>
                  <a:pt x="2195" y="9421"/>
                  <a:pt x="2147" y="9426"/>
                  <a:pt x="2059" y="9426"/>
                </a:cubicBezTo>
                <a:cubicBezTo>
                  <a:pt x="2045" y="9480"/>
                  <a:pt x="2020" y="9623"/>
                  <a:pt x="2059" y="9674"/>
                </a:cubicBezTo>
                <a:cubicBezTo>
                  <a:pt x="2110" y="9740"/>
                  <a:pt x="2270" y="9596"/>
                  <a:pt x="2356" y="9699"/>
                </a:cubicBezTo>
                <a:cubicBezTo>
                  <a:pt x="2511" y="9884"/>
                  <a:pt x="2224" y="9964"/>
                  <a:pt x="2108" y="9971"/>
                </a:cubicBezTo>
                <a:cubicBezTo>
                  <a:pt x="2047" y="9971"/>
                  <a:pt x="2032" y="9980"/>
                  <a:pt x="2009" y="9947"/>
                </a:cubicBezTo>
              </a:path>
              <a:path w="1688" h="918">
                <a:moveTo>
                  <a:pt x="2803" y="9277"/>
                </a:moveTo>
                <a:cubicBezTo>
                  <a:pt x="2742" y="9314"/>
                  <a:pt x="2733" y="9355"/>
                  <a:pt x="2704" y="9426"/>
                </a:cubicBezTo>
                <a:cubicBezTo>
                  <a:pt x="2799" y="9419"/>
                  <a:pt x="2918" y="9399"/>
                  <a:pt x="2803" y="9277"/>
                </a:cubicBezTo>
                <a:cubicBezTo>
                  <a:pt x="2762" y="9257"/>
                  <a:pt x="2746" y="9259"/>
                  <a:pt x="2753" y="9227"/>
                </a:cubicBezTo>
                <a:cubicBezTo>
                  <a:pt x="2844" y="9210"/>
                  <a:pt x="2944" y="9153"/>
                  <a:pt x="3001" y="9277"/>
                </a:cubicBezTo>
                <a:cubicBezTo>
                  <a:pt x="3098" y="9487"/>
                  <a:pt x="2918" y="9737"/>
                  <a:pt x="2803" y="9897"/>
                </a:cubicBezTo>
                <a:cubicBezTo>
                  <a:pt x="2780" y="9920"/>
                  <a:pt x="2769" y="9928"/>
                  <a:pt x="2803" y="99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120" y="3214800"/>
            <a:ext cx="1401840" cy="581040"/>
          </a:xfrm>
          <a:custGeom>
            <a:avLst/>
            <a:gdLst/>
            <a:ahLst/>
            <a:rect l="l" t="t" r="r" b="b"/>
            <a:pathLst>
              <a:path w="3895" h="1613">
                <a:moveTo>
                  <a:pt x="3026" y="9798"/>
                </a:moveTo>
                <a:cubicBezTo>
                  <a:pt x="3047" y="9904"/>
                  <a:pt x="3070" y="9915"/>
                  <a:pt x="3175" y="9847"/>
                </a:cubicBezTo>
                <a:cubicBezTo>
                  <a:pt x="3299" y="9767"/>
                  <a:pt x="3109" y="9778"/>
                  <a:pt x="3051" y="9773"/>
                </a:cubicBezTo>
              </a:path>
              <a:path w="3895" h="1613">
                <a:moveTo>
                  <a:pt x="2580" y="9947"/>
                </a:moveTo>
                <a:cubicBezTo>
                  <a:pt x="2580" y="9939"/>
                  <a:pt x="2580" y="9930"/>
                  <a:pt x="2580" y="9922"/>
                </a:cubicBezTo>
                <a:cubicBezTo>
                  <a:pt x="2536" y="9878"/>
                  <a:pt x="2570" y="9999"/>
                  <a:pt x="2580" y="9922"/>
                </a:cubicBezTo>
                <a:cubicBezTo>
                  <a:pt x="2588" y="9859"/>
                  <a:pt x="2555" y="9948"/>
                  <a:pt x="2555" y="9971"/>
                </a:cubicBezTo>
                <a:cubicBezTo>
                  <a:pt x="2555" y="10057"/>
                  <a:pt x="2593" y="9919"/>
                  <a:pt x="2580" y="9922"/>
                </a:cubicBezTo>
                <a:cubicBezTo>
                  <a:pt x="2491" y="9941"/>
                  <a:pt x="2593" y="9953"/>
                  <a:pt x="2580" y="9947"/>
                </a:cubicBezTo>
                <a:cubicBezTo>
                  <a:pt x="2572" y="9947"/>
                  <a:pt x="2563" y="9947"/>
                  <a:pt x="2555" y="9947"/>
                </a:cubicBezTo>
              </a:path>
              <a:path w="3895" h="1613">
                <a:moveTo>
                  <a:pt x="3349" y="9426"/>
                </a:moveTo>
                <a:cubicBezTo>
                  <a:pt x="3407" y="9426"/>
                  <a:pt x="3449" y="9426"/>
                  <a:pt x="3497" y="9401"/>
                </a:cubicBezTo>
                <a:cubicBezTo>
                  <a:pt x="3527" y="9431"/>
                  <a:pt x="3538" y="9445"/>
                  <a:pt x="3547" y="9475"/>
                </a:cubicBezTo>
              </a:path>
              <a:path w="3895" h="1613">
                <a:moveTo>
                  <a:pt x="3423" y="9624"/>
                </a:moveTo>
                <a:cubicBezTo>
                  <a:pt x="3472" y="9613"/>
                  <a:pt x="3559" y="9612"/>
                  <a:pt x="3572" y="9575"/>
                </a:cubicBezTo>
              </a:path>
              <a:path w="3895" h="1613">
                <a:moveTo>
                  <a:pt x="2604" y="9971"/>
                </a:moveTo>
                <a:cubicBezTo>
                  <a:pt x="2612" y="9963"/>
                  <a:pt x="2621" y="9955"/>
                  <a:pt x="2629" y="9947"/>
                </a:cubicBezTo>
                <a:cubicBezTo>
                  <a:pt x="2610" y="9996"/>
                  <a:pt x="2619" y="10042"/>
                  <a:pt x="2604" y="10096"/>
                </a:cubicBezTo>
                <a:cubicBezTo>
                  <a:pt x="2587" y="10157"/>
                  <a:pt x="2579" y="10154"/>
                  <a:pt x="2530" y="10195"/>
                </a:cubicBezTo>
                <a:cubicBezTo>
                  <a:pt x="2514" y="10208"/>
                  <a:pt x="2470" y="10255"/>
                  <a:pt x="2431" y="10269"/>
                </a:cubicBezTo>
                <a:cubicBezTo>
                  <a:pt x="2385" y="10286"/>
                  <a:pt x="2327" y="10310"/>
                  <a:pt x="2282" y="10319"/>
                </a:cubicBezTo>
                <a:cubicBezTo>
                  <a:pt x="2228" y="10330"/>
                  <a:pt x="2174" y="10316"/>
                  <a:pt x="2133" y="10294"/>
                </a:cubicBezTo>
                <a:cubicBezTo>
                  <a:pt x="2089" y="10270"/>
                  <a:pt x="2094" y="10259"/>
                  <a:pt x="2059" y="10220"/>
                </a:cubicBezTo>
                <a:cubicBezTo>
                  <a:pt x="2039" y="10197"/>
                  <a:pt x="1997" y="10149"/>
                  <a:pt x="1984" y="10120"/>
                </a:cubicBezTo>
                <a:cubicBezTo>
                  <a:pt x="1984" y="10112"/>
                  <a:pt x="1984" y="10104"/>
                  <a:pt x="1984" y="10096"/>
                </a:cubicBezTo>
                <a:cubicBezTo>
                  <a:pt x="2001" y="10175"/>
                  <a:pt x="2009" y="10237"/>
                  <a:pt x="2009" y="10319"/>
                </a:cubicBezTo>
                <a:cubicBezTo>
                  <a:pt x="2009" y="10370"/>
                  <a:pt x="2009" y="10396"/>
                  <a:pt x="1984" y="10418"/>
                </a:cubicBezTo>
                <a:cubicBezTo>
                  <a:pt x="1908" y="10486"/>
                  <a:pt x="1839" y="10538"/>
                  <a:pt x="1736" y="10542"/>
                </a:cubicBezTo>
                <a:cubicBezTo>
                  <a:pt x="1658" y="10545"/>
                  <a:pt x="1601" y="10530"/>
                  <a:pt x="1538" y="10517"/>
                </a:cubicBezTo>
                <a:cubicBezTo>
                  <a:pt x="1479" y="10505"/>
                  <a:pt x="1463" y="10497"/>
                  <a:pt x="1414" y="10468"/>
                </a:cubicBezTo>
                <a:cubicBezTo>
                  <a:pt x="1360" y="10436"/>
                  <a:pt x="1339" y="10393"/>
                  <a:pt x="1290" y="10344"/>
                </a:cubicBezTo>
                <a:cubicBezTo>
                  <a:pt x="1232" y="10287"/>
                  <a:pt x="1200" y="10216"/>
                  <a:pt x="1166" y="10145"/>
                </a:cubicBezTo>
                <a:cubicBezTo>
                  <a:pt x="1140" y="10091"/>
                  <a:pt x="1141" y="10081"/>
                  <a:pt x="1141" y="10021"/>
                </a:cubicBezTo>
              </a:path>
              <a:path w="3895" h="1613">
                <a:moveTo>
                  <a:pt x="3944" y="9599"/>
                </a:moveTo>
                <a:cubicBezTo>
                  <a:pt x="3920" y="9602"/>
                  <a:pt x="3795" y="9658"/>
                  <a:pt x="3820" y="9699"/>
                </a:cubicBezTo>
                <a:cubicBezTo>
                  <a:pt x="3878" y="9794"/>
                  <a:pt x="3914" y="9638"/>
                  <a:pt x="3919" y="9624"/>
                </a:cubicBezTo>
                <a:cubicBezTo>
                  <a:pt x="3919" y="9584"/>
                  <a:pt x="3908" y="9586"/>
                  <a:pt x="3870" y="9649"/>
                </a:cubicBezTo>
              </a:path>
              <a:path w="3895" h="1613">
                <a:moveTo>
                  <a:pt x="4217" y="9227"/>
                </a:moveTo>
                <a:cubicBezTo>
                  <a:pt x="4217" y="9155"/>
                  <a:pt x="4211" y="9191"/>
                  <a:pt x="4291" y="9128"/>
                </a:cubicBezTo>
                <a:cubicBezTo>
                  <a:pt x="4484" y="9231"/>
                  <a:pt x="4562" y="9433"/>
                  <a:pt x="4366" y="9624"/>
                </a:cubicBezTo>
                <a:cubicBezTo>
                  <a:pt x="4255" y="9669"/>
                  <a:pt x="4222" y="9697"/>
                  <a:pt x="4192" y="9599"/>
                </a:cubicBezTo>
                <a:cubicBezTo>
                  <a:pt x="4285" y="9455"/>
                  <a:pt x="4391" y="9382"/>
                  <a:pt x="4539" y="9550"/>
                </a:cubicBezTo>
                <a:cubicBezTo>
                  <a:pt x="4570" y="9585"/>
                  <a:pt x="4564" y="9739"/>
                  <a:pt x="4564" y="9575"/>
                </a:cubicBezTo>
              </a:path>
              <a:path w="3895" h="1613">
                <a:moveTo>
                  <a:pt x="4837" y="9004"/>
                </a:moveTo>
                <a:cubicBezTo>
                  <a:pt x="4752" y="9047"/>
                  <a:pt x="4731" y="9009"/>
                  <a:pt x="4713" y="9128"/>
                </a:cubicBezTo>
                <a:cubicBezTo>
                  <a:pt x="4708" y="9158"/>
                  <a:pt x="4713" y="9196"/>
                  <a:pt x="4713" y="9227"/>
                </a:cubicBezTo>
                <a:cubicBezTo>
                  <a:pt x="4806" y="9227"/>
                  <a:pt x="4939" y="9190"/>
                  <a:pt x="4986" y="9302"/>
                </a:cubicBezTo>
                <a:cubicBezTo>
                  <a:pt x="5061" y="9482"/>
                  <a:pt x="4846" y="9494"/>
                  <a:pt x="4738" y="9500"/>
                </a:cubicBezTo>
                <a:cubicBezTo>
                  <a:pt x="4695" y="9500"/>
                  <a:pt x="4693" y="9483"/>
                  <a:pt x="4738" y="9426"/>
                </a:cubicBezTo>
              </a:path>
              <a:path w="3895" h="1613">
                <a:moveTo>
                  <a:pt x="4762" y="9103"/>
                </a:moveTo>
                <a:cubicBezTo>
                  <a:pt x="4762" y="9007"/>
                  <a:pt x="4908" y="8992"/>
                  <a:pt x="4986" y="8954"/>
                </a:cubicBezTo>
                <a:cubicBezTo>
                  <a:pt x="5002" y="8946"/>
                  <a:pt x="5019" y="8938"/>
                  <a:pt x="5035" y="89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ff"/>
                </a:solidFill>
                <a:latin typeface="Times New Roman"/>
              </a:rPr>
              <a:t>Objective:  Students will be able to find the percent of a nu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Examples:  Match each percentage problem to its equivalent multiplication problem. </a:t>
            </a:r>
            <a:r>
              <a:rPr b="0" i="1" lang="en-US" sz="2400" spc="-1" strike="noStrike">
                <a:solidFill>
                  <a:srgbClr val="33ccff"/>
                </a:solidFill>
                <a:latin typeface="Times New Roman"/>
              </a:rPr>
              <a:t>Remember that 0.4 = 0.40 = 0.400 = 0.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% of 8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0.5 x 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% of 2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0.3 x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% of 3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0.08 x 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% of 7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0.03 x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% of 2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0.12 x 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% of 3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 0.8 x 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30000">
                <a:solidFill>
                  <a:srgbClr val="33ccff"/>
                </a:solidFill>
                <a:latin typeface="Times New Roman"/>
              </a:rPr>
              <a:t>Let’s take a look back at the open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0800" y="2724120"/>
            <a:ext cx="4029120" cy="731880"/>
          </a:xfrm>
          <a:custGeom>
            <a:avLst/>
            <a:gdLst/>
            <a:ahLst/>
            <a:rect l="l" t="t" r="r" b="b"/>
            <a:pathLst>
              <a:path w="11188" h="2035">
                <a:moveTo>
                  <a:pt x="2729" y="7987"/>
                </a:moveTo>
                <a:cubicBezTo>
                  <a:pt x="2707" y="7965"/>
                  <a:pt x="2698" y="7960"/>
                  <a:pt x="2704" y="7938"/>
                </a:cubicBezTo>
                <a:cubicBezTo>
                  <a:pt x="2693" y="7970"/>
                  <a:pt x="2667" y="7962"/>
                  <a:pt x="2704" y="7962"/>
                </a:cubicBezTo>
              </a:path>
              <a:path w="11188" h="2035">
                <a:moveTo>
                  <a:pt x="3001" y="7565"/>
                </a:moveTo>
                <a:cubicBezTo>
                  <a:pt x="2907" y="7623"/>
                  <a:pt x="2869" y="7749"/>
                  <a:pt x="2853" y="7863"/>
                </a:cubicBezTo>
                <a:cubicBezTo>
                  <a:pt x="2829" y="8027"/>
                  <a:pt x="2978" y="7958"/>
                  <a:pt x="3051" y="7888"/>
                </a:cubicBezTo>
                <a:cubicBezTo>
                  <a:pt x="3127" y="7815"/>
                  <a:pt x="3126" y="7706"/>
                  <a:pt x="3026" y="7665"/>
                </a:cubicBezTo>
                <a:cubicBezTo>
                  <a:pt x="3021" y="7663"/>
                  <a:pt x="2934" y="7665"/>
                  <a:pt x="3001" y="7665"/>
                </a:cubicBezTo>
              </a:path>
              <a:path w="11188" h="2035">
                <a:moveTo>
                  <a:pt x="3448" y="7565"/>
                </a:moveTo>
                <a:cubicBezTo>
                  <a:pt x="3369" y="7565"/>
                  <a:pt x="3312" y="7562"/>
                  <a:pt x="3249" y="7615"/>
                </a:cubicBezTo>
                <a:cubicBezTo>
                  <a:pt x="3241" y="7623"/>
                  <a:pt x="3233" y="7632"/>
                  <a:pt x="3225" y="7640"/>
                </a:cubicBezTo>
                <a:cubicBezTo>
                  <a:pt x="3256" y="7748"/>
                  <a:pt x="3362" y="7736"/>
                  <a:pt x="3448" y="7813"/>
                </a:cubicBezTo>
                <a:cubicBezTo>
                  <a:pt x="3536" y="7892"/>
                  <a:pt x="3436" y="7992"/>
                  <a:pt x="3349" y="7987"/>
                </a:cubicBezTo>
                <a:cubicBezTo>
                  <a:pt x="3332" y="7979"/>
                  <a:pt x="3316" y="7970"/>
                  <a:pt x="3299" y="7962"/>
                </a:cubicBezTo>
                <a:cubicBezTo>
                  <a:pt x="3332" y="7841"/>
                  <a:pt x="3390" y="7734"/>
                  <a:pt x="3423" y="7615"/>
                </a:cubicBezTo>
                <a:cubicBezTo>
                  <a:pt x="3423" y="7587"/>
                  <a:pt x="3425" y="7576"/>
                  <a:pt x="3448" y="7565"/>
                </a:cubicBezTo>
              </a:path>
              <a:path w="11188" h="2035">
                <a:moveTo>
                  <a:pt x="2555" y="7590"/>
                </a:moveTo>
                <a:cubicBezTo>
                  <a:pt x="2486" y="7573"/>
                  <a:pt x="2450" y="7569"/>
                  <a:pt x="2381" y="7640"/>
                </a:cubicBezTo>
                <a:cubicBezTo>
                  <a:pt x="2277" y="7748"/>
                  <a:pt x="2267" y="7854"/>
                  <a:pt x="2307" y="7987"/>
                </a:cubicBezTo>
                <a:cubicBezTo>
                  <a:pt x="2483" y="7946"/>
                  <a:pt x="2531" y="7858"/>
                  <a:pt x="2505" y="7665"/>
                </a:cubicBezTo>
                <a:cubicBezTo>
                  <a:pt x="2498" y="7610"/>
                  <a:pt x="2449" y="7608"/>
                  <a:pt x="2406" y="7590"/>
                </a:cubicBezTo>
              </a:path>
              <a:path w="11188" h="2035">
                <a:moveTo>
                  <a:pt x="4266" y="8037"/>
                </a:moveTo>
                <a:cubicBezTo>
                  <a:pt x="4230" y="8009"/>
                  <a:pt x="4228" y="8020"/>
                  <a:pt x="4217" y="7987"/>
                </a:cubicBezTo>
                <a:cubicBezTo>
                  <a:pt x="4367" y="8118"/>
                  <a:pt x="4533" y="8231"/>
                  <a:pt x="4688" y="8359"/>
                </a:cubicBezTo>
                <a:cubicBezTo>
                  <a:pt x="4731" y="8394"/>
                  <a:pt x="4695" y="8395"/>
                  <a:pt x="4738" y="8409"/>
                </a:cubicBezTo>
              </a:path>
              <a:path w="11188" h="2035">
                <a:moveTo>
                  <a:pt x="4688" y="7813"/>
                </a:moveTo>
                <a:cubicBezTo>
                  <a:pt x="4560" y="7920"/>
                  <a:pt x="4480" y="8154"/>
                  <a:pt x="4390" y="8310"/>
                </a:cubicBezTo>
                <a:cubicBezTo>
                  <a:pt x="4361" y="8361"/>
                  <a:pt x="4271" y="8490"/>
                  <a:pt x="4266" y="8533"/>
                </a:cubicBezTo>
                <a:cubicBezTo>
                  <a:pt x="4266" y="8541"/>
                  <a:pt x="4266" y="8550"/>
                  <a:pt x="4266" y="8558"/>
                </a:cubicBezTo>
              </a:path>
              <a:path w="11188" h="2035">
                <a:moveTo>
                  <a:pt x="12477" y="9376"/>
                </a:moveTo>
                <a:cubicBezTo>
                  <a:pt x="12556" y="9410"/>
                  <a:pt x="12641" y="9463"/>
                  <a:pt x="12725" y="9500"/>
                </a:cubicBezTo>
                <a:cubicBezTo>
                  <a:pt x="12859" y="9559"/>
                  <a:pt x="13019" y="9620"/>
                  <a:pt x="13171" y="9599"/>
                </a:cubicBezTo>
                <a:cubicBezTo>
                  <a:pt x="13303" y="9581"/>
                  <a:pt x="13386" y="9489"/>
                  <a:pt x="13444" y="9376"/>
                </a:cubicBezTo>
                <a:cubicBezTo>
                  <a:pt x="13493" y="9279"/>
                  <a:pt x="13468" y="9176"/>
                  <a:pt x="13444" y="9079"/>
                </a:cubicBezTo>
                <a:cubicBezTo>
                  <a:pt x="13435" y="9041"/>
                  <a:pt x="13417" y="8935"/>
                  <a:pt x="13395" y="8905"/>
                </a:cubicBezTo>
                <a:cubicBezTo>
                  <a:pt x="13359" y="8856"/>
                  <a:pt x="13257" y="8780"/>
                  <a:pt x="13196" y="8756"/>
                </a:cubicBezTo>
                <a:cubicBezTo>
                  <a:pt x="13095" y="8716"/>
                  <a:pt x="12976" y="8720"/>
                  <a:pt x="12874" y="8756"/>
                </a:cubicBezTo>
                <a:cubicBezTo>
                  <a:pt x="12794" y="8784"/>
                  <a:pt x="12656" y="8864"/>
                  <a:pt x="12601" y="8930"/>
                </a:cubicBezTo>
                <a:cubicBezTo>
                  <a:pt x="12499" y="9053"/>
                  <a:pt x="12482" y="9258"/>
                  <a:pt x="12502" y="9401"/>
                </a:cubicBezTo>
                <a:cubicBezTo>
                  <a:pt x="12512" y="9471"/>
                  <a:pt x="12556" y="9512"/>
                  <a:pt x="12576" y="9550"/>
                </a:cubicBezTo>
                <a:cubicBezTo>
                  <a:pt x="12584" y="9550"/>
                  <a:pt x="12593" y="9550"/>
                  <a:pt x="12601" y="9550"/>
                </a:cubicBezTo>
                <a:cubicBezTo>
                  <a:pt x="12547" y="9511"/>
                  <a:pt x="12481" y="9441"/>
                  <a:pt x="12427" y="9401"/>
                </a:cubicBezTo>
                <a:cubicBezTo>
                  <a:pt x="12414" y="9391"/>
                  <a:pt x="12386" y="9355"/>
                  <a:pt x="12378" y="9351"/>
                </a:cubicBezTo>
                <a:cubicBezTo>
                  <a:pt x="12311" y="9315"/>
                  <a:pt x="12205" y="9297"/>
                  <a:pt x="12129" y="9277"/>
                </a:cubicBezTo>
                <a:cubicBezTo>
                  <a:pt x="12036" y="9253"/>
                  <a:pt x="11928" y="9222"/>
                  <a:pt x="11832" y="9203"/>
                </a:cubicBezTo>
                <a:cubicBezTo>
                  <a:pt x="11753" y="9187"/>
                  <a:pt x="11665" y="9163"/>
                  <a:pt x="11584" y="9153"/>
                </a:cubicBezTo>
                <a:cubicBezTo>
                  <a:pt x="11469" y="9139"/>
                  <a:pt x="11352" y="9132"/>
                  <a:pt x="11237" y="9128"/>
                </a:cubicBezTo>
                <a:cubicBezTo>
                  <a:pt x="11047" y="9121"/>
                  <a:pt x="10853" y="9111"/>
                  <a:pt x="10666" y="9103"/>
                </a:cubicBezTo>
                <a:cubicBezTo>
                  <a:pt x="10530" y="9097"/>
                  <a:pt x="10404" y="9084"/>
                  <a:pt x="10269" y="9079"/>
                </a:cubicBezTo>
                <a:cubicBezTo>
                  <a:pt x="10112" y="9073"/>
                  <a:pt x="9952" y="9078"/>
                  <a:pt x="9798" y="9054"/>
                </a:cubicBezTo>
                <a:cubicBezTo>
                  <a:pt x="9427" y="8996"/>
                  <a:pt x="9049" y="8925"/>
                  <a:pt x="8682" y="8855"/>
                </a:cubicBezTo>
                <a:cubicBezTo>
                  <a:pt x="8501" y="8820"/>
                  <a:pt x="8313" y="8793"/>
                  <a:pt x="8136" y="8756"/>
                </a:cubicBezTo>
                <a:cubicBezTo>
                  <a:pt x="8001" y="8728"/>
                  <a:pt x="7887" y="8682"/>
                  <a:pt x="7764" y="8632"/>
                </a:cubicBezTo>
                <a:cubicBezTo>
                  <a:pt x="7643" y="8583"/>
                  <a:pt x="7517" y="8522"/>
                  <a:pt x="7392" y="8483"/>
                </a:cubicBezTo>
                <a:cubicBezTo>
                  <a:pt x="7252" y="8440"/>
                  <a:pt x="7111" y="8401"/>
                  <a:pt x="6970" y="8359"/>
                </a:cubicBezTo>
                <a:cubicBezTo>
                  <a:pt x="6873" y="8330"/>
                  <a:pt x="6773" y="8289"/>
                  <a:pt x="6672" y="8285"/>
                </a:cubicBezTo>
                <a:cubicBezTo>
                  <a:pt x="6585" y="8281"/>
                  <a:pt x="6510" y="8305"/>
                  <a:pt x="6424" y="8310"/>
                </a:cubicBezTo>
                <a:cubicBezTo>
                  <a:pt x="6347" y="8314"/>
                  <a:pt x="6267" y="8298"/>
                  <a:pt x="6226" y="8334"/>
                </a:cubicBezTo>
                <a:cubicBezTo>
                  <a:pt x="6243" y="8351"/>
                  <a:pt x="6259" y="8367"/>
                  <a:pt x="6276" y="8384"/>
                </a:cubicBezTo>
                <a:cubicBezTo>
                  <a:pt x="6233" y="8350"/>
                  <a:pt x="6194" y="8319"/>
                  <a:pt x="6152" y="8285"/>
                </a:cubicBezTo>
                <a:cubicBezTo>
                  <a:pt x="6214" y="8242"/>
                  <a:pt x="6309" y="8144"/>
                  <a:pt x="6375" y="8111"/>
                </a:cubicBezTo>
                <a:cubicBezTo>
                  <a:pt x="6400" y="8111"/>
                  <a:pt x="6408" y="8111"/>
                  <a:pt x="6400" y="8136"/>
                </a:cubicBezTo>
              </a:path>
              <a:path w="11188" h="2035">
                <a:moveTo>
                  <a:pt x="6276" y="8334"/>
                </a:moveTo>
                <a:cubicBezTo>
                  <a:pt x="6361" y="8363"/>
                  <a:pt x="6477" y="8397"/>
                  <a:pt x="6524" y="84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214720"/>
            <a:ext cx="3805200" cy="1938240"/>
          </a:xfrm>
          <a:custGeom>
            <a:avLst/>
            <a:gdLst/>
            <a:ahLst/>
            <a:rect l="l" t="t" r="r" b="b"/>
            <a:pathLst>
              <a:path w="10567" h="5383">
                <a:moveTo>
                  <a:pt x="3274" y="6325"/>
                </a:moveTo>
                <a:cubicBezTo>
                  <a:pt x="3278" y="6312"/>
                  <a:pt x="3288" y="6244"/>
                  <a:pt x="3225" y="6300"/>
                </a:cubicBezTo>
                <a:cubicBezTo>
                  <a:pt x="3132" y="6382"/>
                  <a:pt x="3050" y="6610"/>
                  <a:pt x="3125" y="6722"/>
                </a:cubicBezTo>
                <a:cubicBezTo>
                  <a:pt x="3182" y="6808"/>
                  <a:pt x="3382" y="6633"/>
                  <a:pt x="3398" y="6573"/>
                </a:cubicBezTo>
                <a:cubicBezTo>
                  <a:pt x="3419" y="6496"/>
                  <a:pt x="3389" y="6322"/>
                  <a:pt x="3324" y="6276"/>
                </a:cubicBezTo>
                <a:cubicBezTo>
                  <a:pt x="3316" y="6276"/>
                  <a:pt x="3307" y="6276"/>
                  <a:pt x="3299" y="6276"/>
                </a:cubicBezTo>
              </a:path>
              <a:path w="10567" h="5383">
                <a:moveTo>
                  <a:pt x="3646" y="6548"/>
                </a:moveTo>
                <a:cubicBezTo>
                  <a:pt x="3646" y="6573"/>
                  <a:pt x="3646" y="6598"/>
                  <a:pt x="3646" y="6623"/>
                </a:cubicBezTo>
              </a:path>
              <a:path w="10567" h="5383">
                <a:moveTo>
                  <a:pt x="3770" y="6152"/>
                </a:moveTo>
                <a:cubicBezTo>
                  <a:pt x="3784" y="6302"/>
                  <a:pt x="3815" y="6446"/>
                  <a:pt x="3820" y="6598"/>
                </a:cubicBezTo>
                <a:cubicBezTo>
                  <a:pt x="3820" y="6615"/>
                  <a:pt x="3820" y="6631"/>
                  <a:pt x="3820" y="6648"/>
                </a:cubicBezTo>
              </a:path>
              <a:path w="10567" h="5383">
                <a:moveTo>
                  <a:pt x="3944" y="6276"/>
                </a:moveTo>
                <a:cubicBezTo>
                  <a:pt x="3956" y="6207"/>
                  <a:pt x="3945" y="6233"/>
                  <a:pt x="4018" y="6201"/>
                </a:cubicBezTo>
                <a:cubicBezTo>
                  <a:pt x="4069" y="6329"/>
                  <a:pt x="4079" y="6466"/>
                  <a:pt x="4018" y="6598"/>
                </a:cubicBezTo>
                <a:cubicBezTo>
                  <a:pt x="3977" y="6640"/>
                  <a:pt x="3969" y="6648"/>
                  <a:pt x="3944" y="6672"/>
                </a:cubicBezTo>
                <a:cubicBezTo>
                  <a:pt x="3962" y="6552"/>
                  <a:pt x="3982" y="6633"/>
                  <a:pt x="4068" y="6648"/>
                </a:cubicBezTo>
                <a:cubicBezTo>
                  <a:pt x="4152" y="6663"/>
                  <a:pt x="4162" y="6677"/>
                  <a:pt x="4217" y="6623"/>
                </a:cubicBezTo>
              </a:path>
              <a:path w="10567" h="5383">
                <a:moveTo>
                  <a:pt x="12650" y="11286"/>
                </a:moveTo>
                <a:cubicBezTo>
                  <a:pt x="12707" y="11339"/>
                  <a:pt x="12791" y="11414"/>
                  <a:pt x="12874" y="11460"/>
                </a:cubicBezTo>
                <a:cubicBezTo>
                  <a:pt x="13009" y="11536"/>
                  <a:pt x="13147" y="11556"/>
                  <a:pt x="13295" y="11509"/>
                </a:cubicBezTo>
                <a:cubicBezTo>
                  <a:pt x="13453" y="11459"/>
                  <a:pt x="13545" y="11364"/>
                  <a:pt x="13593" y="11212"/>
                </a:cubicBezTo>
                <a:cubicBezTo>
                  <a:pt x="13624" y="11113"/>
                  <a:pt x="13671" y="11009"/>
                  <a:pt x="13643" y="10914"/>
                </a:cubicBezTo>
                <a:cubicBezTo>
                  <a:pt x="13608" y="10793"/>
                  <a:pt x="13561" y="10769"/>
                  <a:pt x="13469" y="10691"/>
                </a:cubicBezTo>
                <a:cubicBezTo>
                  <a:pt x="13397" y="10629"/>
                  <a:pt x="13320" y="10582"/>
                  <a:pt x="13221" y="10567"/>
                </a:cubicBezTo>
                <a:cubicBezTo>
                  <a:pt x="13119" y="10552"/>
                  <a:pt x="13017" y="10578"/>
                  <a:pt x="12923" y="10616"/>
                </a:cubicBezTo>
                <a:cubicBezTo>
                  <a:pt x="12838" y="10651"/>
                  <a:pt x="12757" y="10718"/>
                  <a:pt x="12700" y="10790"/>
                </a:cubicBezTo>
                <a:cubicBezTo>
                  <a:pt x="12628" y="10882"/>
                  <a:pt x="12611" y="10998"/>
                  <a:pt x="12626" y="11112"/>
                </a:cubicBezTo>
                <a:cubicBezTo>
                  <a:pt x="12636" y="11188"/>
                  <a:pt x="12669" y="11367"/>
                  <a:pt x="12750" y="11410"/>
                </a:cubicBezTo>
                <a:cubicBezTo>
                  <a:pt x="12759" y="11415"/>
                  <a:pt x="12921" y="11445"/>
                  <a:pt x="12923" y="11435"/>
                </a:cubicBezTo>
                <a:cubicBezTo>
                  <a:pt x="12923" y="11392"/>
                  <a:pt x="12917" y="11367"/>
                  <a:pt x="12898" y="11336"/>
                </a:cubicBezTo>
              </a:path>
              <a:path w="10567" h="5383">
                <a:moveTo>
                  <a:pt x="12626" y="10815"/>
                </a:moveTo>
                <a:cubicBezTo>
                  <a:pt x="12577" y="10774"/>
                  <a:pt x="12571" y="10784"/>
                  <a:pt x="12526" y="10740"/>
                </a:cubicBezTo>
                <a:cubicBezTo>
                  <a:pt x="12439" y="10655"/>
                  <a:pt x="12351" y="10573"/>
                  <a:pt x="12254" y="10492"/>
                </a:cubicBezTo>
                <a:cubicBezTo>
                  <a:pt x="12170" y="10422"/>
                  <a:pt x="12099" y="10354"/>
                  <a:pt x="12005" y="10294"/>
                </a:cubicBezTo>
                <a:cubicBezTo>
                  <a:pt x="11882" y="10216"/>
                  <a:pt x="11767" y="10145"/>
                  <a:pt x="11658" y="10046"/>
                </a:cubicBezTo>
                <a:cubicBezTo>
                  <a:pt x="11479" y="9882"/>
                  <a:pt x="11310" y="9719"/>
                  <a:pt x="11112" y="9575"/>
                </a:cubicBezTo>
                <a:cubicBezTo>
                  <a:pt x="10958" y="9463"/>
                  <a:pt x="10819" y="9340"/>
                  <a:pt x="10666" y="9227"/>
                </a:cubicBezTo>
                <a:cubicBezTo>
                  <a:pt x="10540" y="9134"/>
                  <a:pt x="10405" y="9030"/>
                  <a:pt x="10269" y="8954"/>
                </a:cubicBezTo>
                <a:cubicBezTo>
                  <a:pt x="10040" y="8825"/>
                  <a:pt x="9804" y="8712"/>
                  <a:pt x="9575" y="8582"/>
                </a:cubicBezTo>
                <a:cubicBezTo>
                  <a:pt x="9428" y="8498"/>
                  <a:pt x="9286" y="8427"/>
                  <a:pt x="9128" y="8359"/>
                </a:cubicBezTo>
                <a:cubicBezTo>
                  <a:pt x="8808" y="8222"/>
                  <a:pt x="8483" y="8092"/>
                  <a:pt x="8161" y="7962"/>
                </a:cubicBezTo>
                <a:cubicBezTo>
                  <a:pt x="8005" y="7899"/>
                  <a:pt x="7847" y="7847"/>
                  <a:pt x="7689" y="7789"/>
                </a:cubicBezTo>
                <a:cubicBezTo>
                  <a:pt x="7574" y="7747"/>
                  <a:pt x="7457" y="7710"/>
                  <a:pt x="7342" y="7665"/>
                </a:cubicBezTo>
                <a:cubicBezTo>
                  <a:pt x="7218" y="7616"/>
                  <a:pt x="7095" y="7561"/>
                  <a:pt x="6970" y="7516"/>
                </a:cubicBezTo>
                <a:cubicBezTo>
                  <a:pt x="6822" y="7462"/>
                  <a:pt x="6673" y="7429"/>
                  <a:pt x="6524" y="7392"/>
                </a:cubicBezTo>
                <a:cubicBezTo>
                  <a:pt x="6426" y="7368"/>
                  <a:pt x="6325" y="7326"/>
                  <a:pt x="6226" y="7317"/>
                </a:cubicBezTo>
                <a:cubicBezTo>
                  <a:pt x="6168" y="7312"/>
                  <a:pt x="6093" y="7260"/>
                  <a:pt x="6102" y="7317"/>
                </a:cubicBezTo>
                <a:cubicBezTo>
                  <a:pt x="6120" y="7431"/>
                  <a:pt x="6187" y="7370"/>
                  <a:pt x="6226" y="7417"/>
                </a:cubicBezTo>
                <a:cubicBezTo>
                  <a:pt x="6161" y="7391"/>
                  <a:pt x="6085" y="7375"/>
                  <a:pt x="6028" y="7342"/>
                </a:cubicBezTo>
                <a:cubicBezTo>
                  <a:pt x="6028" y="7334"/>
                  <a:pt x="6028" y="7325"/>
                  <a:pt x="6028" y="7317"/>
                </a:cubicBezTo>
                <a:cubicBezTo>
                  <a:pt x="6093" y="7266"/>
                  <a:pt x="6158" y="7215"/>
                  <a:pt x="6226" y="7169"/>
                </a:cubicBezTo>
                <a:cubicBezTo>
                  <a:pt x="6243" y="7157"/>
                  <a:pt x="6267" y="7151"/>
                  <a:pt x="6276" y="7144"/>
                </a:cubicBezTo>
              </a:path>
              <a:path w="10567" h="5383">
                <a:moveTo>
                  <a:pt x="4514" y="7069"/>
                </a:moveTo>
                <a:cubicBezTo>
                  <a:pt x="4500" y="7064"/>
                  <a:pt x="4433" y="6988"/>
                  <a:pt x="4490" y="7045"/>
                </a:cubicBezTo>
              </a:path>
              <a:path w="10567" h="5383">
                <a:moveTo>
                  <a:pt x="4514" y="7045"/>
                </a:moveTo>
                <a:cubicBezTo>
                  <a:pt x="4624" y="7146"/>
                  <a:pt x="4741" y="7255"/>
                  <a:pt x="4862" y="7342"/>
                </a:cubicBezTo>
                <a:cubicBezTo>
                  <a:pt x="4902" y="7362"/>
                  <a:pt x="4908" y="7371"/>
                  <a:pt x="4936" y="7367"/>
                </a:cubicBezTo>
              </a:path>
              <a:path w="10567" h="5383">
                <a:moveTo>
                  <a:pt x="4986" y="7020"/>
                </a:moveTo>
                <a:cubicBezTo>
                  <a:pt x="4859" y="7092"/>
                  <a:pt x="4754" y="7245"/>
                  <a:pt x="4663" y="7367"/>
                </a:cubicBezTo>
                <a:cubicBezTo>
                  <a:pt x="4626" y="7417"/>
                  <a:pt x="4602" y="7469"/>
                  <a:pt x="4564" y="75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16040" y="2536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490" y="7045"/>
                </a:moveTo>
                <a:lnTo>
                  <a:pt x="4490" y="7045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ff"/>
                </a:solidFill>
                <a:latin typeface="Times New Roman"/>
              </a:rPr>
              <a:t>Objective:  Students will be able to find the percent of a nu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Skill Practice:  Find the following percents.  Remember to remove any unnecessary z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) 40% of 1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2.) 25% of 8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) 20% of 51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4.) 80% of 2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65160" y="2000160"/>
            <a:ext cx="1473120" cy="1724040"/>
          </a:xfrm>
          <a:custGeom>
            <a:avLst/>
            <a:gdLst/>
            <a:ahLst/>
            <a:rect l="l" t="t" r="r" b="b"/>
            <a:pathLst>
              <a:path w="4094" h="4789">
                <a:moveTo>
                  <a:pt x="2952" y="5556"/>
                </a:moveTo>
                <a:cubicBezTo>
                  <a:pt x="2766" y="5593"/>
                  <a:pt x="2732" y="5914"/>
                  <a:pt x="2704" y="6052"/>
                </a:cubicBezTo>
                <a:cubicBezTo>
                  <a:pt x="2683" y="6236"/>
                  <a:pt x="2647" y="6282"/>
                  <a:pt x="2753" y="6350"/>
                </a:cubicBezTo>
                <a:cubicBezTo>
                  <a:pt x="3047" y="6217"/>
                  <a:pt x="3080" y="6003"/>
                  <a:pt x="2977" y="5680"/>
                </a:cubicBezTo>
                <a:cubicBezTo>
                  <a:pt x="2867" y="5334"/>
                  <a:pt x="2874" y="5715"/>
                  <a:pt x="2877" y="5755"/>
                </a:cubicBezTo>
              </a:path>
              <a:path w="4094" h="4789">
                <a:moveTo>
                  <a:pt x="3448" y="5804"/>
                </a:moveTo>
                <a:cubicBezTo>
                  <a:pt x="3448" y="5877"/>
                  <a:pt x="3444" y="5941"/>
                  <a:pt x="3473" y="6003"/>
                </a:cubicBezTo>
                <a:cubicBezTo>
                  <a:pt x="3529" y="6124"/>
                  <a:pt x="3660" y="6010"/>
                  <a:pt x="3746" y="5978"/>
                </a:cubicBezTo>
                <a:cubicBezTo>
                  <a:pt x="3795" y="5978"/>
                  <a:pt x="3803" y="5953"/>
                  <a:pt x="3770" y="5879"/>
                </a:cubicBezTo>
              </a:path>
              <a:path w="4094" h="4789">
                <a:moveTo>
                  <a:pt x="3621" y="5581"/>
                </a:moveTo>
                <a:cubicBezTo>
                  <a:pt x="3645" y="5826"/>
                  <a:pt x="3641" y="6081"/>
                  <a:pt x="3671" y="6325"/>
                </a:cubicBezTo>
                <a:cubicBezTo>
                  <a:pt x="3679" y="6342"/>
                  <a:pt x="3688" y="6358"/>
                  <a:pt x="3696" y="6375"/>
                </a:cubicBezTo>
              </a:path>
              <a:path w="4094" h="4789">
                <a:moveTo>
                  <a:pt x="3994" y="5680"/>
                </a:moveTo>
                <a:cubicBezTo>
                  <a:pt x="3962" y="5808"/>
                  <a:pt x="3865" y="6009"/>
                  <a:pt x="3870" y="6152"/>
                </a:cubicBezTo>
                <a:cubicBezTo>
                  <a:pt x="3886" y="6193"/>
                  <a:pt x="3903" y="6235"/>
                  <a:pt x="3919" y="6276"/>
                </a:cubicBezTo>
                <a:cubicBezTo>
                  <a:pt x="4214" y="6257"/>
                  <a:pt x="4264" y="6073"/>
                  <a:pt x="4192" y="5779"/>
                </a:cubicBezTo>
                <a:cubicBezTo>
                  <a:pt x="4142" y="5577"/>
                  <a:pt x="4051" y="5597"/>
                  <a:pt x="3894" y="5606"/>
                </a:cubicBezTo>
              </a:path>
              <a:path w="4094" h="4789">
                <a:moveTo>
                  <a:pt x="4961" y="6796"/>
                </a:moveTo>
                <a:cubicBezTo>
                  <a:pt x="4961" y="6772"/>
                  <a:pt x="4961" y="6764"/>
                  <a:pt x="4936" y="6772"/>
                </a:cubicBezTo>
                <a:cubicBezTo>
                  <a:pt x="4936" y="6732"/>
                  <a:pt x="5230" y="7017"/>
                  <a:pt x="5234" y="7020"/>
                </a:cubicBezTo>
                <a:cubicBezTo>
                  <a:pt x="5375" y="7132"/>
                  <a:pt x="5578" y="7259"/>
                  <a:pt x="5680" y="7417"/>
                </a:cubicBezTo>
                <a:cubicBezTo>
                  <a:pt x="5680" y="7441"/>
                  <a:pt x="5680" y="7449"/>
                  <a:pt x="5705" y="7441"/>
                </a:cubicBezTo>
              </a:path>
              <a:path w="4094" h="4789">
                <a:moveTo>
                  <a:pt x="5755" y="6573"/>
                </a:moveTo>
                <a:cubicBezTo>
                  <a:pt x="5668" y="6693"/>
                  <a:pt x="5488" y="6945"/>
                  <a:pt x="5383" y="7069"/>
                </a:cubicBezTo>
                <a:cubicBezTo>
                  <a:pt x="5239" y="7239"/>
                  <a:pt x="5040" y="7399"/>
                  <a:pt x="4936" y="7590"/>
                </a:cubicBezTo>
                <a:cubicBezTo>
                  <a:pt x="4936" y="7598"/>
                  <a:pt x="4936" y="7607"/>
                  <a:pt x="4936" y="7615"/>
                </a:cubicBezTo>
              </a:path>
              <a:path w="4094" h="4789">
                <a:moveTo>
                  <a:pt x="4936" y="8062"/>
                </a:moveTo>
                <a:cubicBezTo>
                  <a:pt x="4898" y="8049"/>
                  <a:pt x="4908" y="8017"/>
                  <a:pt x="4887" y="8062"/>
                </a:cubicBezTo>
                <a:cubicBezTo>
                  <a:pt x="4837" y="8170"/>
                  <a:pt x="4778" y="8291"/>
                  <a:pt x="4762" y="8409"/>
                </a:cubicBezTo>
                <a:cubicBezTo>
                  <a:pt x="4753" y="8480"/>
                  <a:pt x="4745" y="8621"/>
                  <a:pt x="4787" y="8682"/>
                </a:cubicBezTo>
                <a:cubicBezTo>
                  <a:pt x="4847" y="8769"/>
                  <a:pt x="4991" y="8777"/>
                  <a:pt x="5085" y="8756"/>
                </a:cubicBezTo>
                <a:cubicBezTo>
                  <a:pt x="5194" y="8732"/>
                  <a:pt x="5242" y="8645"/>
                  <a:pt x="5283" y="8558"/>
                </a:cubicBezTo>
                <a:cubicBezTo>
                  <a:pt x="5310" y="8500"/>
                  <a:pt x="5322" y="8454"/>
                  <a:pt x="5259" y="8409"/>
                </a:cubicBezTo>
                <a:cubicBezTo>
                  <a:pt x="5188" y="8358"/>
                  <a:pt x="5090" y="8367"/>
                  <a:pt x="5060" y="8458"/>
                </a:cubicBezTo>
                <a:cubicBezTo>
                  <a:pt x="5053" y="8478"/>
                  <a:pt x="5031" y="8677"/>
                  <a:pt x="5060" y="8682"/>
                </a:cubicBezTo>
                <a:cubicBezTo>
                  <a:pt x="5085" y="8674"/>
                  <a:pt x="5110" y="8665"/>
                  <a:pt x="5135" y="8657"/>
                </a:cubicBezTo>
              </a:path>
              <a:path w="4094" h="4789">
                <a:moveTo>
                  <a:pt x="5680" y="8136"/>
                </a:moveTo>
                <a:cubicBezTo>
                  <a:pt x="5660" y="8129"/>
                  <a:pt x="5625" y="8081"/>
                  <a:pt x="5581" y="8111"/>
                </a:cubicBezTo>
                <a:cubicBezTo>
                  <a:pt x="5468" y="8189"/>
                  <a:pt x="5415" y="8352"/>
                  <a:pt x="5432" y="8483"/>
                </a:cubicBezTo>
                <a:cubicBezTo>
                  <a:pt x="5444" y="8572"/>
                  <a:pt x="5490" y="8642"/>
                  <a:pt x="5581" y="8657"/>
                </a:cubicBezTo>
                <a:cubicBezTo>
                  <a:pt x="5712" y="8678"/>
                  <a:pt x="5823" y="8565"/>
                  <a:pt x="5879" y="8458"/>
                </a:cubicBezTo>
                <a:cubicBezTo>
                  <a:pt x="5927" y="8366"/>
                  <a:pt x="5895" y="8296"/>
                  <a:pt x="5854" y="8210"/>
                </a:cubicBezTo>
                <a:cubicBezTo>
                  <a:pt x="5822" y="8143"/>
                  <a:pt x="5783" y="8132"/>
                  <a:pt x="5730" y="8086"/>
                </a:cubicBezTo>
                <a:cubicBezTo>
                  <a:pt x="5698" y="8058"/>
                  <a:pt x="5695" y="8062"/>
                  <a:pt x="5655" y="8062"/>
                </a:cubicBezTo>
              </a:path>
              <a:path w="4094" h="4789">
                <a:moveTo>
                  <a:pt x="2803" y="9947"/>
                </a:moveTo>
                <a:cubicBezTo>
                  <a:pt x="2803" y="9971"/>
                  <a:pt x="2803" y="9980"/>
                  <a:pt x="2803" y="9996"/>
                </a:cubicBezTo>
              </a:path>
              <a:path w="4094" h="4789">
                <a:moveTo>
                  <a:pt x="3225" y="9475"/>
                </a:moveTo>
                <a:cubicBezTo>
                  <a:pt x="3451" y="9415"/>
                  <a:pt x="3579" y="9544"/>
                  <a:pt x="3522" y="9798"/>
                </a:cubicBezTo>
                <a:cubicBezTo>
                  <a:pt x="3469" y="10034"/>
                  <a:pt x="3263" y="10045"/>
                  <a:pt x="3076" y="10096"/>
                </a:cubicBezTo>
                <a:cubicBezTo>
                  <a:pt x="3100" y="9890"/>
                  <a:pt x="3263" y="9756"/>
                  <a:pt x="3473" y="9947"/>
                </a:cubicBezTo>
                <a:cubicBezTo>
                  <a:pt x="3573" y="10038"/>
                  <a:pt x="3467" y="10109"/>
                  <a:pt x="3572" y="10021"/>
                </a:cubicBezTo>
              </a:path>
              <a:path w="4094" h="4789">
                <a:moveTo>
                  <a:pt x="3820" y="9575"/>
                </a:moveTo>
                <a:cubicBezTo>
                  <a:pt x="3670" y="9738"/>
                  <a:pt x="3627" y="9862"/>
                  <a:pt x="3671" y="10071"/>
                </a:cubicBezTo>
                <a:cubicBezTo>
                  <a:pt x="3811" y="10038"/>
                  <a:pt x="4173" y="9862"/>
                  <a:pt x="3944" y="9649"/>
                </a:cubicBezTo>
                <a:cubicBezTo>
                  <a:pt x="3828" y="9626"/>
                  <a:pt x="3795" y="9615"/>
                  <a:pt x="3721" y="9649"/>
                </a:cubicBezTo>
              </a:path>
              <a:path w="4094" h="4789">
                <a:moveTo>
                  <a:pt x="4738" y="9897"/>
                </a:moveTo>
                <a:cubicBezTo>
                  <a:pt x="4824" y="9999"/>
                  <a:pt x="4886" y="10188"/>
                  <a:pt x="4961" y="10319"/>
                </a:cubicBezTo>
                <a:cubicBezTo>
                  <a:pt x="4969" y="10327"/>
                  <a:pt x="4978" y="10336"/>
                  <a:pt x="4986" y="10344"/>
                </a:cubicBezTo>
              </a:path>
              <a:path w="4094" h="4789">
                <a:moveTo>
                  <a:pt x="5680" y="9773"/>
                </a:moveTo>
                <a:cubicBezTo>
                  <a:pt x="5643" y="9776"/>
                  <a:pt x="5497" y="9783"/>
                  <a:pt x="5482" y="9823"/>
                </a:cubicBezTo>
                <a:cubicBezTo>
                  <a:pt x="5464" y="9871"/>
                  <a:pt x="5482" y="9945"/>
                  <a:pt x="5482" y="9996"/>
                </a:cubicBezTo>
                <a:cubicBezTo>
                  <a:pt x="5609" y="9975"/>
                  <a:pt x="5710" y="9912"/>
                  <a:pt x="5779" y="10071"/>
                </a:cubicBezTo>
                <a:cubicBezTo>
                  <a:pt x="5850" y="10235"/>
                  <a:pt x="5500" y="10373"/>
                  <a:pt x="5407" y="10244"/>
                </a:cubicBezTo>
                <a:cubicBezTo>
                  <a:pt x="5407" y="10203"/>
                  <a:pt x="5407" y="10161"/>
                  <a:pt x="5407" y="10120"/>
                </a:cubicBezTo>
              </a:path>
              <a:path w="4094" h="4789">
                <a:moveTo>
                  <a:pt x="6028" y="9748"/>
                </a:moveTo>
                <a:cubicBezTo>
                  <a:pt x="6037" y="9813"/>
                  <a:pt x="6026" y="10253"/>
                  <a:pt x="6052" y="10269"/>
                </a:cubicBezTo>
                <a:cubicBezTo>
                  <a:pt x="6060" y="10253"/>
                  <a:pt x="6069" y="10236"/>
                  <a:pt x="6077" y="10220"/>
                </a:cubicBezTo>
              </a:path>
              <a:path w="4094" h="4789">
                <a:moveTo>
                  <a:pt x="6325" y="9748"/>
                </a:moveTo>
                <a:cubicBezTo>
                  <a:pt x="6394" y="9731"/>
                  <a:pt x="6635" y="9611"/>
                  <a:pt x="6672" y="9748"/>
                </a:cubicBezTo>
                <a:cubicBezTo>
                  <a:pt x="6709" y="9882"/>
                  <a:pt x="6505" y="9929"/>
                  <a:pt x="6424" y="9971"/>
                </a:cubicBezTo>
                <a:cubicBezTo>
                  <a:pt x="6507" y="9889"/>
                  <a:pt x="6782" y="9871"/>
                  <a:pt x="6772" y="10071"/>
                </a:cubicBezTo>
                <a:cubicBezTo>
                  <a:pt x="6759" y="10315"/>
                  <a:pt x="6433" y="10244"/>
                  <a:pt x="6300" y="102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1785960"/>
            <a:ext cx="884160" cy="1143000"/>
          </a:xfrm>
          <a:custGeom>
            <a:avLst/>
            <a:gdLst/>
            <a:ahLst/>
            <a:rect l="l" t="t" r="r" b="b"/>
            <a:pathLst>
              <a:path w="2456" h="3176">
                <a:moveTo>
                  <a:pt x="7888" y="5482"/>
                </a:moveTo>
                <a:cubicBezTo>
                  <a:pt x="7913" y="5657"/>
                  <a:pt x="7935" y="5825"/>
                  <a:pt x="7938" y="6003"/>
                </a:cubicBezTo>
                <a:cubicBezTo>
                  <a:pt x="7940" y="6096"/>
                  <a:pt x="7908" y="6165"/>
                  <a:pt x="7962" y="6127"/>
                </a:cubicBezTo>
              </a:path>
              <a:path w="2456" h="3176">
                <a:moveTo>
                  <a:pt x="8434" y="5358"/>
                </a:moveTo>
                <a:cubicBezTo>
                  <a:pt x="8360" y="5369"/>
                  <a:pt x="8140" y="5372"/>
                  <a:pt x="8086" y="5407"/>
                </a:cubicBezTo>
                <a:cubicBezTo>
                  <a:pt x="8049" y="5431"/>
                  <a:pt x="8130" y="5697"/>
                  <a:pt x="8136" y="5755"/>
                </a:cubicBezTo>
                <a:cubicBezTo>
                  <a:pt x="8229" y="5677"/>
                  <a:pt x="8332" y="5617"/>
                  <a:pt x="8458" y="5680"/>
                </a:cubicBezTo>
                <a:cubicBezTo>
                  <a:pt x="8628" y="5765"/>
                  <a:pt x="8534" y="6032"/>
                  <a:pt x="8409" y="6102"/>
                </a:cubicBezTo>
                <a:cubicBezTo>
                  <a:pt x="8272" y="6179"/>
                  <a:pt x="8206" y="6160"/>
                  <a:pt x="8111" y="6077"/>
                </a:cubicBezTo>
              </a:path>
              <a:path w="2456" h="3176">
                <a:moveTo>
                  <a:pt x="8954" y="5407"/>
                </a:moveTo>
                <a:cubicBezTo>
                  <a:pt x="8847" y="5407"/>
                  <a:pt x="8817" y="5472"/>
                  <a:pt x="8806" y="5581"/>
                </a:cubicBezTo>
                <a:cubicBezTo>
                  <a:pt x="8790" y="5741"/>
                  <a:pt x="8807" y="5859"/>
                  <a:pt x="8855" y="6003"/>
                </a:cubicBezTo>
                <a:cubicBezTo>
                  <a:pt x="9044" y="6018"/>
                  <a:pt x="9105" y="5927"/>
                  <a:pt x="9128" y="5730"/>
                </a:cubicBezTo>
                <a:cubicBezTo>
                  <a:pt x="9152" y="5525"/>
                  <a:pt x="9036" y="5451"/>
                  <a:pt x="8880" y="5358"/>
                </a:cubicBezTo>
              </a:path>
              <a:path w="2456" h="3176">
                <a:moveTo>
                  <a:pt x="7367" y="6424"/>
                </a:moveTo>
                <a:cubicBezTo>
                  <a:pt x="7452" y="6543"/>
                  <a:pt x="7563" y="6657"/>
                  <a:pt x="7615" y="6796"/>
                </a:cubicBezTo>
                <a:cubicBezTo>
                  <a:pt x="7615" y="6804"/>
                  <a:pt x="7615" y="6813"/>
                  <a:pt x="7615" y="6821"/>
                </a:cubicBezTo>
              </a:path>
              <a:path w="2456" h="3176">
                <a:moveTo>
                  <a:pt x="7590" y="6300"/>
                </a:moveTo>
                <a:cubicBezTo>
                  <a:pt x="7590" y="6461"/>
                  <a:pt x="7569" y="6614"/>
                  <a:pt x="7541" y="6772"/>
                </a:cubicBezTo>
                <a:cubicBezTo>
                  <a:pt x="7516" y="6909"/>
                  <a:pt x="7438" y="6987"/>
                  <a:pt x="7590" y="6896"/>
                </a:cubicBezTo>
              </a:path>
              <a:path w="2456" h="3176">
                <a:moveTo>
                  <a:pt x="8657" y="6648"/>
                </a:moveTo>
                <a:cubicBezTo>
                  <a:pt x="8633" y="6577"/>
                  <a:pt x="8602" y="6681"/>
                  <a:pt x="8607" y="6697"/>
                </a:cubicBezTo>
                <a:cubicBezTo>
                  <a:pt x="8618" y="6734"/>
                  <a:pt x="8663" y="6656"/>
                  <a:pt x="8682" y="6623"/>
                </a:cubicBezTo>
                <a:cubicBezTo>
                  <a:pt x="8655" y="6632"/>
                  <a:pt x="8591" y="6700"/>
                  <a:pt x="8731" y="6623"/>
                </a:cubicBezTo>
              </a:path>
              <a:path w="2456" h="3176">
                <a:moveTo>
                  <a:pt x="8905" y="6276"/>
                </a:moveTo>
                <a:cubicBezTo>
                  <a:pt x="8920" y="6351"/>
                  <a:pt x="8914" y="6394"/>
                  <a:pt x="8905" y="6474"/>
                </a:cubicBezTo>
                <a:cubicBezTo>
                  <a:pt x="8991" y="6460"/>
                  <a:pt x="9017" y="6471"/>
                  <a:pt x="9029" y="6400"/>
                </a:cubicBezTo>
              </a:path>
              <a:path w="2456" h="3176">
                <a:moveTo>
                  <a:pt x="8905" y="6077"/>
                </a:moveTo>
                <a:cubicBezTo>
                  <a:pt x="8944" y="6255"/>
                  <a:pt x="8956" y="6417"/>
                  <a:pt x="8979" y="6598"/>
                </a:cubicBezTo>
                <a:cubicBezTo>
                  <a:pt x="8989" y="6674"/>
                  <a:pt x="9004" y="6721"/>
                  <a:pt x="9004" y="6796"/>
                </a:cubicBezTo>
              </a:path>
              <a:path w="2456" h="3176">
                <a:moveTo>
                  <a:pt x="7714" y="7268"/>
                </a:moveTo>
                <a:cubicBezTo>
                  <a:pt x="7913" y="7221"/>
                  <a:pt x="8108" y="7188"/>
                  <a:pt x="8310" y="7119"/>
                </a:cubicBezTo>
                <a:cubicBezTo>
                  <a:pt x="8555" y="7036"/>
                  <a:pt x="9413" y="6917"/>
                  <a:pt x="9575" y="6722"/>
                </a:cubicBezTo>
                <a:cubicBezTo>
                  <a:pt x="9626" y="6722"/>
                  <a:pt x="9615" y="6703"/>
                  <a:pt x="9525" y="6648"/>
                </a:cubicBezTo>
              </a:path>
              <a:path w="2456" h="3176">
                <a:moveTo>
                  <a:pt x="8830" y="6176"/>
                </a:moveTo>
                <a:cubicBezTo>
                  <a:pt x="8834" y="6172"/>
                  <a:pt x="8900" y="6266"/>
                  <a:pt x="8930" y="6325"/>
                </a:cubicBezTo>
                <a:cubicBezTo>
                  <a:pt x="8962" y="6390"/>
                  <a:pt x="8966" y="6474"/>
                  <a:pt x="9004" y="6499"/>
                </a:cubicBezTo>
                <a:cubicBezTo>
                  <a:pt x="9105" y="6460"/>
                  <a:pt x="9194" y="6415"/>
                  <a:pt x="9302" y="6400"/>
                </a:cubicBezTo>
                <a:cubicBezTo>
                  <a:pt x="9302" y="6300"/>
                  <a:pt x="9269" y="6223"/>
                  <a:pt x="9252" y="6127"/>
                </a:cubicBezTo>
                <a:cubicBezTo>
                  <a:pt x="9252" y="6085"/>
                  <a:pt x="9260" y="6069"/>
                  <a:pt x="9227" y="6077"/>
                </a:cubicBezTo>
                <a:cubicBezTo>
                  <a:pt x="9227" y="5984"/>
                  <a:pt x="9270" y="6207"/>
                  <a:pt x="9277" y="6300"/>
                </a:cubicBezTo>
                <a:cubicBezTo>
                  <a:pt x="9287" y="6439"/>
                  <a:pt x="9277" y="6583"/>
                  <a:pt x="9277" y="6722"/>
                </a:cubicBezTo>
                <a:cubicBezTo>
                  <a:pt x="9277" y="6634"/>
                  <a:pt x="9281" y="6558"/>
                  <a:pt x="9252" y="6474"/>
                </a:cubicBezTo>
                <a:cubicBezTo>
                  <a:pt x="9244" y="6457"/>
                  <a:pt x="9235" y="6441"/>
                  <a:pt x="9227" y="6424"/>
                </a:cubicBezTo>
              </a:path>
              <a:path w="2456" h="3176">
                <a:moveTo>
                  <a:pt x="8855" y="6176"/>
                </a:moveTo>
                <a:cubicBezTo>
                  <a:pt x="8882" y="6270"/>
                  <a:pt x="8923" y="6347"/>
                  <a:pt x="8930" y="6449"/>
                </a:cubicBezTo>
                <a:cubicBezTo>
                  <a:pt x="8930" y="6457"/>
                  <a:pt x="8930" y="6466"/>
                  <a:pt x="8930" y="6474"/>
                </a:cubicBezTo>
                <a:cubicBezTo>
                  <a:pt x="9058" y="6455"/>
                  <a:pt x="9155" y="6387"/>
                  <a:pt x="9277" y="6350"/>
                </a:cubicBezTo>
                <a:cubicBezTo>
                  <a:pt x="9285" y="6350"/>
                  <a:pt x="9294" y="6350"/>
                  <a:pt x="9302" y="6350"/>
                </a:cubicBezTo>
                <a:cubicBezTo>
                  <a:pt x="9283" y="6218"/>
                  <a:pt x="9250" y="6085"/>
                  <a:pt x="9227" y="5953"/>
                </a:cubicBezTo>
                <a:cubicBezTo>
                  <a:pt x="9227" y="6142"/>
                  <a:pt x="9290" y="6314"/>
                  <a:pt x="9327" y="6499"/>
                </a:cubicBezTo>
                <a:cubicBezTo>
                  <a:pt x="9346" y="6596"/>
                  <a:pt x="9344" y="6713"/>
                  <a:pt x="9376" y="6796"/>
                </a:cubicBezTo>
              </a:path>
              <a:path w="2456" h="3176">
                <a:moveTo>
                  <a:pt x="9351" y="7193"/>
                </a:moveTo>
                <a:cubicBezTo>
                  <a:pt x="9323" y="7108"/>
                  <a:pt x="9215" y="7269"/>
                  <a:pt x="9203" y="7293"/>
                </a:cubicBezTo>
                <a:cubicBezTo>
                  <a:pt x="9131" y="7440"/>
                  <a:pt x="9143" y="7536"/>
                  <a:pt x="9203" y="7665"/>
                </a:cubicBezTo>
                <a:cubicBezTo>
                  <a:pt x="9412" y="7650"/>
                  <a:pt x="9511" y="7548"/>
                  <a:pt x="9500" y="7317"/>
                </a:cubicBezTo>
                <a:cubicBezTo>
                  <a:pt x="9494" y="7202"/>
                  <a:pt x="9438" y="7205"/>
                  <a:pt x="9351" y="7193"/>
                </a:cubicBezTo>
              </a:path>
              <a:path w="2456" h="3176">
                <a:moveTo>
                  <a:pt x="8632" y="7342"/>
                </a:moveTo>
                <a:cubicBezTo>
                  <a:pt x="8524" y="7450"/>
                  <a:pt x="8451" y="7625"/>
                  <a:pt x="8508" y="7789"/>
                </a:cubicBezTo>
                <a:cubicBezTo>
                  <a:pt x="8567" y="7958"/>
                  <a:pt x="8812" y="7804"/>
                  <a:pt x="8855" y="7714"/>
                </a:cubicBezTo>
                <a:cubicBezTo>
                  <a:pt x="8906" y="7607"/>
                  <a:pt x="8895" y="7335"/>
                  <a:pt x="8756" y="7293"/>
                </a:cubicBezTo>
                <a:cubicBezTo>
                  <a:pt x="8731" y="7293"/>
                  <a:pt x="8707" y="7293"/>
                  <a:pt x="8682" y="7293"/>
                </a:cubicBezTo>
              </a:path>
              <a:path w="2456" h="3176">
                <a:moveTo>
                  <a:pt x="7392" y="5035"/>
                </a:moveTo>
                <a:cubicBezTo>
                  <a:pt x="7384" y="5035"/>
                  <a:pt x="7375" y="5035"/>
                  <a:pt x="7367" y="5035"/>
                </a:cubicBezTo>
                <a:cubicBezTo>
                  <a:pt x="7367" y="4969"/>
                  <a:pt x="7401" y="4896"/>
                  <a:pt x="7466" y="5035"/>
                </a:cubicBezTo>
                <a:cubicBezTo>
                  <a:pt x="7559" y="5235"/>
                  <a:pt x="7480" y="5503"/>
                  <a:pt x="7243" y="5531"/>
                </a:cubicBezTo>
                <a:cubicBezTo>
                  <a:pt x="7218" y="5523"/>
                  <a:pt x="7194" y="5515"/>
                  <a:pt x="7169" y="5507"/>
                </a:cubicBezTo>
                <a:cubicBezTo>
                  <a:pt x="7146" y="5338"/>
                  <a:pt x="7169" y="5271"/>
                  <a:pt x="7367" y="5283"/>
                </a:cubicBezTo>
                <a:cubicBezTo>
                  <a:pt x="7496" y="5291"/>
                  <a:pt x="7528" y="5310"/>
                  <a:pt x="7615" y="5383"/>
                </a:cubicBezTo>
              </a:path>
              <a:path w="2456" h="3176">
                <a:moveTo>
                  <a:pt x="7913" y="7466"/>
                </a:moveTo>
                <a:cubicBezTo>
                  <a:pt x="7872" y="7609"/>
                  <a:pt x="7828" y="7764"/>
                  <a:pt x="7813" y="7913"/>
                </a:cubicBezTo>
                <a:cubicBezTo>
                  <a:pt x="7807" y="7971"/>
                  <a:pt x="7807" y="8096"/>
                  <a:pt x="7863" y="8111"/>
                </a:cubicBezTo>
                <a:cubicBezTo>
                  <a:pt x="7975" y="8140"/>
                  <a:pt x="8119" y="8123"/>
                  <a:pt x="8210" y="8037"/>
                </a:cubicBezTo>
                <a:cubicBezTo>
                  <a:pt x="8259" y="7990"/>
                  <a:pt x="8329" y="7876"/>
                  <a:pt x="8334" y="7813"/>
                </a:cubicBezTo>
                <a:cubicBezTo>
                  <a:pt x="8344" y="7701"/>
                  <a:pt x="8340" y="7707"/>
                  <a:pt x="8260" y="7665"/>
                </a:cubicBezTo>
                <a:cubicBezTo>
                  <a:pt x="8166" y="7615"/>
                  <a:pt x="8119" y="7640"/>
                  <a:pt x="8086" y="7739"/>
                </a:cubicBezTo>
                <a:cubicBezTo>
                  <a:pt x="8037" y="7887"/>
                  <a:pt x="8096" y="7894"/>
                  <a:pt x="8161" y="7987"/>
                </a:cubicBezTo>
                <a:cubicBezTo>
                  <a:pt x="8178" y="8011"/>
                  <a:pt x="8176" y="8008"/>
                  <a:pt x="8186" y="8037"/>
                </a:cubicBezTo>
              </a:path>
              <a:path w="2456" h="3176">
                <a:moveTo>
                  <a:pt x="8880" y="6672"/>
                </a:moveTo>
                <a:cubicBezTo>
                  <a:pt x="8880" y="6609"/>
                  <a:pt x="8871" y="6623"/>
                  <a:pt x="8806" y="6623"/>
                </a:cubicBezTo>
                <a:cubicBezTo>
                  <a:pt x="8733" y="6623"/>
                  <a:pt x="8736" y="6713"/>
                  <a:pt x="8731" y="6772"/>
                </a:cubicBezTo>
                <a:cubicBezTo>
                  <a:pt x="8726" y="6831"/>
                  <a:pt x="8770" y="6788"/>
                  <a:pt x="8781" y="6772"/>
                </a:cubicBezTo>
                <a:cubicBezTo>
                  <a:pt x="8794" y="6702"/>
                  <a:pt x="8814" y="6600"/>
                  <a:pt x="8706" y="6672"/>
                </a:cubicBezTo>
                <a:cubicBezTo>
                  <a:pt x="8587" y="6752"/>
                  <a:pt x="8769" y="6754"/>
                  <a:pt x="8806" y="6747"/>
                </a:cubicBezTo>
                <a:cubicBezTo>
                  <a:pt x="8806" y="6701"/>
                  <a:pt x="8801" y="6625"/>
                  <a:pt x="8731" y="6672"/>
                </a:cubicBezTo>
                <a:cubicBezTo>
                  <a:pt x="8715" y="6689"/>
                  <a:pt x="8698" y="6705"/>
                  <a:pt x="8682" y="6722"/>
                </a:cubicBezTo>
                <a:cubicBezTo>
                  <a:pt x="8692" y="6781"/>
                  <a:pt x="8760" y="6799"/>
                  <a:pt x="8781" y="6722"/>
                </a:cubicBezTo>
                <a:cubicBezTo>
                  <a:pt x="8781" y="6664"/>
                  <a:pt x="8797" y="6640"/>
                  <a:pt x="8756" y="6648"/>
                </a:cubicBezTo>
                <a:cubicBezTo>
                  <a:pt x="8666" y="6702"/>
                  <a:pt x="8710" y="6796"/>
                  <a:pt x="8731" y="6747"/>
                </a:cubicBezTo>
                <a:cubicBezTo>
                  <a:pt x="8750" y="6673"/>
                  <a:pt x="8784" y="6640"/>
                  <a:pt x="8731" y="6648"/>
                </a:cubicBezTo>
              </a:path>
              <a:path w="2456" h="3176">
                <a:moveTo>
                  <a:pt x="9029" y="7764"/>
                </a:moveTo>
                <a:cubicBezTo>
                  <a:pt x="9017" y="7768"/>
                  <a:pt x="8974" y="7814"/>
                  <a:pt x="9004" y="7838"/>
                </a:cubicBezTo>
                <a:cubicBezTo>
                  <a:pt x="9016" y="7848"/>
                  <a:pt x="9078" y="7747"/>
                  <a:pt x="9029" y="7739"/>
                </a:cubicBezTo>
                <a:cubicBezTo>
                  <a:pt x="9012" y="7739"/>
                  <a:pt x="8996" y="7739"/>
                  <a:pt x="8979" y="7739"/>
                </a:cubicBezTo>
                <a:cubicBezTo>
                  <a:pt x="8979" y="7758"/>
                  <a:pt x="8980" y="7875"/>
                  <a:pt x="9029" y="7863"/>
                </a:cubicBezTo>
                <a:cubicBezTo>
                  <a:pt x="9077" y="7851"/>
                  <a:pt x="9036" y="7688"/>
                  <a:pt x="9004" y="7789"/>
                </a:cubicBezTo>
                <a:cubicBezTo>
                  <a:pt x="8984" y="7855"/>
                  <a:pt x="9015" y="7838"/>
                  <a:pt x="9054" y="7838"/>
                </a:cubicBezTo>
                <a:cubicBezTo>
                  <a:pt x="9060" y="7806"/>
                  <a:pt x="9048" y="7684"/>
                  <a:pt x="9029" y="7764"/>
                </a:cubicBezTo>
                <a:cubicBezTo>
                  <a:pt x="8976" y="7986"/>
                  <a:pt x="9126" y="7651"/>
                  <a:pt x="9029" y="7789"/>
                </a:cubicBezTo>
                <a:cubicBezTo>
                  <a:pt x="8961" y="7886"/>
                  <a:pt x="9034" y="7798"/>
                  <a:pt x="9054" y="7764"/>
                </a:cubicBezTo>
                <a:cubicBezTo>
                  <a:pt x="9077" y="7741"/>
                  <a:pt x="9085" y="7730"/>
                  <a:pt x="9079" y="77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7920" y="2303640"/>
            <a:ext cx="6108840" cy="2706480"/>
          </a:xfrm>
          <a:custGeom>
            <a:avLst/>
            <a:gdLst/>
            <a:ahLst/>
            <a:rect l="l" t="t" r="r" b="b"/>
            <a:pathLst>
              <a:path w="16968" h="7516">
                <a:moveTo>
                  <a:pt x="3274" y="6400"/>
                </a:moveTo>
                <a:cubicBezTo>
                  <a:pt x="3274" y="6451"/>
                  <a:pt x="3275" y="6470"/>
                  <a:pt x="3299" y="6499"/>
                </a:cubicBezTo>
              </a:path>
              <a:path w="16968" h="7516">
                <a:moveTo>
                  <a:pt x="10740" y="10765"/>
                </a:moveTo>
                <a:cubicBezTo>
                  <a:pt x="10740" y="10793"/>
                  <a:pt x="10742" y="10804"/>
                  <a:pt x="10765" y="10815"/>
                </a:cubicBezTo>
              </a:path>
              <a:path w="16968" h="7516">
                <a:moveTo>
                  <a:pt x="19248" y="11757"/>
                </a:moveTo>
                <a:cubicBezTo>
                  <a:pt x="19256" y="11774"/>
                  <a:pt x="19265" y="11790"/>
                  <a:pt x="19273" y="11807"/>
                </a:cubicBezTo>
              </a:path>
              <a:path w="16968" h="7516">
                <a:moveTo>
                  <a:pt x="5060" y="9922"/>
                </a:moveTo>
                <a:cubicBezTo>
                  <a:pt x="5043" y="9949"/>
                  <a:pt x="4775" y="10418"/>
                  <a:pt x="4812" y="10269"/>
                </a:cubicBezTo>
              </a:path>
              <a:path w="16968" h="7516">
                <a:moveTo>
                  <a:pt x="5308" y="12204"/>
                </a:moveTo>
                <a:cubicBezTo>
                  <a:pt x="5346" y="12429"/>
                  <a:pt x="5355" y="12601"/>
                  <a:pt x="5308" y="12824"/>
                </a:cubicBezTo>
              </a:path>
              <a:path w="16968" h="7516">
                <a:moveTo>
                  <a:pt x="3870" y="13320"/>
                </a:moveTo>
                <a:cubicBezTo>
                  <a:pt x="3981" y="13495"/>
                  <a:pt x="4031" y="13684"/>
                  <a:pt x="4068" y="13891"/>
                </a:cubicBezTo>
                <a:cubicBezTo>
                  <a:pt x="4068" y="13899"/>
                  <a:pt x="4068" y="13907"/>
                  <a:pt x="4068" y="13915"/>
                </a:cubicBezTo>
              </a:path>
              <a:path w="16968" h="7516">
                <a:moveTo>
                  <a:pt x="5283" y="13742"/>
                </a:moveTo>
                <a:cubicBezTo>
                  <a:pt x="5303" y="13819"/>
                  <a:pt x="5295" y="13868"/>
                  <a:pt x="5333" y="13816"/>
                </a:cubicBezTo>
              </a:path>
              <a:path w="16968" h="7516">
                <a:moveTo>
                  <a:pt x="20241" y="12179"/>
                </a:moveTo>
                <a:cubicBezTo>
                  <a:pt x="20241" y="12187"/>
                  <a:pt x="20241" y="12196"/>
                  <a:pt x="20241" y="122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29240" y="1704960"/>
            <a:ext cx="115920" cy="268200"/>
          </a:xfrm>
          <a:custGeom>
            <a:avLst/>
            <a:gdLst/>
            <a:ahLst/>
            <a:rect l="l" t="t" r="r" b="b"/>
            <a:pathLst>
              <a:path w="324" h="745">
                <a:moveTo>
                  <a:pt x="17859" y="5135"/>
                </a:moveTo>
                <a:cubicBezTo>
                  <a:pt x="17859" y="5110"/>
                  <a:pt x="17859" y="5102"/>
                  <a:pt x="17884" y="5110"/>
                </a:cubicBezTo>
                <a:cubicBezTo>
                  <a:pt x="17872" y="5183"/>
                  <a:pt x="17821" y="5229"/>
                  <a:pt x="17909" y="5259"/>
                </a:cubicBezTo>
                <a:cubicBezTo>
                  <a:pt x="18032" y="5301"/>
                  <a:pt x="18078" y="5265"/>
                  <a:pt x="18182" y="5209"/>
                </a:cubicBezTo>
              </a:path>
              <a:path w="324" h="745">
                <a:moveTo>
                  <a:pt x="18132" y="4911"/>
                </a:moveTo>
                <a:cubicBezTo>
                  <a:pt x="18132" y="5093"/>
                  <a:pt x="18132" y="5275"/>
                  <a:pt x="18132" y="5457"/>
                </a:cubicBezTo>
              </a:path>
              <a:path w="324" h="745">
                <a:moveTo>
                  <a:pt x="18157" y="4986"/>
                </a:moveTo>
                <a:cubicBezTo>
                  <a:pt x="18157" y="4983"/>
                  <a:pt x="18169" y="4849"/>
                  <a:pt x="18132" y="4862"/>
                </a:cubicBezTo>
                <a:cubicBezTo>
                  <a:pt x="18050" y="4891"/>
                  <a:pt x="18147" y="5200"/>
                  <a:pt x="18157" y="5259"/>
                </a:cubicBezTo>
                <a:cubicBezTo>
                  <a:pt x="18177" y="5379"/>
                  <a:pt x="18094" y="5077"/>
                  <a:pt x="18058" y="4961"/>
                </a:cubicBezTo>
                <a:cubicBezTo>
                  <a:pt x="18016" y="4837"/>
                  <a:pt x="18008" y="4812"/>
                  <a:pt x="17983" y="4738"/>
                </a:cubicBezTo>
                <a:cubicBezTo>
                  <a:pt x="18001" y="4921"/>
                  <a:pt x="18060" y="5099"/>
                  <a:pt x="18083" y="5283"/>
                </a:cubicBezTo>
                <a:cubicBezTo>
                  <a:pt x="18100" y="5417"/>
                  <a:pt x="18038" y="5118"/>
                  <a:pt x="18008" y="4986"/>
                </a:cubicBezTo>
                <a:cubicBezTo>
                  <a:pt x="17915" y="4770"/>
                  <a:pt x="18068" y="5341"/>
                  <a:pt x="18083" y="5407"/>
                </a:cubicBezTo>
                <a:cubicBezTo>
                  <a:pt x="18103" y="5498"/>
                  <a:pt x="18095" y="5375"/>
                  <a:pt x="18083" y="5283"/>
                </a:cubicBezTo>
                <a:cubicBezTo>
                  <a:pt x="17999" y="4926"/>
                  <a:pt x="18015" y="4960"/>
                  <a:pt x="18033" y="5259"/>
                </a:cubicBezTo>
                <a:cubicBezTo>
                  <a:pt x="18033" y="5350"/>
                  <a:pt x="18033" y="5358"/>
                  <a:pt x="18033" y="54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6240" y="2197080"/>
            <a:ext cx="2313000" cy="446040"/>
          </a:xfrm>
          <a:custGeom>
            <a:avLst/>
            <a:gdLst/>
            <a:ahLst/>
            <a:rect l="l" t="t" r="r" b="b"/>
            <a:pathLst>
              <a:path w="6425" h="1241">
                <a:moveTo>
                  <a:pt x="11460" y="6102"/>
                </a:moveTo>
                <a:cubicBezTo>
                  <a:pt x="11419" y="6143"/>
                  <a:pt x="11446" y="6142"/>
                  <a:pt x="11485" y="6152"/>
                </a:cubicBezTo>
              </a:path>
              <a:path w="6425" h="1241">
                <a:moveTo>
                  <a:pt x="17835" y="7243"/>
                </a:moveTo>
                <a:cubicBezTo>
                  <a:pt x="17842" y="7277"/>
                  <a:pt x="17852" y="7308"/>
                  <a:pt x="17859" y="73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14880" y="1955880"/>
            <a:ext cx="1312920" cy="339480"/>
          </a:xfrm>
          <a:custGeom>
            <a:avLst/>
            <a:gdLst/>
            <a:ahLst/>
            <a:rect l="l" t="t" r="r" b="b"/>
            <a:pathLst>
              <a:path w="3647" h="944">
                <a:moveTo>
                  <a:pt x="11782" y="5631"/>
                </a:moveTo>
                <a:cubicBezTo>
                  <a:pt x="11918" y="5597"/>
                  <a:pt x="11997" y="5563"/>
                  <a:pt x="12080" y="5755"/>
                </a:cubicBezTo>
                <a:cubicBezTo>
                  <a:pt x="12215" y="6068"/>
                  <a:pt x="11979" y="6206"/>
                  <a:pt x="11733" y="6251"/>
                </a:cubicBezTo>
                <a:cubicBezTo>
                  <a:pt x="11759" y="6112"/>
                  <a:pt x="11948" y="5901"/>
                  <a:pt x="12080" y="6152"/>
                </a:cubicBezTo>
                <a:cubicBezTo>
                  <a:pt x="12101" y="6275"/>
                  <a:pt x="12109" y="6300"/>
                  <a:pt x="12105" y="6375"/>
                </a:cubicBezTo>
              </a:path>
              <a:path w="3647" h="944">
                <a:moveTo>
                  <a:pt x="12601" y="5507"/>
                </a:moveTo>
                <a:cubicBezTo>
                  <a:pt x="12472" y="5554"/>
                  <a:pt x="12491" y="5524"/>
                  <a:pt x="12427" y="5680"/>
                </a:cubicBezTo>
                <a:cubicBezTo>
                  <a:pt x="12391" y="5770"/>
                  <a:pt x="12375" y="5776"/>
                  <a:pt x="12378" y="5829"/>
                </a:cubicBezTo>
                <a:cubicBezTo>
                  <a:pt x="12540" y="5784"/>
                  <a:pt x="12890" y="5714"/>
                  <a:pt x="12799" y="6028"/>
                </a:cubicBezTo>
                <a:cubicBezTo>
                  <a:pt x="12728" y="6273"/>
                  <a:pt x="12377" y="6224"/>
                  <a:pt x="12427" y="6176"/>
                </a:cubicBezTo>
                <a:cubicBezTo>
                  <a:pt x="12477" y="6151"/>
                  <a:pt x="12526" y="6127"/>
                  <a:pt x="12576" y="6102"/>
                </a:cubicBezTo>
              </a:path>
              <a:path w="3647" h="944">
                <a:moveTo>
                  <a:pt x="13146" y="5680"/>
                </a:moveTo>
                <a:cubicBezTo>
                  <a:pt x="13313" y="5876"/>
                  <a:pt x="13440" y="6062"/>
                  <a:pt x="13543" y="6300"/>
                </a:cubicBezTo>
              </a:path>
              <a:path w="3647" h="944">
                <a:moveTo>
                  <a:pt x="13494" y="5755"/>
                </a:moveTo>
                <a:cubicBezTo>
                  <a:pt x="13430" y="5923"/>
                  <a:pt x="13358" y="6140"/>
                  <a:pt x="13271" y="6300"/>
                </a:cubicBezTo>
              </a:path>
              <a:path w="3647" h="944">
                <a:moveTo>
                  <a:pt x="14188" y="5581"/>
                </a:moveTo>
                <a:cubicBezTo>
                  <a:pt x="14023" y="5829"/>
                  <a:pt x="14396" y="5672"/>
                  <a:pt x="14436" y="5978"/>
                </a:cubicBezTo>
                <a:cubicBezTo>
                  <a:pt x="14390" y="6095"/>
                  <a:pt x="14380" y="6133"/>
                  <a:pt x="14288" y="6152"/>
                </a:cubicBezTo>
                <a:cubicBezTo>
                  <a:pt x="14225" y="5934"/>
                  <a:pt x="14371" y="5778"/>
                  <a:pt x="14461" y="5556"/>
                </a:cubicBezTo>
                <a:cubicBezTo>
                  <a:pt x="14461" y="5548"/>
                  <a:pt x="14461" y="5539"/>
                  <a:pt x="14461" y="5531"/>
                </a:cubicBezTo>
              </a:path>
              <a:path w="3647" h="944">
                <a:moveTo>
                  <a:pt x="14709" y="5457"/>
                </a:moveTo>
                <a:cubicBezTo>
                  <a:pt x="14588" y="5506"/>
                  <a:pt x="14549" y="5520"/>
                  <a:pt x="14511" y="5606"/>
                </a:cubicBezTo>
                <a:cubicBezTo>
                  <a:pt x="14590" y="5724"/>
                  <a:pt x="14926" y="5832"/>
                  <a:pt x="14858" y="6028"/>
                </a:cubicBezTo>
                <a:cubicBezTo>
                  <a:pt x="14768" y="6118"/>
                  <a:pt x="14747" y="6148"/>
                  <a:pt x="14660" y="6152"/>
                </a:cubicBezTo>
                <a:cubicBezTo>
                  <a:pt x="14660" y="5922"/>
                  <a:pt x="14710" y="5771"/>
                  <a:pt x="14808" y="5556"/>
                </a:cubicBezTo>
              </a:path>
              <a:path w="3647" h="944">
                <a:moveTo>
                  <a:pt x="15131" y="5432"/>
                </a:moveTo>
                <a:cubicBezTo>
                  <a:pt x="14965" y="5612"/>
                  <a:pt x="14992" y="5700"/>
                  <a:pt x="15180" y="5879"/>
                </a:cubicBezTo>
                <a:cubicBezTo>
                  <a:pt x="15326" y="6018"/>
                  <a:pt x="15344" y="5962"/>
                  <a:pt x="15230" y="6102"/>
                </a:cubicBezTo>
                <a:cubicBezTo>
                  <a:pt x="14876" y="6049"/>
                  <a:pt x="15126" y="5848"/>
                  <a:pt x="15280" y="5631"/>
                </a:cubicBezTo>
                <a:cubicBezTo>
                  <a:pt x="15334" y="5558"/>
                  <a:pt x="15359" y="5558"/>
                  <a:pt x="15354" y="55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65920" y="1751040"/>
            <a:ext cx="1089000" cy="1276200"/>
          </a:xfrm>
          <a:custGeom>
            <a:avLst/>
            <a:gdLst/>
            <a:ahLst/>
            <a:rect l="l" t="t" r="r" b="b"/>
            <a:pathLst>
              <a:path w="3027" h="3548">
                <a:moveTo>
                  <a:pt x="17785" y="5904"/>
                </a:moveTo>
                <a:cubicBezTo>
                  <a:pt x="17666" y="5874"/>
                  <a:pt x="17530" y="5899"/>
                  <a:pt x="17413" y="5978"/>
                </a:cubicBezTo>
                <a:cubicBezTo>
                  <a:pt x="17396" y="6003"/>
                  <a:pt x="17380" y="6027"/>
                  <a:pt x="17363" y="6052"/>
                </a:cubicBezTo>
                <a:cubicBezTo>
                  <a:pt x="17510" y="6191"/>
                  <a:pt x="17846" y="6363"/>
                  <a:pt x="17611" y="6573"/>
                </a:cubicBezTo>
                <a:cubicBezTo>
                  <a:pt x="17561" y="6590"/>
                  <a:pt x="17512" y="6606"/>
                  <a:pt x="17462" y="6623"/>
                </a:cubicBezTo>
                <a:cubicBezTo>
                  <a:pt x="17294" y="6369"/>
                  <a:pt x="17521" y="6261"/>
                  <a:pt x="17735" y="6077"/>
                </a:cubicBezTo>
                <a:cubicBezTo>
                  <a:pt x="17793" y="6019"/>
                  <a:pt x="17802" y="5978"/>
                  <a:pt x="17835" y="6028"/>
                </a:cubicBezTo>
              </a:path>
              <a:path w="3027" h="3548">
                <a:moveTo>
                  <a:pt x="18256" y="5779"/>
                </a:moveTo>
                <a:cubicBezTo>
                  <a:pt x="18070" y="5873"/>
                  <a:pt x="17970" y="5920"/>
                  <a:pt x="18132" y="6102"/>
                </a:cubicBezTo>
                <a:cubicBezTo>
                  <a:pt x="18316" y="6308"/>
                  <a:pt x="18411" y="6374"/>
                  <a:pt x="18157" y="6524"/>
                </a:cubicBezTo>
                <a:cubicBezTo>
                  <a:pt x="18005" y="6274"/>
                  <a:pt x="18144" y="6182"/>
                  <a:pt x="18331" y="5953"/>
                </a:cubicBezTo>
                <a:cubicBezTo>
                  <a:pt x="18339" y="5945"/>
                  <a:pt x="18347" y="5936"/>
                  <a:pt x="18355" y="5928"/>
                </a:cubicBezTo>
              </a:path>
              <a:path w="3027" h="3548">
                <a:moveTo>
                  <a:pt x="18852" y="5631"/>
                </a:moveTo>
                <a:cubicBezTo>
                  <a:pt x="18671" y="5735"/>
                  <a:pt x="18500" y="5844"/>
                  <a:pt x="18703" y="6052"/>
                </a:cubicBezTo>
                <a:cubicBezTo>
                  <a:pt x="18904" y="6258"/>
                  <a:pt x="19074" y="6327"/>
                  <a:pt x="18777" y="6499"/>
                </a:cubicBezTo>
                <a:cubicBezTo>
                  <a:pt x="18586" y="6289"/>
                  <a:pt x="18836" y="6091"/>
                  <a:pt x="18976" y="5854"/>
                </a:cubicBezTo>
                <a:cubicBezTo>
                  <a:pt x="19014" y="5777"/>
                  <a:pt x="19048" y="5762"/>
                  <a:pt x="19000" y="5730"/>
                </a:cubicBezTo>
              </a:path>
              <a:path w="3027" h="3548">
                <a:moveTo>
                  <a:pt x="16917" y="6921"/>
                </a:moveTo>
                <a:cubicBezTo>
                  <a:pt x="16996" y="7063"/>
                  <a:pt x="17077" y="7213"/>
                  <a:pt x="17115" y="7367"/>
                </a:cubicBezTo>
              </a:path>
              <a:path w="3027" h="3548">
                <a:moveTo>
                  <a:pt x="17115" y="6995"/>
                </a:moveTo>
                <a:cubicBezTo>
                  <a:pt x="17069" y="7113"/>
                  <a:pt x="16903" y="7388"/>
                  <a:pt x="16991" y="7441"/>
                </a:cubicBezTo>
              </a:path>
              <a:path w="3027" h="3548">
                <a:moveTo>
                  <a:pt x="18281" y="6846"/>
                </a:moveTo>
                <a:cubicBezTo>
                  <a:pt x="18444" y="6846"/>
                  <a:pt x="18786" y="6907"/>
                  <a:pt x="18579" y="7169"/>
                </a:cubicBezTo>
                <a:cubicBezTo>
                  <a:pt x="18456" y="7324"/>
                  <a:pt x="18360" y="7294"/>
                  <a:pt x="18256" y="7218"/>
                </a:cubicBezTo>
                <a:cubicBezTo>
                  <a:pt x="18354" y="7121"/>
                  <a:pt x="18474" y="7010"/>
                  <a:pt x="18554" y="7169"/>
                </a:cubicBezTo>
                <a:cubicBezTo>
                  <a:pt x="18562" y="7194"/>
                  <a:pt x="18571" y="7218"/>
                  <a:pt x="18579" y="7243"/>
                </a:cubicBezTo>
              </a:path>
              <a:path w="3027" h="3548">
                <a:moveTo>
                  <a:pt x="19100" y="6697"/>
                </a:moveTo>
                <a:cubicBezTo>
                  <a:pt x="19048" y="6732"/>
                  <a:pt x="18933" y="6720"/>
                  <a:pt x="18901" y="6747"/>
                </a:cubicBezTo>
                <a:cubicBezTo>
                  <a:pt x="18872" y="6771"/>
                  <a:pt x="18876" y="6880"/>
                  <a:pt x="18876" y="6921"/>
                </a:cubicBezTo>
                <a:cubicBezTo>
                  <a:pt x="19003" y="6936"/>
                  <a:pt x="19237" y="6928"/>
                  <a:pt x="19323" y="7045"/>
                </a:cubicBezTo>
                <a:cubicBezTo>
                  <a:pt x="19461" y="7233"/>
                  <a:pt x="19000" y="7286"/>
                  <a:pt x="18926" y="7293"/>
                </a:cubicBezTo>
              </a:path>
              <a:path w="3027" h="3548">
                <a:moveTo>
                  <a:pt x="16570" y="7764"/>
                </a:moveTo>
                <a:cubicBezTo>
                  <a:pt x="17242" y="7674"/>
                  <a:pt x="17926" y="7634"/>
                  <a:pt x="18604" y="7590"/>
                </a:cubicBezTo>
                <a:cubicBezTo>
                  <a:pt x="18936" y="7568"/>
                  <a:pt x="19245" y="7558"/>
                  <a:pt x="19571" y="7590"/>
                </a:cubicBezTo>
              </a:path>
              <a:path w="3027" h="3548">
                <a:moveTo>
                  <a:pt x="19372" y="7938"/>
                </a:moveTo>
                <a:cubicBezTo>
                  <a:pt x="19183" y="7938"/>
                  <a:pt x="19072" y="8047"/>
                  <a:pt x="19100" y="8260"/>
                </a:cubicBezTo>
                <a:cubicBezTo>
                  <a:pt x="19138" y="8555"/>
                  <a:pt x="19573" y="8380"/>
                  <a:pt x="19596" y="8161"/>
                </a:cubicBezTo>
                <a:cubicBezTo>
                  <a:pt x="19621" y="7923"/>
                  <a:pt x="19426" y="7935"/>
                  <a:pt x="19273" y="7913"/>
                </a:cubicBezTo>
              </a:path>
              <a:path w="3027" h="3548">
                <a:moveTo>
                  <a:pt x="17041" y="5184"/>
                </a:moveTo>
                <a:cubicBezTo>
                  <a:pt x="17026" y="5237"/>
                  <a:pt x="17034" y="5291"/>
                  <a:pt x="17041" y="5358"/>
                </a:cubicBezTo>
                <a:cubicBezTo>
                  <a:pt x="17197" y="5342"/>
                  <a:pt x="17197" y="5330"/>
                  <a:pt x="17239" y="5184"/>
                </a:cubicBezTo>
              </a:path>
              <a:path w="3027" h="3548">
                <a:moveTo>
                  <a:pt x="17140" y="4936"/>
                </a:moveTo>
                <a:cubicBezTo>
                  <a:pt x="17159" y="5108"/>
                  <a:pt x="17177" y="5288"/>
                  <a:pt x="17214" y="5457"/>
                </a:cubicBezTo>
                <a:cubicBezTo>
                  <a:pt x="17233" y="5514"/>
                  <a:pt x="17242" y="5521"/>
                  <a:pt x="17239" y="5556"/>
                </a:cubicBezTo>
              </a:path>
              <a:path w="3027" h="3548">
                <a:moveTo>
                  <a:pt x="17214" y="5135"/>
                </a:moveTo>
                <a:cubicBezTo>
                  <a:pt x="17193" y="5084"/>
                  <a:pt x="17159" y="5034"/>
                  <a:pt x="17140" y="4986"/>
                </a:cubicBezTo>
                <a:cubicBezTo>
                  <a:pt x="17122" y="4941"/>
                  <a:pt x="17211" y="5321"/>
                  <a:pt x="17214" y="5333"/>
                </a:cubicBezTo>
                <a:cubicBezTo>
                  <a:pt x="17306" y="5638"/>
                  <a:pt x="17142" y="4943"/>
                  <a:pt x="17140" y="4936"/>
                </a:cubicBezTo>
                <a:cubicBezTo>
                  <a:pt x="16983" y="4730"/>
                  <a:pt x="17199" y="5150"/>
                  <a:pt x="17214" y="5209"/>
                </a:cubicBezTo>
                <a:cubicBezTo>
                  <a:pt x="17214" y="5250"/>
                  <a:pt x="17223" y="5267"/>
                  <a:pt x="17190" y="525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11920" y="2643120"/>
            <a:ext cx="1160280" cy="750960"/>
          </a:xfrm>
          <a:custGeom>
            <a:avLst/>
            <a:gdLst/>
            <a:ahLst/>
            <a:rect l="l" t="t" r="r" b="b"/>
            <a:pathLst>
              <a:path w="3225" h="2085">
                <a:moveTo>
                  <a:pt x="18281" y="7888"/>
                </a:moveTo>
                <a:cubicBezTo>
                  <a:pt x="18311" y="7908"/>
                  <a:pt x="18322" y="8032"/>
                  <a:pt x="18331" y="8086"/>
                </a:cubicBezTo>
                <a:cubicBezTo>
                  <a:pt x="18355" y="8237"/>
                  <a:pt x="18583" y="7984"/>
                  <a:pt x="18604" y="7962"/>
                </a:cubicBezTo>
              </a:path>
              <a:path w="3225" h="2085">
                <a:moveTo>
                  <a:pt x="18504" y="7739"/>
                </a:moveTo>
                <a:cubicBezTo>
                  <a:pt x="18504" y="7907"/>
                  <a:pt x="18522" y="8068"/>
                  <a:pt x="18529" y="8235"/>
                </a:cubicBezTo>
                <a:cubicBezTo>
                  <a:pt x="18529" y="8260"/>
                  <a:pt x="18529" y="8268"/>
                  <a:pt x="18529" y="8285"/>
                </a:cubicBezTo>
              </a:path>
              <a:path w="3225" h="2085">
                <a:moveTo>
                  <a:pt x="16942" y="7962"/>
                </a:moveTo>
                <a:cubicBezTo>
                  <a:pt x="16942" y="8028"/>
                  <a:pt x="16942" y="8095"/>
                  <a:pt x="16942" y="8161"/>
                </a:cubicBezTo>
                <a:cubicBezTo>
                  <a:pt x="17050" y="8143"/>
                  <a:pt x="17100" y="8095"/>
                  <a:pt x="17165" y="8012"/>
                </a:cubicBezTo>
              </a:path>
              <a:path w="3225" h="2085">
                <a:moveTo>
                  <a:pt x="17115" y="7863"/>
                </a:moveTo>
                <a:cubicBezTo>
                  <a:pt x="17137" y="7978"/>
                  <a:pt x="17114" y="8242"/>
                  <a:pt x="17165" y="8334"/>
                </a:cubicBezTo>
                <a:cubicBezTo>
                  <a:pt x="17173" y="8326"/>
                  <a:pt x="17182" y="8318"/>
                  <a:pt x="17190" y="8310"/>
                </a:cubicBezTo>
              </a:path>
              <a:path w="3225" h="2085">
                <a:moveTo>
                  <a:pt x="17314" y="7888"/>
                </a:moveTo>
                <a:cubicBezTo>
                  <a:pt x="17314" y="7945"/>
                  <a:pt x="17350" y="7978"/>
                  <a:pt x="17413" y="7987"/>
                </a:cubicBezTo>
                <a:cubicBezTo>
                  <a:pt x="17509" y="7987"/>
                  <a:pt x="17540" y="7990"/>
                  <a:pt x="17562" y="7913"/>
                </a:cubicBezTo>
              </a:path>
              <a:path w="3225" h="2085">
                <a:moveTo>
                  <a:pt x="17512" y="7714"/>
                </a:moveTo>
                <a:cubicBezTo>
                  <a:pt x="17539" y="7882"/>
                  <a:pt x="17582" y="8047"/>
                  <a:pt x="17611" y="8210"/>
                </a:cubicBezTo>
              </a:path>
              <a:path w="3225" h="2085">
                <a:moveTo>
                  <a:pt x="19149" y="8409"/>
                </a:moveTo>
                <a:cubicBezTo>
                  <a:pt x="19136" y="8400"/>
                  <a:pt x="19066" y="8343"/>
                  <a:pt x="19050" y="8359"/>
                </a:cubicBezTo>
                <a:cubicBezTo>
                  <a:pt x="18998" y="8437"/>
                  <a:pt x="18980" y="8466"/>
                  <a:pt x="18976" y="8533"/>
                </a:cubicBezTo>
                <a:cubicBezTo>
                  <a:pt x="18976" y="8541"/>
                  <a:pt x="18976" y="8550"/>
                  <a:pt x="18976" y="8558"/>
                </a:cubicBezTo>
                <a:cubicBezTo>
                  <a:pt x="19104" y="8548"/>
                  <a:pt x="19259" y="8525"/>
                  <a:pt x="19273" y="8359"/>
                </a:cubicBezTo>
                <a:cubicBezTo>
                  <a:pt x="19284" y="8230"/>
                  <a:pt x="19095" y="8315"/>
                  <a:pt x="19050" y="8334"/>
                </a:cubicBezTo>
              </a:path>
              <a:path w="3225" h="2085">
                <a:moveTo>
                  <a:pt x="18504" y="8359"/>
                </a:moveTo>
                <a:cubicBezTo>
                  <a:pt x="18449" y="8401"/>
                  <a:pt x="18433" y="8524"/>
                  <a:pt x="18455" y="8607"/>
                </a:cubicBezTo>
                <a:cubicBezTo>
                  <a:pt x="18481" y="8703"/>
                  <a:pt x="18609" y="8648"/>
                  <a:pt x="18653" y="8607"/>
                </a:cubicBezTo>
                <a:cubicBezTo>
                  <a:pt x="18697" y="8566"/>
                  <a:pt x="18715" y="8510"/>
                  <a:pt x="18728" y="8458"/>
                </a:cubicBezTo>
                <a:cubicBezTo>
                  <a:pt x="18701" y="8406"/>
                  <a:pt x="18641" y="8540"/>
                  <a:pt x="18628" y="8582"/>
                </a:cubicBezTo>
                <a:cubicBezTo>
                  <a:pt x="18628" y="8607"/>
                  <a:pt x="18628" y="8615"/>
                  <a:pt x="18628" y="8632"/>
                </a:cubicBezTo>
              </a:path>
              <a:path w="3225" h="2085">
                <a:moveTo>
                  <a:pt x="17537" y="8458"/>
                </a:moveTo>
                <a:cubicBezTo>
                  <a:pt x="17551" y="8416"/>
                  <a:pt x="17681" y="8423"/>
                  <a:pt x="17735" y="8409"/>
                </a:cubicBezTo>
                <a:cubicBezTo>
                  <a:pt x="17810" y="8384"/>
                  <a:pt x="17834" y="8376"/>
                  <a:pt x="17884" y="8359"/>
                </a:cubicBezTo>
                <a:cubicBezTo>
                  <a:pt x="17872" y="8458"/>
                  <a:pt x="17847" y="8558"/>
                  <a:pt x="17835" y="8657"/>
                </a:cubicBezTo>
              </a:path>
              <a:path w="3225" h="2085">
                <a:moveTo>
                  <a:pt x="16743" y="8533"/>
                </a:moveTo>
                <a:cubicBezTo>
                  <a:pt x="16812" y="8519"/>
                  <a:pt x="16890" y="8457"/>
                  <a:pt x="16966" y="8483"/>
                </a:cubicBezTo>
                <a:cubicBezTo>
                  <a:pt x="17018" y="8501"/>
                  <a:pt x="17026" y="8636"/>
                  <a:pt x="17041" y="8682"/>
                </a:cubicBezTo>
                <a:cubicBezTo>
                  <a:pt x="17049" y="8698"/>
                  <a:pt x="17058" y="8715"/>
                  <a:pt x="17066" y="8731"/>
                </a:cubicBezTo>
              </a:path>
              <a:path w="3225" h="2085">
                <a:moveTo>
                  <a:pt x="16644" y="9004"/>
                </a:moveTo>
                <a:cubicBezTo>
                  <a:pt x="16847" y="8945"/>
                  <a:pt x="17057" y="8894"/>
                  <a:pt x="17264" y="8855"/>
                </a:cubicBezTo>
                <a:cubicBezTo>
                  <a:pt x="17438" y="8823"/>
                  <a:pt x="17611" y="8792"/>
                  <a:pt x="17785" y="8756"/>
                </a:cubicBezTo>
                <a:cubicBezTo>
                  <a:pt x="17926" y="8727"/>
                  <a:pt x="18066" y="8691"/>
                  <a:pt x="18207" y="8657"/>
                </a:cubicBezTo>
                <a:cubicBezTo>
                  <a:pt x="18313" y="8631"/>
                  <a:pt x="18423" y="8611"/>
                  <a:pt x="18529" y="8607"/>
                </a:cubicBezTo>
                <a:cubicBezTo>
                  <a:pt x="18724" y="8599"/>
                  <a:pt x="18935" y="8638"/>
                  <a:pt x="19124" y="8582"/>
                </a:cubicBezTo>
                <a:cubicBezTo>
                  <a:pt x="19297" y="8531"/>
                  <a:pt x="19469" y="8492"/>
                  <a:pt x="19645" y="8458"/>
                </a:cubicBezTo>
              </a:path>
              <a:path w="3225" h="2085">
                <a:moveTo>
                  <a:pt x="19248" y="8731"/>
                </a:moveTo>
                <a:cubicBezTo>
                  <a:pt x="19219" y="8721"/>
                  <a:pt x="19203" y="8695"/>
                  <a:pt x="19174" y="8756"/>
                </a:cubicBezTo>
                <a:cubicBezTo>
                  <a:pt x="19152" y="8821"/>
                  <a:pt x="19144" y="8836"/>
                  <a:pt x="19149" y="8880"/>
                </a:cubicBezTo>
                <a:cubicBezTo>
                  <a:pt x="19228" y="8920"/>
                  <a:pt x="19279" y="8912"/>
                  <a:pt x="19323" y="8830"/>
                </a:cubicBezTo>
                <a:cubicBezTo>
                  <a:pt x="19373" y="8738"/>
                  <a:pt x="19302" y="8701"/>
                  <a:pt x="19224" y="8682"/>
                </a:cubicBezTo>
              </a:path>
              <a:path w="3225" h="2085">
                <a:moveTo>
                  <a:pt x="18901" y="8806"/>
                </a:moveTo>
                <a:cubicBezTo>
                  <a:pt x="18841" y="8806"/>
                  <a:pt x="18827" y="8819"/>
                  <a:pt x="18802" y="8880"/>
                </a:cubicBezTo>
                <a:cubicBezTo>
                  <a:pt x="18776" y="8944"/>
                  <a:pt x="18777" y="8987"/>
                  <a:pt x="18777" y="9054"/>
                </a:cubicBezTo>
                <a:cubicBezTo>
                  <a:pt x="18846" y="9035"/>
                  <a:pt x="18969" y="8986"/>
                  <a:pt x="18951" y="8880"/>
                </a:cubicBezTo>
                <a:cubicBezTo>
                  <a:pt x="18939" y="8806"/>
                  <a:pt x="18882" y="8813"/>
                  <a:pt x="18827" y="8806"/>
                </a:cubicBezTo>
              </a:path>
              <a:path w="3225" h="2085">
                <a:moveTo>
                  <a:pt x="17413" y="7417"/>
                </a:moveTo>
                <a:cubicBezTo>
                  <a:pt x="17413" y="7384"/>
                  <a:pt x="17358" y="7357"/>
                  <a:pt x="17388" y="7342"/>
                </a:cubicBezTo>
                <a:cubicBezTo>
                  <a:pt x="17428" y="7322"/>
                  <a:pt x="17445" y="7376"/>
                  <a:pt x="17462" y="7417"/>
                </a:cubicBezTo>
                <a:cubicBezTo>
                  <a:pt x="17462" y="7441"/>
                  <a:pt x="17462" y="7450"/>
                  <a:pt x="17462" y="7466"/>
                </a:cubicBezTo>
              </a:path>
              <a:path w="3225" h="2085">
                <a:moveTo>
                  <a:pt x="17859" y="8905"/>
                </a:moveTo>
                <a:cubicBezTo>
                  <a:pt x="17888" y="8876"/>
                  <a:pt x="17897" y="8864"/>
                  <a:pt x="17934" y="8855"/>
                </a:cubicBezTo>
                <a:cubicBezTo>
                  <a:pt x="17934" y="8970"/>
                  <a:pt x="17907" y="8964"/>
                  <a:pt x="17859" y="9054"/>
                </a:cubicBezTo>
                <a:cubicBezTo>
                  <a:pt x="17859" y="9062"/>
                  <a:pt x="17859" y="9071"/>
                  <a:pt x="17859" y="9079"/>
                </a:cubicBezTo>
                <a:cubicBezTo>
                  <a:pt x="17933" y="9079"/>
                  <a:pt x="17965" y="9041"/>
                  <a:pt x="18033" y="9029"/>
                </a:cubicBezTo>
                <a:cubicBezTo>
                  <a:pt x="18061" y="9029"/>
                  <a:pt x="18072" y="9027"/>
                  <a:pt x="18083" y="9004"/>
                </a:cubicBezTo>
              </a:path>
              <a:path w="3225" h="2085">
                <a:moveTo>
                  <a:pt x="16966" y="7590"/>
                </a:moveTo>
                <a:cubicBezTo>
                  <a:pt x="17029" y="7590"/>
                  <a:pt x="16998" y="7654"/>
                  <a:pt x="17016" y="7714"/>
                </a:cubicBezTo>
                <a:cubicBezTo>
                  <a:pt x="17016" y="7722"/>
                  <a:pt x="17016" y="7731"/>
                  <a:pt x="17016" y="7739"/>
                </a:cubicBezTo>
              </a:path>
              <a:path w="3225" h="2085">
                <a:moveTo>
                  <a:pt x="17239" y="8979"/>
                </a:moveTo>
                <a:cubicBezTo>
                  <a:pt x="17292" y="8979"/>
                  <a:pt x="17309" y="8959"/>
                  <a:pt x="17363" y="8954"/>
                </a:cubicBezTo>
                <a:cubicBezTo>
                  <a:pt x="17371" y="8954"/>
                  <a:pt x="17380" y="8954"/>
                  <a:pt x="17388" y="8954"/>
                </a:cubicBezTo>
                <a:cubicBezTo>
                  <a:pt x="17379" y="9071"/>
                  <a:pt x="17366" y="9136"/>
                  <a:pt x="17289" y="9227"/>
                </a:cubicBezTo>
                <a:cubicBezTo>
                  <a:pt x="17372" y="9227"/>
                  <a:pt x="17416" y="9194"/>
                  <a:pt x="17487" y="9153"/>
                </a:cubicBezTo>
              </a:path>
              <a:path w="3225" h="2085">
                <a:moveTo>
                  <a:pt x="16421" y="7789"/>
                </a:moveTo>
                <a:cubicBezTo>
                  <a:pt x="16426" y="7824"/>
                  <a:pt x="16439" y="7961"/>
                  <a:pt x="16470" y="7987"/>
                </a:cubicBezTo>
                <a:cubicBezTo>
                  <a:pt x="16478" y="7987"/>
                  <a:pt x="16487" y="7987"/>
                  <a:pt x="16495" y="7987"/>
                </a:cubicBezTo>
              </a:path>
              <a:path w="3225" h="2085">
                <a:moveTo>
                  <a:pt x="16842" y="9302"/>
                </a:moveTo>
                <a:cubicBezTo>
                  <a:pt x="16830" y="9265"/>
                  <a:pt x="16818" y="9280"/>
                  <a:pt x="16818" y="9227"/>
                </a:cubicBezTo>
                <a:cubicBezTo>
                  <a:pt x="16818" y="9161"/>
                  <a:pt x="16833" y="9162"/>
                  <a:pt x="16892" y="9128"/>
                </a:cubicBezTo>
                <a:cubicBezTo>
                  <a:pt x="16911" y="9242"/>
                  <a:pt x="16887" y="9313"/>
                  <a:pt x="16842" y="9426"/>
                </a:cubicBezTo>
                <a:cubicBezTo>
                  <a:pt x="16909" y="9404"/>
                  <a:pt x="16949" y="9343"/>
                  <a:pt x="17016" y="9327"/>
                </a:cubicBezTo>
              </a:path>
              <a:path w="3225" h="2085">
                <a:moveTo>
                  <a:pt x="18331" y="8979"/>
                </a:moveTo>
                <a:cubicBezTo>
                  <a:pt x="18407" y="8900"/>
                  <a:pt x="18281" y="9054"/>
                  <a:pt x="18331" y="9054"/>
                </a:cubicBezTo>
                <a:cubicBezTo>
                  <a:pt x="18398" y="9054"/>
                  <a:pt x="18408" y="8986"/>
                  <a:pt x="18405" y="8979"/>
                </a:cubicBezTo>
                <a:cubicBezTo>
                  <a:pt x="18370" y="9022"/>
                  <a:pt x="18352" y="9026"/>
                  <a:pt x="18380" y="90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72080" y="3276720"/>
            <a:ext cx="98640" cy="322200"/>
          </a:xfrm>
          <a:custGeom>
            <a:avLst/>
            <a:gdLst/>
            <a:ahLst/>
            <a:rect l="l" t="t" r="r" b="b"/>
            <a:pathLst>
              <a:path w="274" h="894">
                <a:moveTo>
                  <a:pt x="15751" y="9103"/>
                </a:moveTo>
                <a:cubicBezTo>
                  <a:pt x="15659" y="9389"/>
                  <a:pt x="15573" y="9678"/>
                  <a:pt x="15503" y="9971"/>
                </a:cubicBezTo>
                <a:cubicBezTo>
                  <a:pt x="15503" y="9999"/>
                  <a:pt x="15501" y="10005"/>
                  <a:pt x="15478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37080" y="3411360"/>
            <a:ext cx="123840" cy="223920"/>
          </a:xfrm>
          <a:custGeom>
            <a:avLst/>
            <a:gdLst/>
            <a:ahLst/>
            <a:rect l="l" t="t" r="r" b="b"/>
            <a:pathLst>
              <a:path w="348" h="622">
                <a:moveTo>
                  <a:pt x="12675" y="9525"/>
                </a:moveTo>
                <a:cubicBezTo>
                  <a:pt x="12617" y="9753"/>
                  <a:pt x="12551" y="9915"/>
                  <a:pt x="12700" y="10096"/>
                </a:cubicBezTo>
                <a:cubicBezTo>
                  <a:pt x="12889" y="9966"/>
                  <a:pt x="13075" y="9751"/>
                  <a:pt x="12849" y="9525"/>
                </a:cubicBezTo>
                <a:cubicBezTo>
                  <a:pt x="12738" y="9480"/>
                  <a:pt x="12709" y="9456"/>
                  <a:pt x="12650" y="952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37160" y="3081240"/>
            <a:ext cx="428760" cy="411120"/>
          </a:xfrm>
          <a:custGeom>
            <a:avLst/>
            <a:gdLst/>
            <a:ahLst/>
            <a:rect l="l" t="t" r="r" b="b"/>
            <a:pathLst>
              <a:path w="1192" h="1142">
                <a:moveTo>
                  <a:pt x="15379" y="9327"/>
                </a:moveTo>
                <a:cubicBezTo>
                  <a:pt x="15381" y="9376"/>
                  <a:pt x="15400" y="9820"/>
                  <a:pt x="15577" y="9699"/>
                </a:cubicBezTo>
                <a:cubicBezTo>
                  <a:pt x="15610" y="9649"/>
                  <a:pt x="15644" y="9600"/>
                  <a:pt x="15677" y="9550"/>
                </a:cubicBezTo>
              </a:path>
              <a:path w="1192" h="1142">
                <a:moveTo>
                  <a:pt x="16495" y="8558"/>
                </a:moveTo>
                <a:cubicBezTo>
                  <a:pt x="16536" y="8674"/>
                  <a:pt x="16561" y="8759"/>
                  <a:pt x="16570" y="88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13320" y="3554280"/>
            <a:ext cx="857520" cy="704880"/>
          </a:xfrm>
          <a:custGeom>
            <a:avLst/>
            <a:gdLst/>
            <a:ahLst/>
            <a:rect l="l" t="t" r="r" b="b"/>
            <a:pathLst>
              <a:path w="2382" h="1961">
                <a:moveTo>
                  <a:pt x="18083" y="10244"/>
                </a:moveTo>
                <a:cubicBezTo>
                  <a:pt x="18265" y="10217"/>
                  <a:pt x="18567" y="10328"/>
                  <a:pt x="18479" y="10592"/>
                </a:cubicBezTo>
                <a:cubicBezTo>
                  <a:pt x="18403" y="10821"/>
                  <a:pt x="18197" y="10831"/>
                  <a:pt x="18033" y="10815"/>
                </a:cubicBezTo>
                <a:cubicBezTo>
                  <a:pt x="18175" y="10575"/>
                  <a:pt x="18265" y="10496"/>
                  <a:pt x="18504" y="10691"/>
                </a:cubicBezTo>
                <a:cubicBezTo>
                  <a:pt x="18558" y="10744"/>
                  <a:pt x="18580" y="10757"/>
                  <a:pt x="18628" y="10691"/>
                </a:cubicBezTo>
              </a:path>
              <a:path w="2382" h="1961">
                <a:moveTo>
                  <a:pt x="18728" y="10170"/>
                </a:moveTo>
                <a:cubicBezTo>
                  <a:pt x="18888" y="10204"/>
                  <a:pt x="19035" y="10220"/>
                  <a:pt x="19199" y="10220"/>
                </a:cubicBezTo>
                <a:cubicBezTo>
                  <a:pt x="19165" y="10379"/>
                  <a:pt x="19130" y="10539"/>
                  <a:pt x="19075" y="10691"/>
                </a:cubicBezTo>
              </a:path>
              <a:path w="2382" h="1961">
                <a:moveTo>
                  <a:pt x="19447" y="10145"/>
                </a:moveTo>
                <a:cubicBezTo>
                  <a:pt x="19447" y="10252"/>
                  <a:pt x="19403" y="10451"/>
                  <a:pt x="19546" y="10492"/>
                </a:cubicBezTo>
                <a:cubicBezTo>
                  <a:pt x="19732" y="10545"/>
                  <a:pt x="19809" y="10403"/>
                  <a:pt x="19918" y="10294"/>
                </a:cubicBezTo>
              </a:path>
              <a:path w="2382" h="1961">
                <a:moveTo>
                  <a:pt x="19893" y="9872"/>
                </a:moveTo>
                <a:cubicBezTo>
                  <a:pt x="19876" y="10159"/>
                  <a:pt x="19821" y="10438"/>
                  <a:pt x="19745" y="10716"/>
                </a:cubicBezTo>
                <a:cubicBezTo>
                  <a:pt x="19708" y="10826"/>
                  <a:pt x="19720" y="10847"/>
                  <a:pt x="19670" y="10889"/>
                </a:cubicBezTo>
              </a:path>
              <a:path w="2382" h="1961">
                <a:moveTo>
                  <a:pt x="17537" y="11063"/>
                </a:moveTo>
                <a:cubicBezTo>
                  <a:pt x="17670" y="11222"/>
                  <a:pt x="17725" y="11425"/>
                  <a:pt x="17785" y="11633"/>
                </a:cubicBezTo>
                <a:cubicBezTo>
                  <a:pt x="17785" y="11753"/>
                  <a:pt x="17825" y="11500"/>
                  <a:pt x="17859" y="11385"/>
                </a:cubicBezTo>
              </a:path>
              <a:path w="2382" h="1961">
                <a:moveTo>
                  <a:pt x="17909" y="11063"/>
                </a:moveTo>
                <a:cubicBezTo>
                  <a:pt x="17797" y="11260"/>
                  <a:pt x="17410" y="11801"/>
                  <a:pt x="17562" y="11633"/>
                </a:cubicBezTo>
                <a:cubicBezTo>
                  <a:pt x="17587" y="11608"/>
                  <a:pt x="17611" y="11584"/>
                  <a:pt x="17636" y="11559"/>
                </a:cubicBezTo>
              </a:path>
              <a:path w="2382" h="1961">
                <a:moveTo>
                  <a:pt x="19720" y="11286"/>
                </a:moveTo>
                <a:cubicBezTo>
                  <a:pt x="19587" y="11154"/>
                  <a:pt x="19503" y="11257"/>
                  <a:pt x="19372" y="11361"/>
                </a:cubicBezTo>
                <a:cubicBezTo>
                  <a:pt x="19437" y="11456"/>
                  <a:pt x="19638" y="11528"/>
                  <a:pt x="19670" y="11658"/>
                </a:cubicBezTo>
                <a:cubicBezTo>
                  <a:pt x="19706" y="11802"/>
                  <a:pt x="19575" y="11815"/>
                  <a:pt x="19496" y="11832"/>
                </a:cubicBezTo>
                <a:cubicBezTo>
                  <a:pt x="19482" y="11603"/>
                  <a:pt x="19616" y="11460"/>
                  <a:pt x="19769" y="11286"/>
                </a:cubicBezTo>
                <a:cubicBezTo>
                  <a:pt x="19872" y="11169"/>
                  <a:pt x="19843" y="11205"/>
                  <a:pt x="19720" y="112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87880" y="3419640"/>
            <a:ext cx="285840" cy="241200"/>
          </a:xfrm>
          <a:custGeom>
            <a:avLst/>
            <a:gdLst/>
            <a:ahLst/>
            <a:rect l="l" t="t" r="r" b="b"/>
            <a:pathLst>
              <a:path w="795" h="671">
                <a:moveTo>
                  <a:pt x="11683" y="9996"/>
                </a:moveTo>
                <a:cubicBezTo>
                  <a:pt x="11674" y="10051"/>
                  <a:pt x="11675" y="10106"/>
                  <a:pt x="11633" y="10120"/>
                </a:cubicBezTo>
              </a:path>
              <a:path w="795" h="671">
                <a:moveTo>
                  <a:pt x="12303" y="9500"/>
                </a:moveTo>
                <a:cubicBezTo>
                  <a:pt x="12191" y="9523"/>
                  <a:pt x="12098" y="9608"/>
                  <a:pt x="12005" y="9674"/>
                </a:cubicBezTo>
                <a:cubicBezTo>
                  <a:pt x="12066" y="9754"/>
                  <a:pt x="12416" y="9802"/>
                  <a:pt x="12402" y="9971"/>
                </a:cubicBezTo>
                <a:cubicBezTo>
                  <a:pt x="12311" y="10107"/>
                  <a:pt x="12292" y="10151"/>
                  <a:pt x="12179" y="10170"/>
                </a:cubicBezTo>
                <a:cubicBezTo>
                  <a:pt x="12179" y="9957"/>
                  <a:pt x="12260" y="9752"/>
                  <a:pt x="12402" y="9575"/>
                </a:cubicBezTo>
                <a:cubicBezTo>
                  <a:pt x="12427" y="9575"/>
                  <a:pt x="12435" y="9575"/>
                  <a:pt x="12427" y="95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70280" y="3394080"/>
            <a:ext cx="152640" cy="241200"/>
          </a:xfrm>
          <a:custGeom>
            <a:avLst/>
            <a:gdLst/>
            <a:ahLst/>
            <a:rect l="l" t="t" r="r" b="b"/>
            <a:pathLst>
              <a:path w="423" h="671">
                <a:moveTo>
                  <a:pt x="12973" y="9575"/>
                </a:moveTo>
                <a:cubicBezTo>
                  <a:pt x="13167" y="9704"/>
                  <a:pt x="13262" y="9825"/>
                  <a:pt x="13345" y="10046"/>
                </a:cubicBezTo>
                <a:cubicBezTo>
                  <a:pt x="13345" y="10071"/>
                  <a:pt x="13345" y="10079"/>
                  <a:pt x="13370" y="10071"/>
                </a:cubicBezTo>
              </a:path>
              <a:path w="423" h="671">
                <a:moveTo>
                  <a:pt x="13395" y="9426"/>
                </a:moveTo>
                <a:cubicBezTo>
                  <a:pt x="13304" y="9649"/>
                  <a:pt x="12939" y="10254"/>
                  <a:pt x="13122" y="10096"/>
                </a:cubicBezTo>
                <a:cubicBezTo>
                  <a:pt x="13155" y="10054"/>
                  <a:pt x="13188" y="10013"/>
                  <a:pt x="13221" y="99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81760" y="3330720"/>
            <a:ext cx="392040" cy="241200"/>
          </a:xfrm>
          <a:custGeom>
            <a:avLst/>
            <a:gdLst/>
            <a:ahLst/>
            <a:rect l="l" t="t" r="r" b="b"/>
            <a:pathLst>
              <a:path w="1092" h="671">
                <a:moveTo>
                  <a:pt x="14213" y="9327"/>
                </a:moveTo>
                <a:cubicBezTo>
                  <a:pt x="14372" y="9327"/>
                  <a:pt x="14430" y="9333"/>
                  <a:pt x="14511" y="9426"/>
                </a:cubicBezTo>
                <a:cubicBezTo>
                  <a:pt x="14533" y="9758"/>
                  <a:pt x="14475" y="9855"/>
                  <a:pt x="14139" y="9922"/>
                </a:cubicBezTo>
                <a:cubicBezTo>
                  <a:pt x="14160" y="9746"/>
                  <a:pt x="14335" y="9540"/>
                  <a:pt x="14536" y="9748"/>
                </a:cubicBezTo>
                <a:cubicBezTo>
                  <a:pt x="14544" y="9781"/>
                  <a:pt x="14552" y="9814"/>
                  <a:pt x="14560" y="9847"/>
                </a:cubicBezTo>
              </a:path>
              <a:path w="1092" h="671">
                <a:moveTo>
                  <a:pt x="14734" y="9252"/>
                </a:moveTo>
                <a:cubicBezTo>
                  <a:pt x="14894" y="9298"/>
                  <a:pt x="15048" y="9287"/>
                  <a:pt x="15205" y="9327"/>
                </a:cubicBezTo>
                <a:cubicBezTo>
                  <a:pt x="15166" y="9527"/>
                  <a:pt x="14980" y="10075"/>
                  <a:pt x="14982" y="9872"/>
                </a:cubicBezTo>
                <a:cubicBezTo>
                  <a:pt x="14999" y="9847"/>
                  <a:pt x="15015" y="9823"/>
                  <a:pt x="15032" y="97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13320" y="4473720"/>
            <a:ext cx="303480" cy="258480"/>
          </a:xfrm>
          <a:custGeom>
            <a:avLst/>
            <a:gdLst/>
            <a:ahLst/>
            <a:rect l="l" t="t" r="r" b="b"/>
            <a:pathLst>
              <a:path w="844" h="720">
                <a:moveTo>
                  <a:pt x="17661" y="12576"/>
                </a:moveTo>
                <a:cubicBezTo>
                  <a:pt x="17661" y="12617"/>
                  <a:pt x="17661" y="12659"/>
                  <a:pt x="17661" y="12700"/>
                </a:cubicBezTo>
                <a:cubicBezTo>
                  <a:pt x="17681" y="12620"/>
                  <a:pt x="17784" y="12518"/>
                  <a:pt x="17884" y="12576"/>
                </a:cubicBezTo>
                <a:cubicBezTo>
                  <a:pt x="18160" y="12736"/>
                  <a:pt x="17868" y="13042"/>
                  <a:pt x="17686" y="13097"/>
                </a:cubicBezTo>
                <a:cubicBezTo>
                  <a:pt x="17577" y="13097"/>
                  <a:pt x="17540" y="13111"/>
                  <a:pt x="17537" y="13022"/>
                </a:cubicBezTo>
                <a:cubicBezTo>
                  <a:pt x="17676" y="12846"/>
                  <a:pt x="17781" y="12843"/>
                  <a:pt x="17983" y="12973"/>
                </a:cubicBezTo>
                <a:cubicBezTo>
                  <a:pt x="18059" y="13022"/>
                  <a:pt x="18006" y="13057"/>
                  <a:pt x="18058" y="13022"/>
                </a:cubicBezTo>
              </a:path>
              <a:path w="844" h="720">
                <a:moveTo>
                  <a:pt x="18380" y="12427"/>
                </a:moveTo>
                <a:cubicBezTo>
                  <a:pt x="18380" y="12601"/>
                  <a:pt x="18358" y="12773"/>
                  <a:pt x="18355" y="12948"/>
                </a:cubicBezTo>
                <a:cubicBezTo>
                  <a:pt x="18354" y="13022"/>
                  <a:pt x="18355" y="13196"/>
                  <a:pt x="18355" y="131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4599000"/>
            <a:ext cx="27000" cy="36360"/>
          </a:xfrm>
          <a:custGeom>
            <a:avLst/>
            <a:gdLst/>
            <a:ahLst/>
            <a:rect l="l" t="t" r="r" b="b"/>
            <a:pathLst>
              <a:path w="75" h="101">
                <a:moveTo>
                  <a:pt x="19546" y="12774"/>
                </a:moveTo>
                <a:cubicBezTo>
                  <a:pt x="19507" y="12797"/>
                  <a:pt x="19488" y="12825"/>
                  <a:pt x="19472" y="12874"/>
                </a:cubicBezTo>
                <a:cubicBezTo>
                  <a:pt x="19539" y="12817"/>
                  <a:pt x="19496" y="12807"/>
                  <a:pt x="19546" y="128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75680" y="3963960"/>
            <a:ext cx="241200" cy="314280"/>
          </a:xfrm>
          <a:custGeom>
            <a:avLst/>
            <a:gdLst/>
            <a:ahLst/>
            <a:rect l="l" t="t" r="r" b="b"/>
            <a:pathLst>
              <a:path w="670" h="869">
                <a:moveTo>
                  <a:pt x="20762" y="11261"/>
                </a:moveTo>
                <a:cubicBezTo>
                  <a:pt x="20780" y="11393"/>
                  <a:pt x="20808" y="11527"/>
                  <a:pt x="20836" y="11658"/>
                </a:cubicBezTo>
              </a:path>
              <a:path w="670" h="869">
                <a:moveTo>
                  <a:pt x="20489" y="11733"/>
                </a:moveTo>
                <a:cubicBezTo>
                  <a:pt x="20713" y="11912"/>
                  <a:pt x="20969" y="11957"/>
                  <a:pt x="21109" y="11609"/>
                </a:cubicBezTo>
                <a:cubicBezTo>
                  <a:pt x="21249" y="11259"/>
                  <a:pt x="21117" y="11177"/>
                  <a:pt x="20886" y="11013"/>
                </a:cubicBezTo>
                <a:cubicBezTo>
                  <a:pt x="20531" y="11301"/>
                  <a:pt x="20416" y="11507"/>
                  <a:pt x="20786" y="118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67320" y="3375000"/>
            <a:ext cx="473040" cy="250920"/>
          </a:xfrm>
          <a:custGeom>
            <a:avLst/>
            <a:gdLst/>
            <a:ahLst/>
            <a:rect l="l" t="t" r="r" b="b"/>
            <a:pathLst>
              <a:path w="1315" h="696">
                <a:moveTo>
                  <a:pt x="18653" y="9500"/>
                </a:moveTo>
                <a:cubicBezTo>
                  <a:pt x="18669" y="9479"/>
                  <a:pt x="18865" y="9286"/>
                  <a:pt x="18876" y="9401"/>
                </a:cubicBezTo>
                <a:cubicBezTo>
                  <a:pt x="18853" y="9496"/>
                  <a:pt x="18847" y="9526"/>
                  <a:pt x="18802" y="9575"/>
                </a:cubicBezTo>
                <a:cubicBezTo>
                  <a:pt x="18802" y="9583"/>
                  <a:pt x="18802" y="9591"/>
                  <a:pt x="18802" y="9599"/>
                </a:cubicBezTo>
                <a:cubicBezTo>
                  <a:pt x="18907" y="9600"/>
                  <a:pt x="19102" y="9673"/>
                  <a:pt x="18951" y="9823"/>
                </a:cubicBezTo>
                <a:cubicBezTo>
                  <a:pt x="18869" y="9849"/>
                  <a:pt x="18836" y="9859"/>
                  <a:pt x="18777" y="9872"/>
                </a:cubicBezTo>
              </a:path>
              <a:path w="1315" h="696">
                <a:moveTo>
                  <a:pt x="17934" y="9475"/>
                </a:moveTo>
                <a:cubicBezTo>
                  <a:pt x="17881" y="9497"/>
                  <a:pt x="17744" y="9538"/>
                  <a:pt x="17735" y="9575"/>
                </a:cubicBezTo>
                <a:cubicBezTo>
                  <a:pt x="17713" y="9666"/>
                  <a:pt x="17711" y="9732"/>
                  <a:pt x="17711" y="9823"/>
                </a:cubicBezTo>
                <a:cubicBezTo>
                  <a:pt x="17801" y="9777"/>
                  <a:pt x="17962" y="9657"/>
                  <a:pt x="17983" y="9847"/>
                </a:cubicBezTo>
                <a:cubicBezTo>
                  <a:pt x="18006" y="10054"/>
                  <a:pt x="17826" y="10066"/>
                  <a:pt x="17686" y="100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46880" y="4295880"/>
            <a:ext cx="866880" cy="401400"/>
          </a:xfrm>
          <a:custGeom>
            <a:avLst/>
            <a:gdLst/>
            <a:ahLst/>
            <a:rect l="l" t="t" r="r" b="b"/>
            <a:pathLst>
              <a:path w="2407" h="1117">
                <a:moveTo>
                  <a:pt x="17909" y="12229"/>
                </a:moveTo>
                <a:cubicBezTo>
                  <a:pt x="18522" y="12156"/>
                  <a:pt x="19133" y="12063"/>
                  <a:pt x="19745" y="11981"/>
                </a:cubicBezTo>
                <a:cubicBezTo>
                  <a:pt x="20058" y="11939"/>
                  <a:pt x="20123" y="11922"/>
                  <a:pt x="20315" y="11931"/>
                </a:cubicBezTo>
              </a:path>
              <a:path w="2407" h="1117">
                <a:moveTo>
                  <a:pt x="19794" y="12303"/>
                </a:moveTo>
                <a:cubicBezTo>
                  <a:pt x="19962" y="12303"/>
                  <a:pt x="20200" y="12359"/>
                  <a:pt x="20067" y="12601"/>
                </a:cubicBezTo>
                <a:cubicBezTo>
                  <a:pt x="19973" y="12772"/>
                  <a:pt x="19796" y="12757"/>
                  <a:pt x="19645" y="12750"/>
                </a:cubicBezTo>
                <a:cubicBezTo>
                  <a:pt x="19795" y="12600"/>
                  <a:pt x="19898" y="12568"/>
                  <a:pt x="20117" y="12650"/>
                </a:cubicBezTo>
                <a:cubicBezTo>
                  <a:pt x="20139" y="12673"/>
                  <a:pt x="20144" y="12681"/>
                  <a:pt x="20166" y="12675"/>
                </a:cubicBezTo>
              </a:path>
              <a:path w="2407" h="1117">
                <a:moveTo>
                  <a:pt x="19025" y="12303"/>
                </a:moveTo>
                <a:cubicBezTo>
                  <a:pt x="19038" y="12324"/>
                  <a:pt x="19076" y="12423"/>
                  <a:pt x="19050" y="12378"/>
                </a:cubicBezTo>
                <a:cubicBezTo>
                  <a:pt x="19006" y="12313"/>
                  <a:pt x="19000" y="12293"/>
                  <a:pt x="18951" y="12278"/>
                </a:cubicBezTo>
                <a:cubicBezTo>
                  <a:pt x="18829" y="12441"/>
                  <a:pt x="18759" y="12540"/>
                  <a:pt x="18852" y="12725"/>
                </a:cubicBezTo>
                <a:cubicBezTo>
                  <a:pt x="19063" y="12632"/>
                  <a:pt x="19048" y="12563"/>
                  <a:pt x="19100" y="12353"/>
                </a:cubicBezTo>
                <a:cubicBezTo>
                  <a:pt x="19100" y="12369"/>
                  <a:pt x="19100" y="12386"/>
                  <a:pt x="19100" y="12402"/>
                </a:cubicBezTo>
                <a:cubicBezTo>
                  <a:pt x="19100" y="12627"/>
                  <a:pt x="19092" y="12828"/>
                  <a:pt x="19050" y="130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98760" y="4375080"/>
            <a:ext cx="187200" cy="233280"/>
          </a:xfrm>
          <a:custGeom>
            <a:avLst/>
            <a:gdLst/>
            <a:ahLst/>
            <a:rect l="l" t="t" r="r" b="b"/>
            <a:pathLst>
              <a:path w="522" h="646">
                <a:moveTo>
                  <a:pt x="4887" y="12154"/>
                </a:moveTo>
                <a:cubicBezTo>
                  <a:pt x="4759" y="12197"/>
                  <a:pt x="4705" y="12198"/>
                  <a:pt x="4564" y="12179"/>
                </a:cubicBezTo>
                <a:cubicBezTo>
                  <a:pt x="4524" y="12173"/>
                  <a:pt x="4515" y="12344"/>
                  <a:pt x="4514" y="12353"/>
                </a:cubicBezTo>
                <a:cubicBezTo>
                  <a:pt x="4514" y="12427"/>
                  <a:pt x="4539" y="12460"/>
                  <a:pt x="4490" y="12452"/>
                </a:cubicBezTo>
                <a:cubicBezTo>
                  <a:pt x="4602" y="12498"/>
                  <a:pt x="4739" y="12371"/>
                  <a:pt x="4887" y="12477"/>
                </a:cubicBezTo>
                <a:cubicBezTo>
                  <a:pt x="5160" y="12672"/>
                  <a:pt x="4720" y="12834"/>
                  <a:pt x="4564" y="12799"/>
                </a:cubicBezTo>
                <a:cubicBezTo>
                  <a:pt x="4440" y="12725"/>
                  <a:pt x="4399" y="12700"/>
                  <a:pt x="4514" y="126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62080" y="4402080"/>
            <a:ext cx="169920" cy="196920"/>
          </a:xfrm>
          <a:custGeom>
            <a:avLst/>
            <a:gdLst/>
            <a:ahLst/>
            <a:rect l="l" t="t" r="r" b="b"/>
            <a:pathLst>
              <a:path w="472" h="546">
                <a:moveTo>
                  <a:pt x="5755" y="12254"/>
                </a:moveTo>
                <a:cubicBezTo>
                  <a:pt x="5680" y="12254"/>
                  <a:pt x="5854" y="12219"/>
                  <a:pt x="5928" y="12229"/>
                </a:cubicBezTo>
                <a:cubicBezTo>
                  <a:pt x="6243" y="12273"/>
                  <a:pt x="6005" y="12432"/>
                  <a:pt x="5879" y="12502"/>
                </a:cubicBezTo>
                <a:cubicBezTo>
                  <a:pt x="5898" y="12462"/>
                  <a:pt x="6157" y="12399"/>
                  <a:pt x="6201" y="12576"/>
                </a:cubicBezTo>
                <a:cubicBezTo>
                  <a:pt x="6262" y="12824"/>
                  <a:pt x="5889" y="12751"/>
                  <a:pt x="5804" y="127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1200" y="4795920"/>
            <a:ext cx="98640" cy="214200"/>
          </a:xfrm>
          <a:custGeom>
            <a:avLst/>
            <a:gdLst/>
            <a:ahLst/>
            <a:rect l="l" t="t" r="r" b="b"/>
            <a:pathLst>
              <a:path w="274" h="596">
                <a:moveTo>
                  <a:pt x="4192" y="13320"/>
                </a:moveTo>
                <a:cubicBezTo>
                  <a:pt x="4124" y="13477"/>
                  <a:pt x="3944" y="13805"/>
                  <a:pt x="3944" y="139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62080" y="4786200"/>
            <a:ext cx="125640" cy="24156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5730" y="13370"/>
                </a:moveTo>
                <a:cubicBezTo>
                  <a:pt x="5915" y="13208"/>
                  <a:pt x="6087" y="13411"/>
                  <a:pt x="6077" y="13643"/>
                </a:cubicBezTo>
                <a:cubicBezTo>
                  <a:pt x="6066" y="13882"/>
                  <a:pt x="5889" y="13900"/>
                  <a:pt x="5730" y="13915"/>
                </a:cubicBezTo>
                <a:cubicBezTo>
                  <a:pt x="5763" y="13750"/>
                  <a:pt x="5878" y="13640"/>
                  <a:pt x="6028" y="13841"/>
                </a:cubicBezTo>
                <a:cubicBezTo>
                  <a:pt x="6046" y="13915"/>
                  <a:pt x="6054" y="13922"/>
                  <a:pt x="6052" y="139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20840" y="5116680"/>
            <a:ext cx="1019160" cy="27000"/>
          </a:xfrm>
          <a:custGeom>
            <a:avLst/>
            <a:gdLst/>
            <a:ahLst/>
            <a:rect l="l" t="t" r="r" b="b"/>
            <a:pathLst>
              <a:path w="2829" h="76">
                <a:moveTo>
                  <a:pt x="3671" y="14288"/>
                </a:moveTo>
                <a:cubicBezTo>
                  <a:pt x="4237" y="14174"/>
                  <a:pt x="4829" y="14200"/>
                  <a:pt x="5407" y="14213"/>
                </a:cubicBezTo>
                <a:cubicBezTo>
                  <a:pt x="5772" y="14222"/>
                  <a:pt x="6135" y="14252"/>
                  <a:pt x="6499" y="142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5800" y="5241960"/>
            <a:ext cx="16956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6052" y="14560"/>
                </a:moveTo>
                <a:cubicBezTo>
                  <a:pt x="6021" y="14690"/>
                  <a:pt x="5958" y="14842"/>
                  <a:pt x="5928" y="14982"/>
                </a:cubicBezTo>
                <a:cubicBezTo>
                  <a:pt x="5908" y="15104"/>
                  <a:pt x="5881" y="15135"/>
                  <a:pt x="5953" y="15180"/>
                </a:cubicBezTo>
                <a:cubicBezTo>
                  <a:pt x="6170" y="15142"/>
                  <a:pt x="6331" y="15116"/>
                  <a:pt x="6350" y="14883"/>
                </a:cubicBezTo>
                <a:cubicBezTo>
                  <a:pt x="6201" y="14943"/>
                  <a:pt x="6155" y="15230"/>
                  <a:pt x="6003" y="15180"/>
                </a:cubicBezTo>
                <a:cubicBezTo>
                  <a:pt x="6003" y="15164"/>
                  <a:pt x="6003" y="15147"/>
                  <a:pt x="6003" y="151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39960" y="5259240"/>
            <a:ext cx="169920" cy="206640"/>
          </a:xfrm>
          <a:custGeom>
            <a:avLst/>
            <a:gdLst/>
            <a:ahLst/>
            <a:rect l="l" t="t" r="r" b="b"/>
            <a:pathLst>
              <a:path w="472" h="571">
                <a:moveTo>
                  <a:pt x="5259" y="14684"/>
                </a:moveTo>
                <a:cubicBezTo>
                  <a:pt x="5394" y="14606"/>
                  <a:pt x="5576" y="14567"/>
                  <a:pt x="5581" y="14808"/>
                </a:cubicBezTo>
                <a:cubicBezTo>
                  <a:pt x="5586" y="15074"/>
                  <a:pt x="5294" y="15116"/>
                  <a:pt x="5110" y="15106"/>
                </a:cubicBezTo>
                <a:cubicBezTo>
                  <a:pt x="5137" y="14945"/>
                  <a:pt x="5194" y="14806"/>
                  <a:pt x="5333" y="15007"/>
                </a:cubicBezTo>
                <a:cubicBezTo>
                  <a:pt x="5386" y="15083"/>
                  <a:pt x="5383" y="15104"/>
                  <a:pt x="5383" y="151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6120" y="5249880"/>
            <a:ext cx="36720" cy="189000"/>
          </a:xfrm>
          <a:custGeom>
            <a:avLst/>
            <a:gdLst/>
            <a:ahLst/>
            <a:rect l="l" t="t" r="r" b="b"/>
            <a:pathLst>
              <a:path w="101" h="522">
                <a:moveTo>
                  <a:pt x="4118" y="14610"/>
                </a:moveTo>
                <a:cubicBezTo>
                  <a:pt x="4118" y="14510"/>
                  <a:pt x="4113" y="14760"/>
                  <a:pt x="4093" y="14858"/>
                </a:cubicBezTo>
                <a:cubicBezTo>
                  <a:pt x="4077" y="14937"/>
                  <a:pt x="4015" y="15064"/>
                  <a:pt x="4043" y="151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62040" y="5232240"/>
            <a:ext cx="13500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4514" y="14536"/>
                </a:moveTo>
                <a:cubicBezTo>
                  <a:pt x="4405" y="14754"/>
                  <a:pt x="4342" y="14888"/>
                  <a:pt x="4366" y="15131"/>
                </a:cubicBezTo>
                <a:cubicBezTo>
                  <a:pt x="4590" y="15120"/>
                  <a:pt x="4811" y="14979"/>
                  <a:pt x="4713" y="14684"/>
                </a:cubicBezTo>
                <a:cubicBezTo>
                  <a:pt x="4663" y="14532"/>
                  <a:pt x="4540" y="14587"/>
                  <a:pt x="4440" y="146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00160" y="5438880"/>
            <a:ext cx="63720" cy="61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5556" y="15230"/>
                </a:moveTo>
                <a:cubicBezTo>
                  <a:pt x="5556" y="15129"/>
                  <a:pt x="5541" y="15235"/>
                  <a:pt x="5556" y="15255"/>
                </a:cubicBezTo>
                <a:cubicBezTo>
                  <a:pt x="5614" y="15336"/>
                  <a:pt x="5683" y="15135"/>
                  <a:pt x="5680" y="15106"/>
                </a:cubicBezTo>
                <a:cubicBezTo>
                  <a:pt x="5672" y="15106"/>
                  <a:pt x="5663" y="15106"/>
                  <a:pt x="5655" y="15106"/>
                </a:cubicBezTo>
                <a:cubicBezTo>
                  <a:pt x="5603" y="15184"/>
                  <a:pt x="5586" y="15213"/>
                  <a:pt x="5581" y="15280"/>
                </a:cubicBezTo>
                <a:cubicBezTo>
                  <a:pt x="5631" y="15272"/>
                  <a:pt x="5837" y="15141"/>
                  <a:pt x="5705" y="15106"/>
                </a:cubicBezTo>
                <a:cubicBezTo>
                  <a:pt x="5675" y="15098"/>
                  <a:pt x="5618" y="15137"/>
                  <a:pt x="5655" y="151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62120" y="4929120"/>
            <a:ext cx="27000" cy="98640"/>
          </a:xfrm>
          <a:custGeom>
            <a:avLst/>
            <a:gdLst/>
            <a:ahLst/>
            <a:rect l="l" t="t" r="r" b="b"/>
            <a:pathLst>
              <a:path w="75" h="274">
                <a:moveTo>
                  <a:pt x="7119" y="13692"/>
                </a:moveTo>
                <a:cubicBezTo>
                  <a:pt x="7138" y="13760"/>
                  <a:pt x="7207" y="13893"/>
                  <a:pt x="7193" y="13965"/>
                </a:cubicBezTo>
                <a:cubicBezTo>
                  <a:pt x="7185" y="13965"/>
                  <a:pt x="7177" y="13965"/>
                  <a:pt x="7169" y="139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82920" y="4830840"/>
            <a:ext cx="249120" cy="250920"/>
          </a:xfrm>
          <a:custGeom>
            <a:avLst/>
            <a:gdLst/>
            <a:ahLst/>
            <a:rect l="l" t="t" r="r" b="b"/>
            <a:pathLst>
              <a:path w="695" h="696">
                <a:moveTo>
                  <a:pt x="6970" y="14015"/>
                </a:moveTo>
                <a:cubicBezTo>
                  <a:pt x="7151" y="14129"/>
                  <a:pt x="7443" y="14198"/>
                  <a:pt x="7565" y="13915"/>
                </a:cubicBezTo>
                <a:cubicBezTo>
                  <a:pt x="7691" y="13622"/>
                  <a:pt x="7503" y="13550"/>
                  <a:pt x="7317" y="13419"/>
                </a:cubicBezTo>
                <a:cubicBezTo>
                  <a:pt x="6897" y="13601"/>
                  <a:pt x="6767" y="13746"/>
                  <a:pt x="7144" y="140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Times New Roman"/>
              </a:rPr>
              <a:t>Objective:  Students will be able to find the percent of a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Extension: What’s the Sa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s: Shoppers often look for discounts, since the percentage is subtracted from the regular pr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ideo game that normally costs $50 is 20% off this week.  What is the sale pri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af67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90720" y="4800600"/>
          <a:ext cx="7315200" cy="1017720"/>
        </p:xfrm>
        <a:graphic>
          <a:graphicData uri="http://schemas.openxmlformats.org/drawingml/2006/table">
            <a:tbl>
              <a:tblPr/>
              <a:tblGrid>
                <a:gridCol w="216000"/>
                <a:gridCol w="709920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% of 50 = 0.2 x 50 =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ff"/>
                </a:solidFill>
                <a:latin typeface="Times New Roman"/>
              </a:rPr>
              <a:t>Objective:  Students will be able to find the percent of a nu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Application: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parents are planning to purchase a new trampoline which costs $286.  This week, it is on sale for 25% off.  How much will you save by buying the trampoline on sa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f67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Extensio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1"/>
              </a:rPr>
              <a:t>Brainpop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 on Perc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Funbrain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 Percent Challe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Brainpop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 on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af67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af67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2:35:58Z</dcterms:created>
  <dc:creator>Brian McGrath</dc:creator>
  <dc:description/>
  <dc:language>en-US</dc:language>
  <cp:lastModifiedBy>deanne elizabeth mcgrath</cp:lastModifiedBy>
  <dcterms:modified xsi:type="dcterms:W3CDTF">2011-11-17T20:15:46Z</dcterms:modified>
  <cp:revision>3</cp:revision>
  <dc:subject/>
  <dc:title>PowerPoint Presentation</dc:title>
</cp:coreProperties>
</file>